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63A5-293B-4B0B-AEC3-E3D529A4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21E1-9A6B-4960-8E62-A80BAE06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216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EAB-3E19-48C3-8A62-079E2F0F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512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512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365-1713-457C-A2EA-F18B8EEA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5591-985D-4290-B948-CBC2A38C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9854-042C-42DB-BCCD-DB7D094E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09A-D027-48B1-95F3-400EDF16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300-5BAD-42CF-8805-5FBC5D00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315-D5D8-427D-840D-61A30696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EE36-1327-499E-A57B-A387B986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216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61C3-001F-4867-8BBF-E03C0890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3FE6-BAD5-422A-BE08-63B2B8B7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4E522AD-1DA2-42FF-B5C6-37E5F39D7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695480" y="396000"/>
            <a:ext cx="3769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3720" y="609480"/>
            <a:ext cx="776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93720" y="6477120"/>
            <a:ext cx="784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G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– T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n 10 –15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 Aviv, Isra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ir’s 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ir’s ruling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     All comments need to be addressed and revisions to the draft text must be completed before starting a re-circulation ballot.  This includes changes to the PICs and state mach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ing Forw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2057400"/>
            <a:ext cx="7162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inue work this week on comments and revised draft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work for 2 weeks after the January interim session and      make the revised comment resolution document and revised draft document available on the 802.11 website by Jan 31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teleconference call for Feb 7, 2000 to informally discuss, the changes to the draft, and report a revised version of the draft by Feb 8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an approval teleconference meeting on Feb 15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re-circulation on Feb 16, 2000 and close on March 2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available on March 6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8080" y="1589040"/>
            <a:ext cx="132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ropos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on: Action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on: To adopt the suggested outline for completing  the revise text of docu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EEE Std 802.11d/D1.3 and submitting it to re-circulation bal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ed by Dennis Kuwahara, Tal Kaitz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/0/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tion pass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G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952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– T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ursday 13:00 – 15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n 13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 Aviv, Isra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gress  Jan 13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d ALL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recommended text for the draft addressing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4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t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6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were verified by Ad-Hoc 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ing work to be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text f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maining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the PICs and 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opted proposed plan to complete draft for next re-circ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ursday 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nteers for state machine editor “traine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 the changes to following documents as per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: 0002-r4-8W-Letter-Ballot-Comments-802.11d-D1-r4.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ft tex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: 802.11d-Draft1.5.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motion on  action plan to Friday’s  Plen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the resolutions of the comments of letter ballot 20 for 802.11d and the editing of the draft to reflect those resolu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wpoll 8/0/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r Vic, Den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/0/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G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952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– Ple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d Summary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n 13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 Aviv, Isra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Gd Summary Re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ed ALL 60 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d recommended text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4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6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 remaining comments to provide text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to continue work after this session and complete a draft for re-circulation before the March 802 plenary mee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s to d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: 0002-r4-8W-Letter-Ballot-Comments-802.11d-D1-r4.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: 802.11d-Draft1.5.d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Gd Summary Re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057400"/>
            <a:ext cx="7162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inue work this week on comments and revised draft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work for 2 weeks after the January interim session and      make the revised comment resolution document and revised draft document available on the 802.11 website by Jan 31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teleconference call for Feb 7, 2000 to informally discuss, the changes to the draft, and report a revised version of the draft by Feb 8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an approval teleconference meeting on Feb 15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re-circulation on Feb 16, 2000 and close on March 2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available on March 6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8080" y="1589040"/>
            <a:ext cx="132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ropos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to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Letter Ballot 20, Comments received on 802.11d/D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IEEE 802.11-02/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conference call with Bob O’Hara, Chris Zegel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se document:802.11d-Draft 1.0.doc and create new document for re-cir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802.11d-Draft 2.0.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 to WG re-circulation Letter Ballot 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in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  13:00 – 15: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  13:00 – 15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 10:30 – 12: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 13:00 – 15: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on: Action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on: To adopt the suggested outline for completing  the revise text of docu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EEE Std 802.11d/D1.3 and submitting it to re-circulation bal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ed by Dennis Kuwahara, Tal Kaitz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/0/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tion pass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the resolutions of the comments of letter ballot 20 for 802.11d and the editing of the draft to reflect those resolu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wpoll 8/0/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r Vic, Den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/0/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on (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 (1): To approve agenda as pres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tter Ballot 20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llot opened on: 11/27/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llot closed on: 1/7/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ting members NOT responding: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ion in Novembe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 submit the contents of document IEEE 802.11d/D1.0 to Sponsor Bal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 of people in Ballot Group of 802.11  : 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 of votes received                    : 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ratio = 82 %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required &gt;= 50 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roved without comments : 5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us 4 aspirant memb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roved with comments      :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approved with comments   : 10 plus one ex-me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ing Docu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: IEEE802.11-02/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ter Ballot 20, Comments received on 802.11d/D1.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d-Draft1.0.d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G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952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– T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esday 13:00 – 15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n 11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 Aviv, Isra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gress Monday Jan 10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about 65%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ed 2 conference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O’H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 Zeg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ed comment document to Bob O’Hara for appr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: IEEE 802.11-00/002-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: IEEE 802.11-00/002-r2 (from Bob O’Ha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d proposed recommendations for  ALL 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nda Modif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esday Jan 11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through remaining comments as addressed             by Bob O’H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dnesday Jan 12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on editing the draft text with smalle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 10:30AM – 12N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draft text with Bob O’H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Jan 13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draft changes the WG and move to Ple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 13:00 – 1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G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952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– T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dnesday 10:30 – 12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n 12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 Aviv, Isra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Al Petrick</cp:lastModifiedBy>
  <cp:lastPrinted>1999-12-10T16:12:26Z</cp:lastPrinted>
  <dcterms:modified xsi:type="dcterms:W3CDTF">2000-01-13T14:43:33Z</dcterms:modified>
  <cp:revision>65</cp:revision>
  <dc:subject/>
  <dc:title>No Slide Title</dc:title>
</cp:coreProperties>
</file>