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08C-4701-4817-AA98-68B07E9D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AB2-7C61-4A6F-9D9B-00C2A191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901-A7EA-4A62-BAA7-CF96BF18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113-5F27-40E0-980C-C806CEF7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6C0-02C6-4E5D-A0ED-8A02DB4E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318-DECC-4834-B0E4-52E37683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0D4-975D-4447-97A7-63C7E1E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5AD-139D-49ED-AC23-306A4364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157-A67A-4C50-92B2-D734B3CA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A61-1A12-4513-A3A2-6D1914C1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0C6-8A57-4EDA-86B2-D169057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A77-7352-4D7C-ADA0-80E3076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352D4D-FD25-40C1-B481-7F1533726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95480" y="396000"/>
            <a:ext cx="376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Handbook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ed by:  IEEE 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EEE 802.11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igner’s Compa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Bob O’Hara and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BN 0-7381-185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Press Product Number: SP1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ailable: January 23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ieee.org/organizations/pubs/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description of th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SS – DSSS – IR Physical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a – 5GHz – 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b – 2.4GHz 11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K, PBCC, and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–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reviewers: N. Chayht, M. Webster,               D. Engwer, I. Gifford, Matt Shoe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Al Petrick</cp:lastModifiedBy>
  <cp:lastPrinted>1999-12-10T16:12:26Z</cp:lastPrinted>
  <dcterms:modified xsi:type="dcterms:W3CDTF">2000-01-14T06:34:52Z</dcterms:modified>
  <cp:revision>56</cp:revision>
  <dc:subject/>
  <dc:title>No Slide Title</dc:title>
</cp:coreProperties>
</file>