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6452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D930-4FA7-479C-A414-E073B5F68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7D10-CA53-4A3A-B3A1-CCEE12496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27B1-F1AC-4DF6-8E49-103F434DD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7D55-15BD-4CE5-A40C-977C75210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AD19-4099-4084-9378-44B1FE577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92D7-9043-41E1-90B3-4504718CB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58A5-4241-4AA6-B4FD-173CAA97F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574C-695B-4FCD-A33B-9C61A2BB3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4FF6-B120-42A3-838A-91B895528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CB48-A9A0-4B3A-85B3-0250473A0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CD18-B301-4B63-BEB9-894CB79B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E753-8D4A-4A76-9553-D7479316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43920" y="6474960"/>
            <a:ext cx="466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92E009C-C2F6-48D4-B016-607EDD27D4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898240" y="396000"/>
            <a:ext cx="2567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015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e ITU-R Structure 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nd Proces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47960" y="5257800"/>
            <a:ext cx="3809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Bob Hua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Matsushita/Panaso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5257800"/>
            <a:ext cx="3809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802.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12 January 2000, Tel Av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685800"/>
            <a:ext cx="5486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uang, Panasonic/Matsush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EB99-89F4-4543-96C7-8A10C026BF2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990720" y="1035000"/>
            <a:ext cx="746748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can a company (or individual*) participate in the US ITU-R proces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y attending the meetings and bring contribu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ich Study Group deals with wireless LANS*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LANs are dealt with* in Working Party 8A (under Study Group 8 - Mobile Services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 Mobile Services typically share with Fixed Services, there is a continuing need for close cooperation between WP 8A and WP 9B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s is achieved through Joint Rappeatuers Group 8A-9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*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adio LANs (RLA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**  Study Group 9, dealing with Fixed Services, has long contended that WLANs are in their domai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uang, Panasonic/Matsushit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B79F-7A4A-48A4-B60B-F1B44DF66F75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990720" y="1123920"/>
            <a:ext cx="7467480" cy="46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is the contribution approval proces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roval by US Study Group (includes approval by FCC and NT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roval by US ‘National Committee’ for radio mat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roval by ITU JRG 8A-9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roval by ITU Study Group 8 (Recommendation for Mobile Servic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roval by ITU Study Group 9 (Recommendation for Fixed Servic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te:  There are alternate fast track procedures for the final approv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uang, Panasonic/Matsushit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AD93-8D7A-433E-AE42-B1E6A542E9A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219320" y="1066680"/>
            <a:ext cx="7315200" cy="45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0440" indent="-460440" algn="ctr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TU-R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pectrum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adiowave Propag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xed Satellite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cience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bile, Radiodetermination, Amateur and related Satellite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xed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roadcasting Service - S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roadcasting Service - Telev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c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pecial Committee on Regulatory/Procedural Mat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cv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ordination Committee for Vocabul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p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ference Preparatory Me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uang, Panasonic/Matsushit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2615-3654-451A-BA22-B932B256274A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66680" y="1674720"/>
            <a:ext cx="7315200" cy="35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0440" indent="-460440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 covered:  The WRC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 algn="ctr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rhaps this can be provided in the future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 algn="ctr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t this time the ITU-R process is most importa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 algn="ctr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The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 algn="ctr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 algn="ctr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 algn="ctr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Ques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uang, Panasonic/Matsushit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24E9-2ABB-4C3A-8D6F-26B956259140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19400" y="1371600"/>
            <a:ext cx="4832280" cy="3505320"/>
          </a:xfrm>
          <a:prstGeom prst="ellipse">
            <a:avLst/>
          </a:prstGeom>
          <a:solidFill>
            <a:srgbClr val="66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65720" y="2819520"/>
            <a:ext cx="279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adiocommunications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76720" y="3733920"/>
            <a:ext cx="276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Telecommunications Standardization S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133720" y="2746440"/>
            <a:ext cx="181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velopment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94464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U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05320" y="1523880"/>
            <a:ext cx="2209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cc"/>
                </a:solidFill>
                <a:latin typeface="Times New Roman"/>
              </a:rPr>
              <a:t>ITU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95480" y="5181480"/>
            <a:ext cx="5715000" cy="990720"/>
          </a:xfrm>
          <a:prstGeom prst="wedgeRectCallout">
            <a:avLst>
              <a:gd name="adj1" fmla="val 12277"/>
              <a:gd name="adj2" fmla="val -137018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orld Radiocommunications Con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an ITU meeting, not a Sector meet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uang, Panasonic/Matsushit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0218-8FC6-40AE-85CA-F51F81F2EC1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971800" y="1035000"/>
            <a:ext cx="51814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mic Sans MS"/>
              </a:rPr>
              <a:t>Radiocommunications Secto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-5409720" y="1143000"/>
            <a:ext cx="13562640" cy="5616720"/>
            <a:chOff x="-5409720" y="1143000"/>
            <a:chExt cx="13562640" cy="5616720"/>
          </a:xfrm>
        </p:grpSpPr>
        <p:grpSp>
          <p:nvGrpSpPr>
            <p:cNvPr id="58" name=""/>
            <p:cNvGrpSpPr/>
            <p:nvPr/>
          </p:nvGrpSpPr>
          <p:grpSpPr>
            <a:xfrm>
              <a:off x="-5409720" y="1143000"/>
              <a:ext cx="13562640" cy="5616720"/>
              <a:chOff x="-5409720" y="1143000"/>
              <a:chExt cx="13562640" cy="5616720"/>
            </a:xfrm>
          </p:grpSpPr>
          <p:sp>
            <p:nvSpPr>
              <p:cNvPr id="59" name=""/>
              <p:cNvSpPr/>
              <p:nvPr/>
            </p:nvSpPr>
            <p:spPr>
              <a:xfrm>
                <a:off x="-5409720" y="1143000"/>
                <a:ext cx="13562640" cy="5616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94109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9410930"/>
                  </a:path>
                </a:pathLst>
              </a:custGeom>
              <a:solidFill>
                <a:srgbClr val="66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371600" y="1143000"/>
                <a:ext cx="2743200" cy="541008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371600" y="1143000"/>
                <a:ext cx="2743200" cy="5410080"/>
              </a:xfrm>
              <a:prstGeom prst="rtTriangl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 flipV="1">
              <a:off x="2361960" y="1523520"/>
              <a:ext cx="2362320" cy="16002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523880" y="1432080"/>
              <a:ext cx="2895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Radiocommunications Bureau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152280" y="3733920"/>
            <a:ext cx="2438640" cy="1218960"/>
          </a:xfrm>
          <a:prstGeom prst="wedgeRectCallout">
            <a:avLst>
              <a:gd name="adj1" fmla="val 49935"/>
              <a:gd name="adj2" fmla="val -1716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dministers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adio Regu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(Table of Frequenc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llocat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43680" y="2057400"/>
            <a:ext cx="366156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adiocommun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meeting of all Study Group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47920" y="3794040"/>
            <a:ext cx="180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udy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0" y="1752480"/>
            <a:ext cx="2057400" cy="762120"/>
          </a:xfrm>
          <a:prstGeom prst="wedgeRectCallout">
            <a:avLst>
              <a:gd name="adj1" fmla="val -95060"/>
              <a:gd name="adj2" fmla="val 6458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Guides S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echnical 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629400" y="3276720"/>
            <a:ext cx="2362320" cy="1143000"/>
          </a:xfrm>
          <a:prstGeom prst="wedgeRectCallout">
            <a:avLst>
              <a:gd name="adj1" fmla="val -75671"/>
              <a:gd name="adj2" fmla="val 1111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lans and appro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echnical 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(Recommendat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130560" y="4708440"/>
            <a:ext cx="208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orking Pa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513760" y="487692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5105520"/>
            <a:ext cx="2438640" cy="1218960"/>
          </a:xfrm>
          <a:prstGeom prst="wedgeRectCallout">
            <a:avLst>
              <a:gd name="adj1" fmla="val 90625"/>
              <a:gd name="adj2" fmla="val -494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erforms technic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work and draf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commend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(perman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638680" y="5486400"/>
            <a:ext cx="3124440" cy="1219320"/>
          </a:xfrm>
          <a:prstGeom prst="wedgeRectCallout">
            <a:avLst>
              <a:gd name="adj1" fmla="val -26319"/>
              <a:gd name="adj2" fmla="val -731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erforms technical 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rafts Recommend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(highly urgent, short ter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6200000">
            <a:off x="4952880" y="3238560"/>
            <a:ext cx="45720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8024600">
            <a:off x="4076640" y="4152960"/>
            <a:ext cx="45720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 rot="3575400">
            <a:off x="5676120" y="4228920"/>
            <a:ext cx="45720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uang, Panasonic/Matsushit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39C8-060D-48ED-947A-A069BFAB2652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066680" y="1227240"/>
            <a:ext cx="7467840" cy="44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is frequency use decided within a countr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vernment contro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6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requency allocation (designation to a servi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6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requency assignment (permission to u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sed 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6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ational n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6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formance with the Radio Regulations (contains the International Table of Frequency Allocation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6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tential to cause harmful interference to radio systems another coun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uang, Panasonic/Matsushit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A0BB-B15F-4489-9B6F-BEEE49E1077E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838080" y="1066680"/>
            <a:ext cx="7467840" cy="47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do the Radio Regulations fit 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y contain international treat-binding agreements on how to use frequenc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6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y are maintained by the WRC (World Radiocommunications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Formerly the WARC). The WRC is attended by ITU member count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6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rguments for a new allocation have a small chance of success without frequency sha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6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haring criteria from ITU-R Recommendations are easily accep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us campaigns for a frequency allocation often start in the ITU-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uang, Panasonic/Matsushit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BA03-CB76-43D3-9139-1DEDEA2FCBB5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990720" y="1130400"/>
            <a:ext cx="7467480" cy="464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the ITU-R shows that sharing is possible between existing services (in use) and the new service, is a new allocation assu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66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.  An Administration (country) can oppose a new allocation based future use of a current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is a new allocation approv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6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 administrations present at the WRC vote (one country one vote)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ill a single no vote stop an allocation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6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.  However, any country can insert a footnote in the Table indicating an exception in their count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uang, Panasonic/Matsushit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65BC-7A78-4DD7-BAAD-1C3F5311B485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990720" y="1117440"/>
            <a:ext cx="746748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0440" indent="-460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about the ITU process in the U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re are two pa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ITU-R process for obtaining a recommen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WRC process for obtaining an al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t first, it is useful to understand the structure within the 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uang, Panasonic/Matsushit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1522-4DD2-4E18-BC01-9AB17C0ADA25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838080" y="1387440"/>
            <a:ext cx="7467840" cy="45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US structure for frequency allocation matters is a triumvant, consisting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partment of State (D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36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nal control due to treaty binding text and foreign relations nature of agre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C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36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ministers frequency allocations within the US for non-government (commercial and public) 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T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36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ministers frequency allocations within the US for government use (military, public service, FAA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uang, Panasonic/Matsushit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F158-5288-4156-B00F-3D8C8758E58C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90720" y="1285920"/>
            <a:ext cx="7467480" cy="40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Department of State administers the US ITU-R process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ming the US Study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ppointing a US chairman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may be from the government or private sect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suring that all US positions are agreed to by the FCC, NTIA and the private s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crediting delegations to Study Group meetings and Radiocommunications assembl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uang, Panasonic/Matsushit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3B91-1265-44B2-B3F2-2EA1581700B7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8T22:14:45Z</dcterms:created>
  <dc:creator>Bob Huang</dc:creator>
  <dc:description/>
  <dc:language>en-US</dc:language>
  <cp:lastModifiedBy>vichayes</cp:lastModifiedBy>
  <cp:lastPrinted>2000-02-03T12:15:23Z</cp:lastPrinted>
  <dcterms:modified xsi:type="dcterms:W3CDTF">2000-02-03T12:16:29Z</dcterms:modified>
  <cp:revision>2</cp:revision>
  <dc:subject/>
  <dc:title>The ITU-R Structure  and Process </dc:title>
</cp:coreProperties>
</file>