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F10-7E68-408C-ACEE-46DBFB06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BE9-6FFD-4921-AF9C-E4F43127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0B1-2503-40E5-9F28-189C1310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45A-26CA-4091-8034-7D1A9E0E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248-C1D1-4877-AC36-652EA17F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06C-B0F4-4245-A75B-1D59E7F7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84B-9347-4968-A801-2DB6A5F2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5D2-5945-48ED-B323-66B88611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DFF-3B7B-421A-B0D8-2C03E0BC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A4B-1674-4C2F-9218-D2563D48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5F4-BA26-4327-A640-447EC9F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A62-00D5-46F9-B080-A9D4DAE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EFD741-7094-44FC-B551-B08CE0CCF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TU-R Structur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d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ob Hu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Matsushita/Panas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12 January 2000, Tel Av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E97-904B-48F2-BB89-270F8D41F48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035000"/>
            <a:ext cx="746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a company (or individual*) participate in the US ITU-R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ttending the meetings and bring contrib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tudy Group deals with wireless LANS*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LANs are dealt with* in Working Party 8A (under Study Group 8 - Mobile Servic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Mobile Services typically share with Fixed Services, there is a continuing need for close cooperation between WP 8A and WP 9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chieved through Joint Rappeatuers Group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io LANs (RL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*  Study Group 9, dealing with Fixed Services, has long contended that WLANs are in their dom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1BC-5D01-4BFB-BED4-4C81F4246D4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123920"/>
            <a:ext cx="74674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contribution approval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Study Group (includes approval by FCC and NT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‘National Committee’ for radio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JRG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Study Group 8 (Recommendation for Mobile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Study Group 9 (Recommendation for Fixe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 There are alternate fast track procedures for the final 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CF7-FDDC-4678-8805-F7887DFF533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1066680"/>
            <a:ext cx="73152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U-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tru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wave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atelli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c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, Radiodetermination, Amateur and related Satelli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ittee on Regulatory/Procedural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c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rdination Committee for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p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erence Preparator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8CB-A424-4357-BEE0-E50B8100A41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1674720"/>
            <a:ext cx="73152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covered:  The WR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haps this can be provided in the futu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is time the ITU-R process is most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D70-DB28-4C9E-B5FE-E74FF8BD705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19400" y="1371600"/>
            <a:ext cx="4832280" cy="350532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65720" y="281952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733920"/>
            <a:ext cx="276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ecommunications Standardization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274644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velopment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446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5238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IT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181480"/>
            <a:ext cx="5715000" cy="990720"/>
          </a:xfrm>
          <a:prstGeom prst="wedgeRectCallout">
            <a:avLst>
              <a:gd name="adj1" fmla="val 12277"/>
              <a:gd name="adj2" fmla="val -13701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ld Radiocommunication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 ITU meeting, not a Sector me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B8C-9B86-499F-B9A4-F047EAE4A0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71800" y="1035000"/>
            <a:ext cx="518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-5409720" y="1143000"/>
            <a:ext cx="13562640" cy="5616720"/>
            <a:chOff x="-5409720" y="1143000"/>
            <a:chExt cx="13562640" cy="5616720"/>
          </a:xfrm>
        </p:grpSpPr>
        <p:grpSp>
          <p:nvGrpSpPr>
            <p:cNvPr id="57" name=""/>
            <p:cNvGrpSpPr/>
            <p:nvPr/>
          </p:nvGrpSpPr>
          <p:grpSpPr>
            <a:xfrm>
              <a:off x="-5409720" y="1143000"/>
              <a:ext cx="13562640" cy="5616720"/>
              <a:chOff x="-5409720" y="1143000"/>
              <a:chExt cx="13562640" cy="5616720"/>
            </a:xfrm>
          </p:grpSpPr>
          <p:sp>
            <p:nvSpPr>
              <p:cNvPr id="58" name=""/>
              <p:cNvSpPr/>
              <p:nvPr/>
            </p:nvSpPr>
            <p:spPr>
              <a:xfrm>
                <a:off x="-5409720" y="1143000"/>
                <a:ext cx="13562640" cy="56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9410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9410930"/>
                  </a:path>
                </a:pathLst>
              </a:custGeom>
              <a:solidFill>
                <a:srgbClr val="66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V="1">
              <a:off x="2361960" y="1523520"/>
              <a:ext cx="236232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880" y="143208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adiocommunications Burea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52280" y="3733920"/>
            <a:ext cx="2438640" cy="1218960"/>
          </a:xfrm>
          <a:prstGeom prst="wedgeRectCallout">
            <a:avLst>
              <a:gd name="adj1" fmla="val 49935"/>
              <a:gd name="adj2" fmla="val -171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minister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Table of 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o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43680" y="2057400"/>
            <a:ext cx="36615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eting of all Study Grou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7920" y="37940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752480"/>
            <a:ext cx="2057400" cy="762120"/>
          </a:xfrm>
          <a:prstGeom prst="wedgeRectCallout">
            <a:avLst>
              <a:gd name="adj1" fmla="val -95060"/>
              <a:gd name="adj2" fmla="val 6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uides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3276720"/>
            <a:ext cx="2362320" cy="1143000"/>
          </a:xfrm>
          <a:prstGeom prst="wedgeRectCallout">
            <a:avLst>
              <a:gd name="adj1" fmla="val -75671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lans and appr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Recommend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47084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ing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13760" y="48769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105520"/>
            <a:ext cx="2438640" cy="1218960"/>
          </a:xfrm>
          <a:prstGeom prst="wedgeRectCallout">
            <a:avLst>
              <a:gd name="adj1" fmla="val 90625"/>
              <a:gd name="adj2" fmla="val -4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ork and draf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perman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5486400"/>
            <a:ext cx="3124440" cy="1219320"/>
          </a:xfrm>
          <a:prstGeom prst="wedgeRectCallout">
            <a:avLst>
              <a:gd name="adj1" fmla="val -26319"/>
              <a:gd name="adj2" fmla="val -73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fts 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highly urgent, short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952880" y="32385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024600">
            <a:off x="4076640" y="415296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rot="3575400">
            <a:off x="5676120" y="422892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E24-DFD1-44C1-A48D-58FC9DB7D89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998640"/>
            <a:ext cx="7467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frequency use decided within a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contr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llocation (designation to a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ssignment (permission to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ormance with the Radio Regulations (contains the International Table of Frequency Alloc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 to cause harmful interference to radio systems anothe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294-1B78-4677-A37A-ADFB6D328CE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066680"/>
            <a:ext cx="74678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the Radio Regulations fit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ontain international treat-binding agreements on how to use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are maintained by the WRC (World Radiocommunication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merly the WARC). The WRC is attended by ITU member coun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s for a new allocation have a small chance of success without frequency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ing criteria from ITU-R Recommendations are easily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campaigns for a frequency allocation often start in the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B8A-C949-4529-99F8-B9E67614E70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77760"/>
            <a:ext cx="7467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ITU-R shows that sharing is possible between existing services (in use) and the new service, is a new allocation as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An Administration (country) can oppose a new allocation based future use of a current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a new allocation ap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dministrations present at the WRC vote (one country one vote)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a single no vote stop an alloca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However, any country can insert a footnote in the Table indicating an exception in their cou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FD5-BDE8-443E-8C22-7B7BF224F9E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11744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bout the ITU process in the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TU-R process for obtaining a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C process for obtaining an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first, it is useful to understand the structure within the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FC3-F7E6-4940-929F-200AFD583BD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853920"/>
            <a:ext cx="746784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S structure for frequency allocation matters is a triumvant, consisting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artment of State (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l control due to treaty binding text and foreign relations nature of agre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gress approves the WRC text and decides on the US table of frequency allo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non-government (commercial and public)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government use (military, public service, FA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200-9911-47E1-A06F-FBE6FA7BBEE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1285920"/>
            <a:ext cx="74674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artment of State administers the US ITU-R proces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ing the US Stud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ointing a US chairma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be from the government or private s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uring that all US positions are agreed to by the FCC, NTIA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rediting delegations to Study Group meetings and Radiocommunications assembl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29D-3098-4625-9EB6-157045322EB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4:17:27Z</dcterms:created>
  <dc:creator>vichayes</dc:creator>
  <dc:description/>
  <dc:language>en-US</dc:language>
  <cp:lastModifiedBy>vichayes</cp:lastModifiedBy>
  <cp:lastPrinted>2000-01-13T14:25:30Z</cp:lastPrinted>
  <dcterms:modified xsi:type="dcterms:W3CDTF">2000-01-13T14:45:29Z</dcterms:modified>
  <cp:revision>3</cp:revision>
  <dc:subject/>
  <dc:title>The ITU-R Structure  and Process </dc:title>
</cp:coreProperties>
</file>