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9EE-048A-480F-AB7C-07B58E0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753-A757-48EE-B6B1-2BD08AE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DFC-CBDF-4543-9607-FD35C02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ED2-721A-42FB-BCE4-3979ED32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D0D-5630-411E-A578-D6E98D85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7C5-983E-43F6-9A43-DB5BC1EE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7D2-37EC-4E51-8A3F-540C2920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304-A72A-47F0-8B11-1EA3B78D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587-7821-4CBB-8944-1D23F79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173-45AC-4A9E-962B-795B3CD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8E2-E98C-49FF-A0FE-ABD509A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5FE-96D6-4E86-A6BB-DEAE1CE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98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 Januar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BA590B-C274-4705-8943-D9E4074E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Regulator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- 14 Ja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Regulator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ing Secretary - Bob Hu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Chair Formed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Regulato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Tues 10:30 - 12:00 Wed   8:30 - 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to WG Review Wed 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Group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 to Korean Regulatory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TU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/Identify 5GHz License Exempt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U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Ad_Hoc Draft/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G 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Draft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Group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 Freq Mgm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draw from sub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U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Advisor to US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osition Development (US  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resentation to ITU-R (US  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defines changes to R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Gov Agency Dissemination (F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7:28:10Z</dcterms:created>
  <dc:creator>Standard Software Service</dc:creator>
  <dc:description/>
  <dc:language>en-US</dc:language>
  <cp:lastModifiedBy>vichayes</cp:lastModifiedBy>
  <cp:lastPrinted>2000-01-18T12:57:04Z</cp:lastPrinted>
  <dcterms:modified xsi:type="dcterms:W3CDTF">2000-01-18T12:57:11Z</dcterms:modified>
  <cp:revision>7</cp:revision>
  <dc:subject/>
  <dc:title>ITU Report</dc:title>
</cp:coreProperties>
</file>