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ADFA-DF98-472C-A9D0-0923B6FC9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1601640" y="797040"/>
            <a:ext cx="3735360" cy="280188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AD9-64BE-4B70-9326-EBB1FC0F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860-F572-4DBC-8F57-F25B5663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0E8-3D9A-4013-8C54-C79B0E3C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84C-7953-48AB-9200-9C3964DD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083-F838-4788-8CBE-90C0DAEB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DA2-A7D5-4317-B13E-D509D5A2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448-36C5-45F2-88EB-BF9A2466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5CC-B9D7-4D9C-BE0B-84F08D46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40D-6D3C-40D2-B58F-A11A81E6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04E-7D77-426F-963C-9332A568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4F1-FFF7-4458-97EB-EC9FE9E8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EE6-C5F7-41C0-BC2A-700DABDB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11920" y="6474960"/>
            <a:ext cx="1798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shid Khun-Jush, Erics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517454-D1C9-4089-BBA6-631C291FE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erLAN type 2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ystem with QoS Suppor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shid Khun-J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man ETSI Project B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csson, Nürn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: Medium Access Control -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access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 and resource request transmissions from 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access in mobile stations: slotted ALOHA with exponential increase of contention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random access in the AP: acknowledgements of random access in the nex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-to-peer and multicas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or antenna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MAC Frame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ingle secto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8" name=""/>
          <p:cNvGraphicFramePr/>
          <p:nvPr/>
        </p:nvGraphicFramePr>
        <p:xfrm>
          <a:off x="1447920" y="2133720"/>
          <a:ext cx="561168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561168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0" name=""/>
          <p:cNvSpPr/>
          <p:nvPr/>
        </p:nvSpPr>
        <p:spPr>
          <a:xfrm>
            <a:off x="685800" y="4114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ultiple sector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1" name=""/>
          <p:cNvGraphicFramePr/>
          <p:nvPr/>
        </p:nvGraphicFramePr>
        <p:xfrm>
          <a:off x="1143000" y="4572000"/>
          <a:ext cx="678348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572000"/>
                    <a:ext cx="67834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MAC Frame Logical Chann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57200" y="14479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CH (Broadcast Control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vey the necessary broadcast information concerning the whole radio cell e.g. Scrambler seed, Access point ID, Network I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CCH (Frame Control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vey information describing the structure of the MAC frame visible at the air interface (resource grant announc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CH (Random Access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d by MTs in the uplink to send signalling data (resource request, association request) for DLC or RL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FCH (Random access Feedback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orms the MTs that have used the RACH in the previous MAC frame about the result of  their access attemp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 - Error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repeat (SR) ARQ with partial bit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ansmission efficiency as conventional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d overhead and delay of acknowled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ing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for real time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MAC frame (2 ms) allows re-transmission even for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rate and modulation alphabet adaptive to current propagation and interference 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physical layer modes (modulation alphabet and code rate combin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ink Adap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304560" y="1611000"/>
            <a:ext cx="3809880" cy="36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 throughput versus C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ink quality measurements (C/I) in access point and mobile termin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channel with an rms delay spread 100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lective-repeat ARQ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ode with the highest throughput selected (ideal link adap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9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525780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 - Radio Link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up / release of DLC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-to-peer (ad-h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ciation / de-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resourc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eep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link and downlink powe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867280" y="13716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ion key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security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great extent aligned with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spacing: 2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d OFDM (Orthogonal Frequency Division Multiplex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les a large variety of delay spreads =&gt; No complex equalizer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 sub-carriers (48 for data, four for pilo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ard intervals: 800 ns mandatory, 400 ns op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mbol duration 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-carrier modulation: BPSK, QPSK, 16QAM, 64QAM (optiona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EC: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1/2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volution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her code with constraint length 7, additional rates 3/4 and 9/16 by pun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7 physical layer modes with bitrate (Mb/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6,9,12,18,27,36,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difference to 802.11a: Preamble due to different multip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/>
          <p:nvPr/>
        </p:nvSpPr>
        <p:spPr>
          <a:xfrm flipH="1">
            <a:off x="2466720" y="4572000"/>
            <a:ext cx="2485800" cy="739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6" name="" descr=""/>
          <p:cNvPicPr/>
          <p:nvPr/>
        </p:nvPicPr>
        <p:blipFill>
          <a:blip r:embed="rId1"/>
          <a:stretch/>
        </p:blipFill>
        <p:spPr>
          <a:xfrm>
            <a:off x="1157400" y="4886280"/>
            <a:ext cx="1371600" cy="1600200"/>
          </a:xfrm>
          <a:prstGeom prst="rect">
            <a:avLst/>
          </a:prstGeom>
          <a:ln w="0">
            <a:noFill/>
          </a:ln>
        </p:spPr>
      </p:pic>
      <p:sp>
        <p:nvSpPr>
          <p:cNvPr id="2277" name=""/>
          <p:cNvSpPr/>
          <p:nvPr/>
        </p:nvSpPr>
        <p:spPr>
          <a:xfrm>
            <a:off x="1478880" y="427032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2629080" y="6086520"/>
            <a:ext cx="5688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07440" y="572760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&amp; encryption in public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054760" y="4987800"/>
            <a:ext cx="328428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207040" y="4603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&amp; 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597560" y="3289320"/>
            <a:ext cx="4314600" cy="2268360"/>
          </a:xfrm>
          <a:prstGeom prst="ellipse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457200" y="1736640"/>
            <a:ext cx="6667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d equival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fficient in business, residential and public access 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negotiation of different security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mobility (H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/moderate processing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5" name=""/>
          <p:cNvGraphicFramePr/>
          <p:nvPr/>
        </p:nvGraphicFramePr>
        <p:xfrm>
          <a:off x="7402680" y="3154320"/>
          <a:ext cx="134460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02680" y="3154320"/>
                    <a:ext cx="13446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7" name=""/>
          <p:cNvGrpSpPr/>
          <p:nvPr/>
        </p:nvGrpSpPr>
        <p:grpSpPr>
          <a:xfrm>
            <a:off x="2955960" y="4656240"/>
            <a:ext cx="1567440" cy="798120"/>
            <a:chOff x="2955960" y="4656240"/>
            <a:chExt cx="1567440" cy="798120"/>
          </a:xfrm>
        </p:grpSpPr>
        <p:grpSp>
          <p:nvGrpSpPr>
            <p:cNvPr id="2288" name=""/>
            <p:cNvGrpSpPr/>
            <p:nvPr/>
          </p:nvGrpSpPr>
          <p:grpSpPr>
            <a:xfrm>
              <a:off x="2955960" y="4656240"/>
              <a:ext cx="1567440" cy="798120"/>
              <a:chOff x="2955960" y="4656240"/>
              <a:chExt cx="1567440" cy="798120"/>
            </a:xfrm>
          </p:grpSpPr>
          <p:grpSp>
            <p:nvGrpSpPr>
              <p:cNvPr id="2289" name=""/>
              <p:cNvGrpSpPr/>
              <p:nvPr/>
            </p:nvGrpSpPr>
            <p:grpSpPr>
              <a:xfrm>
                <a:off x="3877200" y="4728240"/>
                <a:ext cx="646200" cy="690480"/>
                <a:chOff x="3877200" y="4728240"/>
                <a:chExt cx="646200" cy="690480"/>
              </a:xfrm>
            </p:grpSpPr>
            <p:grpSp>
              <p:nvGrpSpPr>
                <p:cNvPr id="2290" name=""/>
                <p:cNvGrpSpPr/>
                <p:nvPr/>
              </p:nvGrpSpPr>
              <p:grpSpPr>
                <a:xfrm>
                  <a:off x="4121640" y="4728240"/>
                  <a:ext cx="401760" cy="556920"/>
                  <a:chOff x="4121640" y="4728240"/>
                  <a:chExt cx="401760" cy="556920"/>
                </a:xfrm>
              </p:grpSpPr>
              <p:grpSp>
                <p:nvGrpSpPr>
                  <p:cNvPr id="2291" name=""/>
                  <p:cNvGrpSpPr/>
                  <p:nvPr/>
                </p:nvGrpSpPr>
                <p:grpSpPr>
                  <a:xfrm>
                    <a:off x="4230000" y="4799880"/>
                    <a:ext cx="293400" cy="412920"/>
                    <a:chOff x="4230000" y="4799880"/>
                    <a:chExt cx="293400" cy="412920"/>
                  </a:xfrm>
                </p:grpSpPr>
                <p:grpSp>
                  <p:nvGrpSpPr>
                    <p:cNvPr id="2292" name=""/>
                    <p:cNvGrpSpPr/>
                    <p:nvPr/>
                  </p:nvGrpSpPr>
                  <p:grpSpPr>
                    <a:xfrm>
                      <a:off x="4230000" y="4799880"/>
                      <a:ext cx="293400" cy="412920"/>
                      <a:chOff x="4230000" y="4799880"/>
                      <a:chExt cx="293400" cy="412920"/>
                    </a:xfrm>
                  </p:grpSpPr>
                  <p:grpSp>
                    <p:nvGrpSpPr>
                      <p:cNvPr id="2293" name=""/>
                      <p:cNvGrpSpPr/>
                      <p:nvPr/>
                    </p:nvGrpSpPr>
                    <p:grpSpPr>
                      <a:xfrm>
                        <a:off x="4297680" y="4825800"/>
                        <a:ext cx="225720" cy="332280"/>
                        <a:chOff x="4297680" y="4825800"/>
                        <a:chExt cx="225720" cy="332280"/>
                      </a:xfrm>
                    </p:grpSpPr>
                    <p:grpSp>
                      <p:nvGrpSpPr>
                        <p:cNvPr id="2294" name=""/>
                        <p:cNvGrpSpPr/>
                        <p:nvPr/>
                      </p:nvGrpSpPr>
                      <p:grpSpPr>
                        <a:xfrm>
                          <a:off x="4326840" y="4825800"/>
                          <a:ext cx="196560" cy="332280"/>
                          <a:chOff x="4326840" y="4825800"/>
                          <a:chExt cx="196560" cy="332280"/>
                        </a:xfrm>
                      </p:grpSpPr>
                      <p:sp>
                        <p:nvSpPr>
                          <p:cNvPr id="2295" name=""/>
                          <p:cNvSpPr/>
                          <p:nvPr/>
                        </p:nvSpPr>
                        <p:spPr>
                          <a:xfrm>
                            <a:off x="4424040" y="5022000"/>
                            <a:ext cx="993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96" name=""/>
                          <p:cNvSpPr/>
                          <p:nvPr/>
                        </p:nvSpPr>
                        <p:spPr>
                          <a:xfrm>
                            <a:off x="4345920" y="5039640"/>
                            <a:ext cx="12852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97" name=""/>
                          <p:cNvSpPr/>
                          <p:nvPr/>
                        </p:nvSpPr>
                        <p:spPr>
                          <a:xfrm>
                            <a:off x="4405320" y="4897440"/>
                            <a:ext cx="885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98" name=""/>
                          <p:cNvSpPr/>
                          <p:nvPr/>
                        </p:nvSpPr>
                        <p:spPr>
                          <a:xfrm>
                            <a:off x="4326840" y="4825800"/>
                            <a:ext cx="11808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99" name=""/>
                          <p:cNvSpPr/>
                          <p:nvPr/>
                        </p:nvSpPr>
                        <p:spPr>
                          <a:xfrm>
                            <a:off x="4401720" y="4894560"/>
                            <a:ext cx="88560" cy="196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134">
                                <a:moveTo>
                                  <a:pt x="50" y="133"/>
                                </a:moveTo>
                                <a:lnTo>
                                  <a:pt x="28" y="133"/>
                                </a:lnTo>
                                <a:lnTo>
                                  <a:pt x="0" y="0"/>
                                </a:lnTo>
                                <a:lnTo>
                                  <a:pt x="28" y="12"/>
                                </a:lnTo>
                                <a:lnTo>
                                  <a:pt x="33" y="79"/>
                                </a:lnTo>
                                <a:lnTo>
                                  <a:pt x="50" y="133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300" name=""/>
                        <p:cNvSpPr/>
                        <p:nvPr/>
                      </p:nvSpPr>
                      <p:spPr>
                        <a:xfrm>
                          <a:off x="4297680" y="4923720"/>
                          <a:ext cx="177120" cy="1627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1" name=""/>
                        <p:cNvSpPr/>
                        <p:nvPr/>
                      </p:nvSpPr>
                      <p:spPr>
                        <a:xfrm>
                          <a:off x="4297680" y="5022000"/>
                          <a:ext cx="128520" cy="11844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080" bIns="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2" name=""/>
                        <p:cNvSpPr/>
                        <p:nvPr/>
                      </p:nvSpPr>
                      <p:spPr>
                        <a:xfrm>
                          <a:off x="4332240" y="4875480"/>
                          <a:ext cx="90360" cy="206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41">
                              <a:moveTo>
                                <a:pt x="51" y="24"/>
                              </a:moveTo>
                              <a:lnTo>
                                <a:pt x="45" y="55"/>
                              </a:lnTo>
                              <a:lnTo>
                                <a:pt x="51" y="122"/>
                              </a:lnTo>
                              <a:lnTo>
                                <a:pt x="34" y="140"/>
                              </a:lnTo>
                              <a:lnTo>
                                <a:pt x="0" y="61"/>
                              </a:lnTo>
                              <a:lnTo>
                                <a:pt x="28" y="0"/>
                              </a:lnTo>
                              <a:lnTo>
                                <a:pt x="51" y="24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303" name=""/>
                      <p:cNvSpPr/>
                      <p:nvPr/>
                    </p:nvSpPr>
                    <p:spPr>
                      <a:xfrm>
                        <a:off x="4297680" y="5120640"/>
                        <a:ext cx="99000" cy="92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720" bIns="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4" name=""/>
                      <p:cNvSpPr/>
                      <p:nvPr/>
                    </p:nvSpPr>
                    <p:spPr>
                      <a:xfrm>
                        <a:off x="4230000" y="4799880"/>
                        <a:ext cx="119880" cy="118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5" name=""/>
                      <p:cNvSpPr/>
                      <p:nvPr/>
                    </p:nvSpPr>
                    <p:spPr>
                      <a:xfrm>
                        <a:off x="4323960" y="5091480"/>
                        <a:ext cx="6948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31">
                            <a:moveTo>
                              <a:pt x="39" y="18"/>
                            </a:moveTo>
                            <a:lnTo>
                              <a:pt x="28" y="30"/>
                            </a:lnTo>
                            <a:lnTo>
                              <a:pt x="0" y="18"/>
                            </a:lnTo>
                            <a:lnTo>
                              <a:pt x="28" y="0"/>
                            </a:lnTo>
                            <a:lnTo>
                              <a:pt x="39" y="1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06" name=""/>
                    <p:cNvSpPr/>
                    <p:nvPr/>
                  </p:nvSpPr>
                  <p:spPr>
                    <a:xfrm>
                      <a:off x="4313160" y="4851000"/>
                      <a:ext cx="41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49">
                          <a:moveTo>
                            <a:pt x="11" y="0"/>
                          </a:moveTo>
                          <a:lnTo>
                            <a:pt x="23" y="6"/>
                          </a:lnTo>
                          <a:lnTo>
                            <a:pt x="23" y="48"/>
                          </a:lnTo>
                          <a:lnTo>
                            <a:pt x="0" y="4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7" name=""/>
                  <p:cNvGrpSpPr/>
                  <p:nvPr/>
                </p:nvGrpSpPr>
                <p:grpSpPr>
                  <a:xfrm>
                    <a:off x="4121640" y="4728240"/>
                    <a:ext cx="275400" cy="502560"/>
                    <a:chOff x="4121640" y="4728240"/>
                    <a:chExt cx="275400" cy="502560"/>
                  </a:xfrm>
                </p:grpSpPr>
                <p:sp>
                  <p:nvSpPr>
                    <p:cNvPr id="2308" name=""/>
                    <p:cNvSpPr/>
                    <p:nvPr/>
                  </p:nvSpPr>
                  <p:spPr>
                    <a:xfrm>
                      <a:off x="4151160" y="5022720"/>
                      <a:ext cx="226440" cy="208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9" name=""/>
                    <p:cNvSpPr/>
                    <p:nvPr/>
                  </p:nvSpPr>
                  <p:spPr>
                    <a:xfrm>
                      <a:off x="4170600" y="4879080"/>
                      <a:ext cx="22644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0" name=""/>
                    <p:cNvSpPr/>
                    <p:nvPr/>
                  </p:nvSpPr>
                  <p:spPr>
                    <a:xfrm>
                      <a:off x="4121640" y="4728240"/>
                      <a:ext cx="177840" cy="163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1" name=""/>
                    <p:cNvSpPr/>
                    <p:nvPr/>
                  </p:nvSpPr>
                  <p:spPr>
                    <a:xfrm>
                      <a:off x="4227840" y="4826160"/>
                      <a:ext cx="90360" cy="92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720" bIns="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2" name=""/>
                    <p:cNvSpPr/>
                    <p:nvPr/>
                  </p:nvSpPr>
                  <p:spPr>
                    <a:xfrm>
                      <a:off x="4167000" y="4805640"/>
                      <a:ext cx="156960" cy="18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129">
                          <a:moveTo>
                            <a:pt x="61" y="6"/>
                          </a:moveTo>
                          <a:lnTo>
                            <a:pt x="61" y="18"/>
                          </a:lnTo>
                          <a:lnTo>
                            <a:pt x="83" y="49"/>
                          </a:lnTo>
                          <a:lnTo>
                            <a:pt x="89" y="55"/>
                          </a:lnTo>
                          <a:lnTo>
                            <a:pt x="56" y="128"/>
                          </a:lnTo>
                          <a:lnTo>
                            <a:pt x="0" y="0"/>
                          </a:lnTo>
                          <a:lnTo>
                            <a:pt x="61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3" name=""/>
                    <p:cNvSpPr/>
                    <p:nvPr/>
                  </p:nvSpPr>
                  <p:spPr>
                    <a:xfrm>
                      <a:off x="4245120" y="5055120"/>
                      <a:ext cx="9756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44">
                          <a:moveTo>
                            <a:pt x="49" y="6"/>
                          </a:moveTo>
                          <a:lnTo>
                            <a:pt x="55" y="18"/>
                          </a:lnTo>
                          <a:lnTo>
                            <a:pt x="0" y="43"/>
                          </a:lnTo>
                          <a:lnTo>
                            <a:pt x="0" y="0"/>
                          </a:lnTo>
                          <a:lnTo>
                            <a:pt x="49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14" name=""/>
                  <p:cNvSpPr/>
                  <p:nvPr/>
                </p:nvSpPr>
                <p:spPr>
                  <a:xfrm>
                    <a:off x="4121640" y="516672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4196880" y="5154840"/>
                    <a:ext cx="694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3">
                        <a:moveTo>
                          <a:pt x="17" y="42"/>
                        </a:moveTo>
                        <a:lnTo>
                          <a:pt x="39" y="30"/>
                        </a:lnTo>
                        <a:lnTo>
                          <a:pt x="11" y="0"/>
                        </a:lnTo>
                        <a:lnTo>
                          <a:pt x="0" y="12"/>
                        </a:lnTo>
                        <a:lnTo>
                          <a:pt x="17" y="4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16" name=""/>
                <p:cNvSpPr/>
                <p:nvPr/>
              </p:nvSpPr>
              <p:spPr>
                <a:xfrm>
                  <a:off x="3877200" y="5272560"/>
                  <a:ext cx="150120" cy="14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3993840" y="5272560"/>
                  <a:ext cx="13104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062240" y="5237280"/>
                  <a:ext cx="131040" cy="11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3960720" y="5216760"/>
                  <a:ext cx="246240" cy="162720"/>
                </a:xfrm>
                <a:custGeom>
                  <a:avLst/>
                  <a:gdLst/>
                  <a:ahLst/>
                  <a:rect l="l" t="t" r="r" b="b"/>
                  <a:pathLst>
                    <a:path w="141" h="111">
                      <a:moveTo>
                        <a:pt x="134" y="31"/>
                      </a:moveTo>
                      <a:lnTo>
                        <a:pt x="118" y="37"/>
                      </a:lnTo>
                      <a:lnTo>
                        <a:pt x="78" y="79"/>
                      </a:lnTo>
                      <a:lnTo>
                        <a:pt x="73" y="98"/>
                      </a:lnTo>
                      <a:lnTo>
                        <a:pt x="28" y="98"/>
                      </a:lnTo>
                      <a:lnTo>
                        <a:pt x="22" y="110"/>
                      </a:lnTo>
                      <a:lnTo>
                        <a:pt x="0" y="73"/>
                      </a:lnTo>
                      <a:lnTo>
                        <a:pt x="95" y="0"/>
                      </a:lnTo>
                      <a:lnTo>
                        <a:pt x="140" y="18"/>
                      </a:lnTo>
                      <a:lnTo>
                        <a:pt x="134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0" name=""/>
              <p:cNvGrpSpPr/>
              <p:nvPr/>
            </p:nvGrpSpPr>
            <p:grpSpPr>
              <a:xfrm>
                <a:off x="2955960" y="4736880"/>
                <a:ext cx="393840" cy="476280"/>
                <a:chOff x="2955960" y="4736880"/>
                <a:chExt cx="393840" cy="476280"/>
              </a:xfrm>
            </p:grpSpPr>
            <p:grpSp>
              <p:nvGrpSpPr>
                <p:cNvPr id="2321" name=""/>
                <p:cNvGrpSpPr/>
                <p:nvPr/>
              </p:nvGrpSpPr>
              <p:grpSpPr>
                <a:xfrm>
                  <a:off x="2955960" y="4799880"/>
                  <a:ext cx="217800" cy="288360"/>
                  <a:chOff x="2955960" y="4799880"/>
                  <a:chExt cx="217800" cy="288360"/>
                </a:xfrm>
              </p:grpSpPr>
              <p:sp>
                <p:nvSpPr>
                  <p:cNvPr id="2322" name=""/>
                  <p:cNvSpPr/>
                  <p:nvPr/>
                </p:nvSpPr>
                <p:spPr>
                  <a:xfrm>
                    <a:off x="2955960" y="4897800"/>
                    <a:ext cx="1011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2974680" y="4969800"/>
                    <a:ext cx="12060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2994120" y="479988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2981880" y="4903920"/>
                    <a:ext cx="694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8">
                        <a:moveTo>
                          <a:pt x="22" y="0"/>
                        </a:moveTo>
                        <a:lnTo>
                          <a:pt x="0" y="12"/>
                        </a:lnTo>
                        <a:lnTo>
                          <a:pt x="0" y="55"/>
                        </a:lnTo>
                        <a:lnTo>
                          <a:pt x="11" y="67"/>
                        </a:lnTo>
                        <a:lnTo>
                          <a:pt x="39" y="55"/>
                        </a:lnTo>
                        <a:lnTo>
                          <a:pt x="2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6" name=""/>
                <p:cNvGrpSpPr/>
                <p:nvPr/>
              </p:nvGrpSpPr>
              <p:grpSpPr>
                <a:xfrm>
                  <a:off x="3024000" y="4736880"/>
                  <a:ext cx="325800" cy="476280"/>
                  <a:chOff x="3024000" y="4736880"/>
                  <a:chExt cx="325800" cy="476280"/>
                </a:xfrm>
              </p:grpSpPr>
              <p:sp>
                <p:nvSpPr>
                  <p:cNvPr id="2327" name=""/>
                  <p:cNvSpPr/>
                  <p:nvPr/>
                </p:nvSpPr>
                <p:spPr>
                  <a:xfrm>
                    <a:off x="3132000" y="4754160"/>
                    <a:ext cx="217800" cy="218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3024000" y="489816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3053520" y="4968720"/>
                    <a:ext cx="16920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3102120" y="504036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3112920" y="4852440"/>
                    <a:ext cx="158400" cy="14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3240360" y="4736880"/>
                    <a:ext cx="9900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3157920" y="4823280"/>
                    <a:ext cx="1184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12"/>
                        </a:moveTo>
                        <a:lnTo>
                          <a:pt x="11" y="37"/>
                        </a:lnTo>
                        <a:lnTo>
                          <a:pt x="67" y="55"/>
                        </a:lnTo>
                        <a:lnTo>
                          <a:pt x="67" y="18"/>
                        </a:lnTo>
                        <a:lnTo>
                          <a:pt x="6" y="0"/>
                        </a:lnTo>
                        <a:lnTo>
                          <a:pt x="0" y="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3058560" y="4947840"/>
                    <a:ext cx="1306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5">
                        <a:moveTo>
                          <a:pt x="46" y="0"/>
                        </a:moveTo>
                        <a:lnTo>
                          <a:pt x="0" y="24"/>
                        </a:lnTo>
                        <a:lnTo>
                          <a:pt x="17" y="49"/>
                        </a:lnTo>
                        <a:lnTo>
                          <a:pt x="17" y="98"/>
                        </a:lnTo>
                        <a:lnTo>
                          <a:pt x="28" y="104"/>
                        </a:lnTo>
                        <a:lnTo>
                          <a:pt x="68" y="73"/>
                        </a:lnTo>
                        <a:lnTo>
                          <a:pt x="74" y="12"/>
                        </a:lnTo>
                        <a:lnTo>
                          <a:pt x="4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5" name=""/>
                <p:cNvSpPr/>
                <p:nvPr/>
              </p:nvSpPr>
              <p:spPr>
                <a:xfrm>
                  <a:off x="3226320" y="4777560"/>
                  <a:ext cx="80280" cy="82080"/>
                </a:xfrm>
                <a:custGeom>
                  <a:avLst/>
                  <a:gdLst/>
                  <a:ahLst/>
                  <a:rect l="l" t="t" r="r" b="b"/>
                  <a:pathLst>
                    <a:path w="46" h="56">
                      <a:moveTo>
                        <a:pt x="0" y="31"/>
                      </a:moveTo>
                      <a:lnTo>
                        <a:pt x="22" y="0"/>
                      </a:lnTo>
                      <a:lnTo>
                        <a:pt x="45" y="31"/>
                      </a:lnTo>
                      <a:lnTo>
                        <a:pt x="22" y="55"/>
                      </a:lnTo>
                      <a:lnTo>
                        <a:pt x="0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3151800" y="4656240"/>
                <a:ext cx="1148040" cy="798120"/>
                <a:chOff x="3151800" y="4656240"/>
                <a:chExt cx="1148040" cy="798120"/>
              </a:xfrm>
            </p:grpSpPr>
            <p:sp>
              <p:nvSpPr>
                <p:cNvPr id="2337" name=""/>
                <p:cNvSpPr/>
                <p:nvPr/>
              </p:nvSpPr>
              <p:spPr>
                <a:xfrm>
                  <a:off x="3504240" y="4682520"/>
                  <a:ext cx="2869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738600" y="4656240"/>
                  <a:ext cx="228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3945240" y="4879440"/>
                  <a:ext cx="35460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3279240" y="5023080"/>
                  <a:ext cx="40320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3836520" y="5067000"/>
                  <a:ext cx="30600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3181320" y="5093640"/>
                  <a:ext cx="218160" cy="21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3151800" y="4924800"/>
                  <a:ext cx="22680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3249360" y="4728240"/>
                  <a:ext cx="354600" cy="34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3562200" y="5121360"/>
                  <a:ext cx="35640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3993840" y="4754520"/>
                  <a:ext cx="2761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3915360" y="4656240"/>
                  <a:ext cx="25668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235320" y="4716360"/>
                  <a:ext cx="1001520" cy="635400"/>
                </a:xfrm>
                <a:custGeom>
                  <a:avLst/>
                  <a:gdLst/>
                  <a:ahLst/>
                  <a:rect l="l" t="t" r="r" b="b"/>
                  <a:pathLst>
                    <a:path w="573" h="433">
                      <a:moveTo>
                        <a:pt x="179" y="43"/>
                      </a:moveTo>
                      <a:lnTo>
                        <a:pt x="202" y="12"/>
                      </a:lnTo>
                      <a:lnTo>
                        <a:pt x="308" y="12"/>
                      </a:lnTo>
                      <a:lnTo>
                        <a:pt x="381" y="0"/>
                      </a:lnTo>
                      <a:lnTo>
                        <a:pt x="477" y="55"/>
                      </a:lnTo>
                      <a:lnTo>
                        <a:pt x="527" y="37"/>
                      </a:lnTo>
                      <a:lnTo>
                        <a:pt x="550" y="43"/>
                      </a:lnTo>
                      <a:lnTo>
                        <a:pt x="555" y="170"/>
                      </a:lnTo>
                      <a:lnTo>
                        <a:pt x="572" y="195"/>
                      </a:lnTo>
                      <a:lnTo>
                        <a:pt x="527" y="292"/>
                      </a:lnTo>
                      <a:lnTo>
                        <a:pt x="477" y="219"/>
                      </a:lnTo>
                      <a:lnTo>
                        <a:pt x="465" y="256"/>
                      </a:lnTo>
                      <a:lnTo>
                        <a:pt x="398" y="395"/>
                      </a:lnTo>
                      <a:lnTo>
                        <a:pt x="174" y="432"/>
                      </a:lnTo>
                      <a:lnTo>
                        <a:pt x="56" y="402"/>
                      </a:lnTo>
                      <a:lnTo>
                        <a:pt x="22" y="316"/>
                      </a:lnTo>
                      <a:lnTo>
                        <a:pt x="22" y="231"/>
                      </a:lnTo>
                      <a:lnTo>
                        <a:pt x="0" y="164"/>
                      </a:lnTo>
                      <a:lnTo>
                        <a:pt x="179" y="43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9" name=""/>
            <p:cNvSpPr/>
            <p:nvPr/>
          </p:nvSpPr>
          <p:spPr>
            <a:xfrm>
              <a:off x="3229920" y="4869360"/>
              <a:ext cx="9338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0" name=""/>
          <p:cNvSpPr/>
          <p:nvPr/>
        </p:nvSpPr>
        <p:spPr>
          <a:xfrm rot="2184000">
            <a:off x="6253200" y="3429000"/>
            <a:ext cx="822240" cy="9828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1" name=""/>
          <p:cNvGrpSpPr/>
          <p:nvPr/>
        </p:nvGrpSpPr>
        <p:grpSpPr>
          <a:xfrm>
            <a:off x="5257800" y="3886200"/>
            <a:ext cx="533160" cy="618840"/>
            <a:chOff x="5257800" y="3886200"/>
            <a:chExt cx="533160" cy="618840"/>
          </a:xfrm>
        </p:grpSpPr>
        <p:sp>
          <p:nvSpPr>
            <p:cNvPr id="2352" name=""/>
            <p:cNvSpPr/>
            <p:nvPr/>
          </p:nvSpPr>
          <p:spPr>
            <a:xfrm>
              <a:off x="5257800" y="4179600"/>
              <a:ext cx="487080" cy="32544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743080" y="4156560"/>
              <a:ext cx="37080" cy="34848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747040" y="4224960"/>
              <a:ext cx="37080" cy="22860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753880" y="4303080"/>
              <a:ext cx="37080" cy="554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701320" y="4156560"/>
              <a:ext cx="67320" cy="349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5729400" y="4125240"/>
              <a:ext cx="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5360400" y="4125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V="1">
              <a:off x="5701320" y="4137840"/>
              <a:ext cx="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5334120" y="413784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655240" y="4119480"/>
              <a:ext cx="76680" cy="349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287680" y="4119480"/>
              <a:ext cx="76680" cy="349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676840" y="412740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309640" y="412740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403960" y="422496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543640" y="422676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655240" y="4140000"/>
              <a:ext cx="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287680" y="4142160"/>
              <a:ext cx="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655240" y="4175280"/>
              <a:ext cx="47880" cy="84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287680" y="4177080"/>
              <a:ext cx="47880" cy="8280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334120" y="4193640"/>
              <a:ext cx="56880" cy="475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364720" y="4216320"/>
              <a:ext cx="272880" cy="3492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450040" y="4226760"/>
              <a:ext cx="80640" cy="349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V="1">
              <a:off x="5644440" y="4193280"/>
              <a:ext cx="2160" cy="3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257800" y="416484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366520" y="4261680"/>
              <a:ext cx="244800" cy="9072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375520" y="428040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380200" y="432576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421240" y="4402080"/>
              <a:ext cx="31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21240" y="4433040"/>
              <a:ext cx="31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23760" y="4464000"/>
              <a:ext cx="30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572440" y="439596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572440" y="442692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572440" y="445788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751360" y="437940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751360" y="440820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672520" y="3892680"/>
              <a:ext cx="37080" cy="2430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305680" y="3886200"/>
              <a:ext cx="37080" cy="24372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dentity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level encry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cast, multicast,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data, signa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6 bit to 168 bit key encryption (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/response based mutual authent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 pre-shared key or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based handover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e-Hellman exchange for ke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key refr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ERLAN/2 for Emerging Nomad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Data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 to 54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gence L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L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IPERLAN/2 Requirements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47560"/>
            <a:ext cx="7953480" cy="48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of IP transporting networks as well as ATM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able of supporting QoS based multimedia communications (802.1p, RSVP, A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act on the chosen medium access control (MAC)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ccess point (or base station) 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“Direct Mode” operation for peer-to-peer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able of offering access, switching and management functions within a large cover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age in indoor and outdoor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able of handling different interference and propagation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IPERLAN/2 Requirements -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360" y="1611000"/>
            <a:ext cx="833436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verage of radio cell @ 25 Mb/s: 30-40 m in a typical office indoor environment, 150 m in a large open indoor or typical outdoor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ts limit on the sensitivity of the modulation scheme to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ing asymmetrical traffic load fluctuating in up- and downlink and for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l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w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1523880"/>
            <a:ext cx="3124440" cy="20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29520" rIns="29520" tIns="14760" bIns="14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7432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1247200">
            <a:off x="5028840" y="3429000"/>
            <a:ext cx="3886200" cy="281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886200"/>
            <a:ext cx="4068720" cy="228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685800"/>
            <a:ext cx="3505320" cy="2057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362320" y="2133720"/>
            <a:ext cx="909360" cy="724680"/>
            <a:chOff x="2362320" y="2133720"/>
            <a:chExt cx="909360" cy="724680"/>
          </a:xfrm>
        </p:grpSpPr>
        <p:sp>
          <p:nvSpPr>
            <p:cNvPr id="66" name=""/>
            <p:cNvSpPr/>
            <p:nvPr/>
          </p:nvSpPr>
          <p:spPr>
            <a:xfrm>
              <a:off x="2362320" y="2133720"/>
              <a:ext cx="909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880" rIns="29880" tIns="14760" bIns="147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G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405880" y="2329200"/>
              <a:ext cx="395280" cy="529200"/>
              <a:chOff x="2405880" y="2329200"/>
              <a:chExt cx="395280" cy="529200"/>
            </a:xfrm>
          </p:grpSpPr>
          <p:sp>
            <p:nvSpPr>
              <p:cNvPr id="68" name=""/>
              <p:cNvSpPr/>
              <p:nvPr/>
            </p:nvSpPr>
            <p:spPr>
              <a:xfrm>
                <a:off x="2719080" y="2790720"/>
                <a:ext cx="42120" cy="6768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0" y="24"/>
                    </a:moveTo>
                    <a:lnTo>
                      <a:pt x="32" y="0"/>
                    </a:lnTo>
                    <a:lnTo>
                      <a:pt x="32" y="24"/>
                    </a:lnTo>
                    <a:lnTo>
                      <a:pt x="0" y="49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410920" y="2367360"/>
                <a:ext cx="344880" cy="451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72052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44548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8336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646000" y="2367360"/>
                <a:ext cx="29160" cy="56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61200" y="2329200"/>
                <a:ext cx="39600" cy="496800"/>
              </a:xfrm>
              <a:custGeom>
                <a:avLst/>
                <a:gdLst/>
                <a:ahLst/>
                <a:rect l="l" t="t" r="r" b="b"/>
                <a:pathLst>
                  <a:path w="31" h="366">
                    <a:moveTo>
                      <a:pt x="0" y="24"/>
                    </a:moveTo>
                    <a:lnTo>
                      <a:pt x="30" y="0"/>
                    </a:lnTo>
                    <a:lnTo>
                      <a:pt x="30" y="340"/>
                    </a:lnTo>
                    <a:lnTo>
                      <a:pt x="0" y="365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05880" y="2329200"/>
                <a:ext cx="395280" cy="33840"/>
              </a:xfrm>
              <a:custGeom>
                <a:avLst/>
                <a:gdLst/>
                <a:ahLst/>
                <a:rect l="l" t="t" r="r" b="b"/>
                <a:pathLst>
                  <a:path w="309" h="25">
                    <a:moveTo>
                      <a:pt x="276" y="24"/>
                    </a:moveTo>
                    <a:lnTo>
                      <a:pt x="308" y="0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50520" y="2829960"/>
                <a:ext cx="264600" cy="21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6840" bIns="6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3124080" y="2133720"/>
            <a:ext cx="909720" cy="726120"/>
            <a:chOff x="3124080" y="2133720"/>
            <a:chExt cx="909720" cy="726120"/>
          </a:xfrm>
        </p:grpSpPr>
        <p:sp>
          <p:nvSpPr>
            <p:cNvPr id="78" name=""/>
            <p:cNvSpPr/>
            <p:nvPr/>
          </p:nvSpPr>
          <p:spPr>
            <a:xfrm>
              <a:off x="3124080" y="2133720"/>
              <a:ext cx="9097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880" rIns="29880" tIns="14760" bIns="147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G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167640" y="2329560"/>
              <a:ext cx="396360" cy="530280"/>
              <a:chOff x="3167640" y="2329560"/>
              <a:chExt cx="396360" cy="530280"/>
            </a:xfrm>
          </p:grpSpPr>
          <p:sp>
            <p:nvSpPr>
              <p:cNvPr id="80" name=""/>
              <p:cNvSpPr/>
              <p:nvPr/>
            </p:nvSpPr>
            <p:spPr>
              <a:xfrm>
                <a:off x="3481560" y="2792160"/>
                <a:ext cx="42120" cy="6768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0" y="24"/>
                    </a:moveTo>
                    <a:lnTo>
                      <a:pt x="32" y="0"/>
                    </a:lnTo>
                    <a:lnTo>
                      <a:pt x="32" y="24"/>
                    </a:lnTo>
                    <a:lnTo>
                      <a:pt x="0" y="49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172680" y="2367720"/>
                <a:ext cx="345960" cy="452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83000" y="2363760"/>
                <a:ext cx="0" cy="4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07240" y="2363760"/>
                <a:ext cx="0" cy="4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345840" y="2363760"/>
                <a:ext cx="0" cy="4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08480" y="2367720"/>
                <a:ext cx="29160" cy="56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524040" y="2329560"/>
                <a:ext cx="39600" cy="497880"/>
              </a:xfrm>
              <a:custGeom>
                <a:avLst/>
                <a:gdLst/>
                <a:ahLst/>
                <a:rect l="l" t="t" r="r" b="b"/>
                <a:pathLst>
                  <a:path w="31" h="366">
                    <a:moveTo>
                      <a:pt x="0" y="24"/>
                    </a:moveTo>
                    <a:lnTo>
                      <a:pt x="30" y="0"/>
                    </a:lnTo>
                    <a:lnTo>
                      <a:pt x="30" y="340"/>
                    </a:lnTo>
                    <a:lnTo>
                      <a:pt x="0" y="365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67640" y="2329560"/>
                <a:ext cx="396360" cy="34200"/>
              </a:xfrm>
              <a:custGeom>
                <a:avLst/>
                <a:gdLst/>
                <a:ahLst/>
                <a:rect l="l" t="t" r="r" b="b"/>
                <a:pathLst>
                  <a:path w="309" h="25">
                    <a:moveTo>
                      <a:pt x="276" y="24"/>
                    </a:moveTo>
                    <a:lnTo>
                      <a:pt x="308" y="0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12280" y="2831400"/>
                <a:ext cx="265320" cy="21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6840" bIns="6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1600200" y="2133720"/>
            <a:ext cx="909720" cy="724680"/>
            <a:chOff x="1600200" y="2133720"/>
            <a:chExt cx="909720" cy="724680"/>
          </a:xfrm>
        </p:grpSpPr>
        <p:sp>
          <p:nvSpPr>
            <p:cNvPr id="90" name=""/>
            <p:cNvSpPr/>
            <p:nvPr/>
          </p:nvSpPr>
          <p:spPr>
            <a:xfrm>
              <a:off x="1600200" y="2133720"/>
              <a:ext cx="9097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880" rIns="29880" tIns="14760" bIns="147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W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643760" y="2329200"/>
              <a:ext cx="396360" cy="529200"/>
              <a:chOff x="1643760" y="2329200"/>
              <a:chExt cx="396360" cy="529200"/>
            </a:xfrm>
          </p:grpSpPr>
          <p:sp>
            <p:nvSpPr>
              <p:cNvPr id="92" name=""/>
              <p:cNvSpPr/>
              <p:nvPr/>
            </p:nvSpPr>
            <p:spPr>
              <a:xfrm>
                <a:off x="1957680" y="2790720"/>
                <a:ext cx="42120" cy="6768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0" y="24"/>
                    </a:moveTo>
                    <a:lnTo>
                      <a:pt x="32" y="0"/>
                    </a:lnTo>
                    <a:lnTo>
                      <a:pt x="32" y="24"/>
                    </a:lnTo>
                    <a:lnTo>
                      <a:pt x="0" y="49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48800" y="2367360"/>
                <a:ext cx="345960" cy="451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912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68336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2196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884600" y="2367360"/>
                <a:ext cx="29160" cy="56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00160" y="2329200"/>
                <a:ext cx="39600" cy="496800"/>
              </a:xfrm>
              <a:custGeom>
                <a:avLst/>
                <a:gdLst/>
                <a:ahLst/>
                <a:rect l="l" t="t" r="r" b="b"/>
                <a:pathLst>
                  <a:path w="31" h="366">
                    <a:moveTo>
                      <a:pt x="0" y="24"/>
                    </a:moveTo>
                    <a:lnTo>
                      <a:pt x="30" y="0"/>
                    </a:lnTo>
                    <a:lnTo>
                      <a:pt x="30" y="340"/>
                    </a:lnTo>
                    <a:lnTo>
                      <a:pt x="0" y="365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43760" y="2329200"/>
                <a:ext cx="396360" cy="33840"/>
              </a:xfrm>
              <a:custGeom>
                <a:avLst/>
                <a:gdLst/>
                <a:ahLst/>
                <a:rect l="l" t="t" r="r" b="b"/>
                <a:pathLst>
                  <a:path w="309" h="25">
                    <a:moveTo>
                      <a:pt x="276" y="24"/>
                    </a:moveTo>
                    <a:lnTo>
                      <a:pt x="308" y="0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88400" y="2829960"/>
                <a:ext cx="265320" cy="21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6840" bIns="6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7110360" y="4343400"/>
            <a:ext cx="135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94480" y="4343400"/>
            <a:ext cx="86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409720" y="3657600"/>
            <a:ext cx="11430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0960" y="3581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7280" y="396252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5240" y="83808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1640" y="167652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PRS/U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590560" y="3581280"/>
            <a:ext cx="190476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638680" y="25909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3040" y="4067280"/>
            <a:ext cx="85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343400" y="2895480"/>
            <a:ext cx="1567440" cy="798120"/>
            <a:chOff x="4343400" y="2895480"/>
            <a:chExt cx="1567440" cy="798120"/>
          </a:xfrm>
        </p:grpSpPr>
        <p:grpSp>
          <p:nvGrpSpPr>
            <p:cNvPr id="112" name=""/>
            <p:cNvGrpSpPr/>
            <p:nvPr/>
          </p:nvGrpSpPr>
          <p:grpSpPr>
            <a:xfrm>
              <a:off x="4343400" y="2895480"/>
              <a:ext cx="1567440" cy="798120"/>
              <a:chOff x="4343400" y="2895480"/>
              <a:chExt cx="1567440" cy="7981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5264640" y="2967480"/>
                <a:ext cx="646200" cy="690480"/>
                <a:chOff x="5264640" y="2967480"/>
                <a:chExt cx="646200" cy="69048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5509080" y="2967480"/>
                  <a:ext cx="401760" cy="556920"/>
                  <a:chOff x="5509080" y="2967480"/>
                  <a:chExt cx="401760" cy="55692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5617440" y="3039120"/>
                    <a:ext cx="293400" cy="412920"/>
                    <a:chOff x="5617440" y="3039120"/>
                    <a:chExt cx="293400" cy="412920"/>
                  </a:xfrm>
                </p:grpSpPr>
                <p:grpSp>
                  <p:nvGrpSpPr>
                    <p:cNvPr id="116" name=""/>
                    <p:cNvGrpSpPr/>
                    <p:nvPr/>
                  </p:nvGrpSpPr>
                  <p:grpSpPr>
                    <a:xfrm>
                      <a:off x="5617440" y="3039120"/>
                      <a:ext cx="293400" cy="412920"/>
                      <a:chOff x="5617440" y="3039120"/>
                      <a:chExt cx="293400" cy="412920"/>
                    </a:xfrm>
                  </p:grpSpPr>
                  <p:grpSp>
                    <p:nvGrpSpPr>
                      <p:cNvPr id="117" name=""/>
                      <p:cNvGrpSpPr/>
                      <p:nvPr/>
                    </p:nvGrpSpPr>
                    <p:grpSpPr>
                      <a:xfrm>
                        <a:off x="5685120" y="3065040"/>
                        <a:ext cx="225720" cy="332280"/>
                        <a:chOff x="5685120" y="3065040"/>
                        <a:chExt cx="225720" cy="332280"/>
                      </a:xfrm>
                    </p:grpSpPr>
                    <p:grpSp>
                      <p:nvGrpSpPr>
                        <p:cNvPr id="118" name=""/>
                        <p:cNvGrpSpPr/>
                        <p:nvPr/>
                      </p:nvGrpSpPr>
                      <p:grpSpPr>
                        <a:xfrm>
                          <a:off x="5714280" y="3065040"/>
                          <a:ext cx="196560" cy="332280"/>
                          <a:chOff x="5714280" y="3065040"/>
                          <a:chExt cx="196560" cy="332280"/>
                        </a:xfrm>
                      </p:grpSpPr>
                      <p:sp>
                        <p:nvSpPr>
                          <p:cNvPr id="119" name=""/>
                          <p:cNvSpPr/>
                          <p:nvPr/>
                        </p:nvSpPr>
                        <p:spPr>
                          <a:xfrm>
                            <a:off x="5811480" y="3261240"/>
                            <a:ext cx="993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" name=""/>
                          <p:cNvSpPr/>
                          <p:nvPr/>
                        </p:nvSpPr>
                        <p:spPr>
                          <a:xfrm>
                            <a:off x="5733360" y="3278880"/>
                            <a:ext cx="12852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" name=""/>
                          <p:cNvSpPr/>
                          <p:nvPr/>
                        </p:nvSpPr>
                        <p:spPr>
                          <a:xfrm>
                            <a:off x="5792760" y="3136680"/>
                            <a:ext cx="885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" name=""/>
                          <p:cNvSpPr/>
                          <p:nvPr/>
                        </p:nvSpPr>
                        <p:spPr>
                          <a:xfrm>
                            <a:off x="5714280" y="3065040"/>
                            <a:ext cx="11808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3" name=""/>
                          <p:cNvSpPr/>
                          <p:nvPr/>
                        </p:nvSpPr>
                        <p:spPr>
                          <a:xfrm>
                            <a:off x="5789160" y="3133800"/>
                            <a:ext cx="88560" cy="196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134">
                                <a:moveTo>
                                  <a:pt x="50" y="133"/>
                                </a:moveTo>
                                <a:lnTo>
                                  <a:pt x="28" y="133"/>
                                </a:lnTo>
                                <a:lnTo>
                                  <a:pt x="0" y="0"/>
                                </a:lnTo>
                                <a:lnTo>
                                  <a:pt x="28" y="12"/>
                                </a:lnTo>
                                <a:lnTo>
                                  <a:pt x="33" y="79"/>
                                </a:lnTo>
                                <a:lnTo>
                                  <a:pt x="50" y="133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>
                          <a:off x="5685120" y="3162960"/>
                          <a:ext cx="177120" cy="1627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>
                          <a:off x="5685120" y="3261240"/>
                          <a:ext cx="128520" cy="11844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080" bIns="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5719680" y="3114720"/>
                          <a:ext cx="90360" cy="206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41">
                              <a:moveTo>
                                <a:pt x="51" y="24"/>
                              </a:moveTo>
                              <a:lnTo>
                                <a:pt x="45" y="55"/>
                              </a:lnTo>
                              <a:lnTo>
                                <a:pt x="51" y="122"/>
                              </a:lnTo>
                              <a:lnTo>
                                <a:pt x="34" y="140"/>
                              </a:lnTo>
                              <a:lnTo>
                                <a:pt x="0" y="61"/>
                              </a:lnTo>
                              <a:lnTo>
                                <a:pt x="28" y="0"/>
                              </a:lnTo>
                              <a:lnTo>
                                <a:pt x="51" y="24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5685120" y="3359880"/>
                        <a:ext cx="99000" cy="92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720" bIns="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5617440" y="3039120"/>
                        <a:ext cx="119880" cy="118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5711400" y="3330720"/>
                        <a:ext cx="6948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31">
                            <a:moveTo>
                              <a:pt x="39" y="18"/>
                            </a:moveTo>
                            <a:lnTo>
                              <a:pt x="28" y="30"/>
                            </a:lnTo>
                            <a:lnTo>
                              <a:pt x="0" y="18"/>
                            </a:lnTo>
                            <a:lnTo>
                              <a:pt x="28" y="0"/>
                            </a:lnTo>
                            <a:lnTo>
                              <a:pt x="39" y="1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5700600" y="3090240"/>
                      <a:ext cx="41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49">
                          <a:moveTo>
                            <a:pt x="11" y="0"/>
                          </a:moveTo>
                          <a:lnTo>
                            <a:pt x="23" y="6"/>
                          </a:lnTo>
                          <a:lnTo>
                            <a:pt x="23" y="48"/>
                          </a:lnTo>
                          <a:lnTo>
                            <a:pt x="0" y="4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5509080" y="2967480"/>
                    <a:ext cx="275400" cy="502560"/>
                    <a:chOff x="5509080" y="2967480"/>
                    <a:chExt cx="275400" cy="50256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5538600" y="3261960"/>
                      <a:ext cx="226440" cy="208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5558040" y="3118320"/>
                      <a:ext cx="22644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5509080" y="2967480"/>
                      <a:ext cx="177840" cy="163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5615280" y="3065400"/>
                      <a:ext cx="90360" cy="92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720" bIns="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5554440" y="3044880"/>
                      <a:ext cx="156960" cy="18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129">
                          <a:moveTo>
                            <a:pt x="61" y="6"/>
                          </a:moveTo>
                          <a:lnTo>
                            <a:pt x="61" y="18"/>
                          </a:lnTo>
                          <a:lnTo>
                            <a:pt x="83" y="49"/>
                          </a:lnTo>
                          <a:lnTo>
                            <a:pt x="89" y="55"/>
                          </a:lnTo>
                          <a:lnTo>
                            <a:pt x="56" y="128"/>
                          </a:lnTo>
                          <a:lnTo>
                            <a:pt x="0" y="0"/>
                          </a:lnTo>
                          <a:lnTo>
                            <a:pt x="61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5632560" y="3294360"/>
                      <a:ext cx="9756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44">
                          <a:moveTo>
                            <a:pt x="49" y="6"/>
                          </a:moveTo>
                          <a:lnTo>
                            <a:pt x="55" y="18"/>
                          </a:lnTo>
                          <a:lnTo>
                            <a:pt x="0" y="43"/>
                          </a:lnTo>
                          <a:lnTo>
                            <a:pt x="0" y="0"/>
                          </a:lnTo>
                          <a:lnTo>
                            <a:pt x="49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" name=""/>
                  <p:cNvSpPr/>
                  <p:nvPr/>
                </p:nvSpPr>
                <p:spPr>
                  <a:xfrm>
                    <a:off x="5509080" y="340596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584320" y="3394080"/>
                    <a:ext cx="694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3">
                        <a:moveTo>
                          <a:pt x="17" y="42"/>
                        </a:moveTo>
                        <a:lnTo>
                          <a:pt x="39" y="30"/>
                        </a:lnTo>
                        <a:lnTo>
                          <a:pt x="11" y="0"/>
                        </a:lnTo>
                        <a:lnTo>
                          <a:pt x="0" y="12"/>
                        </a:lnTo>
                        <a:lnTo>
                          <a:pt x="17" y="4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5264640" y="3511800"/>
                  <a:ext cx="150120" cy="14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381280" y="3511800"/>
                  <a:ext cx="13104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49680" y="3476520"/>
                  <a:ext cx="131040" cy="11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348160" y="3456000"/>
                  <a:ext cx="246240" cy="162720"/>
                </a:xfrm>
                <a:custGeom>
                  <a:avLst/>
                  <a:gdLst/>
                  <a:ahLst/>
                  <a:rect l="l" t="t" r="r" b="b"/>
                  <a:pathLst>
                    <a:path w="141" h="111">
                      <a:moveTo>
                        <a:pt x="134" y="31"/>
                      </a:moveTo>
                      <a:lnTo>
                        <a:pt x="118" y="37"/>
                      </a:lnTo>
                      <a:lnTo>
                        <a:pt x="78" y="79"/>
                      </a:lnTo>
                      <a:lnTo>
                        <a:pt x="73" y="98"/>
                      </a:lnTo>
                      <a:lnTo>
                        <a:pt x="28" y="98"/>
                      </a:lnTo>
                      <a:lnTo>
                        <a:pt x="22" y="110"/>
                      </a:lnTo>
                      <a:lnTo>
                        <a:pt x="0" y="73"/>
                      </a:lnTo>
                      <a:lnTo>
                        <a:pt x="95" y="0"/>
                      </a:lnTo>
                      <a:lnTo>
                        <a:pt x="140" y="18"/>
                      </a:lnTo>
                      <a:lnTo>
                        <a:pt x="134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343400" y="2976120"/>
                <a:ext cx="393840" cy="476280"/>
                <a:chOff x="4343400" y="2976120"/>
                <a:chExt cx="393840" cy="4762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4343400" y="3039120"/>
                  <a:ext cx="217800" cy="288360"/>
                  <a:chOff x="4343400" y="3039120"/>
                  <a:chExt cx="217800" cy="2883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4343400" y="3137040"/>
                    <a:ext cx="1011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362120" y="3209040"/>
                    <a:ext cx="12060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381560" y="303912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369320" y="3143160"/>
                    <a:ext cx="694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8">
                        <a:moveTo>
                          <a:pt x="22" y="0"/>
                        </a:moveTo>
                        <a:lnTo>
                          <a:pt x="0" y="12"/>
                        </a:lnTo>
                        <a:lnTo>
                          <a:pt x="0" y="55"/>
                        </a:lnTo>
                        <a:lnTo>
                          <a:pt x="11" y="67"/>
                        </a:lnTo>
                        <a:lnTo>
                          <a:pt x="39" y="55"/>
                        </a:lnTo>
                        <a:lnTo>
                          <a:pt x="2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4411440" y="2976120"/>
                  <a:ext cx="325800" cy="476280"/>
                  <a:chOff x="4411440" y="2976120"/>
                  <a:chExt cx="325800" cy="47628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4519440" y="2993400"/>
                    <a:ext cx="217800" cy="218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411440" y="313740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4440960" y="3207960"/>
                    <a:ext cx="16920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489560" y="327960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500360" y="3091680"/>
                    <a:ext cx="158400" cy="14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627800" y="2976120"/>
                    <a:ext cx="9900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545360" y="3062520"/>
                    <a:ext cx="1184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12"/>
                        </a:moveTo>
                        <a:lnTo>
                          <a:pt x="11" y="37"/>
                        </a:lnTo>
                        <a:lnTo>
                          <a:pt x="67" y="55"/>
                        </a:lnTo>
                        <a:lnTo>
                          <a:pt x="67" y="18"/>
                        </a:lnTo>
                        <a:lnTo>
                          <a:pt x="6" y="0"/>
                        </a:lnTo>
                        <a:lnTo>
                          <a:pt x="0" y="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446000" y="3187080"/>
                    <a:ext cx="1306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5">
                        <a:moveTo>
                          <a:pt x="46" y="0"/>
                        </a:moveTo>
                        <a:lnTo>
                          <a:pt x="0" y="24"/>
                        </a:lnTo>
                        <a:lnTo>
                          <a:pt x="17" y="49"/>
                        </a:lnTo>
                        <a:lnTo>
                          <a:pt x="17" y="98"/>
                        </a:lnTo>
                        <a:lnTo>
                          <a:pt x="28" y="104"/>
                        </a:lnTo>
                        <a:lnTo>
                          <a:pt x="68" y="73"/>
                        </a:lnTo>
                        <a:lnTo>
                          <a:pt x="74" y="12"/>
                        </a:lnTo>
                        <a:lnTo>
                          <a:pt x="4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4613760" y="3016800"/>
                  <a:ext cx="80280" cy="82080"/>
                </a:xfrm>
                <a:custGeom>
                  <a:avLst/>
                  <a:gdLst/>
                  <a:ahLst/>
                  <a:rect l="l" t="t" r="r" b="b"/>
                  <a:pathLst>
                    <a:path w="46" h="56">
                      <a:moveTo>
                        <a:pt x="0" y="31"/>
                      </a:moveTo>
                      <a:lnTo>
                        <a:pt x="22" y="0"/>
                      </a:lnTo>
                      <a:lnTo>
                        <a:pt x="45" y="31"/>
                      </a:lnTo>
                      <a:lnTo>
                        <a:pt x="22" y="55"/>
                      </a:lnTo>
                      <a:lnTo>
                        <a:pt x="0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539240" y="2895480"/>
                <a:ext cx="1148040" cy="798120"/>
                <a:chOff x="4539240" y="2895480"/>
                <a:chExt cx="1148040" cy="798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891680" y="2921760"/>
                  <a:ext cx="2869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126040" y="2895480"/>
                  <a:ext cx="228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32680" y="3118680"/>
                  <a:ext cx="35460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666680" y="3262320"/>
                  <a:ext cx="40320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23960" y="3306240"/>
                  <a:ext cx="30600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68760" y="3332880"/>
                  <a:ext cx="218160" cy="21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539240" y="3164040"/>
                  <a:ext cx="22680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636800" y="2967480"/>
                  <a:ext cx="354600" cy="34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949640" y="3360600"/>
                  <a:ext cx="35640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381280" y="2993760"/>
                  <a:ext cx="2761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02800" y="2895480"/>
                  <a:ext cx="25668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22760" y="2955600"/>
                  <a:ext cx="1001520" cy="635400"/>
                </a:xfrm>
                <a:custGeom>
                  <a:avLst/>
                  <a:gdLst/>
                  <a:ahLst/>
                  <a:rect l="l" t="t" r="r" b="b"/>
                  <a:pathLst>
                    <a:path w="573" h="433">
                      <a:moveTo>
                        <a:pt x="179" y="43"/>
                      </a:moveTo>
                      <a:lnTo>
                        <a:pt x="202" y="12"/>
                      </a:lnTo>
                      <a:lnTo>
                        <a:pt x="308" y="12"/>
                      </a:lnTo>
                      <a:lnTo>
                        <a:pt x="381" y="0"/>
                      </a:lnTo>
                      <a:lnTo>
                        <a:pt x="477" y="55"/>
                      </a:lnTo>
                      <a:lnTo>
                        <a:pt x="527" y="37"/>
                      </a:lnTo>
                      <a:lnTo>
                        <a:pt x="550" y="43"/>
                      </a:lnTo>
                      <a:lnTo>
                        <a:pt x="555" y="170"/>
                      </a:lnTo>
                      <a:lnTo>
                        <a:pt x="572" y="195"/>
                      </a:lnTo>
                      <a:lnTo>
                        <a:pt x="527" y="292"/>
                      </a:lnTo>
                      <a:lnTo>
                        <a:pt x="477" y="219"/>
                      </a:lnTo>
                      <a:lnTo>
                        <a:pt x="465" y="256"/>
                      </a:lnTo>
                      <a:lnTo>
                        <a:pt x="398" y="395"/>
                      </a:lnTo>
                      <a:lnTo>
                        <a:pt x="174" y="432"/>
                      </a:lnTo>
                      <a:lnTo>
                        <a:pt x="56" y="402"/>
                      </a:lnTo>
                      <a:lnTo>
                        <a:pt x="22" y="316"/>
                      </a:lnTo>
                      <a:lnTo>
                        <a:pt x="22" y="231"/>
                      </a:lnTo>
                      <a:lnTo>
                        <a:pt x="0" y="164"/>
                      </a:lnTo>
                      <a:lnTo>
                        <a:pt x="179" y="43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4617360" y="3108600"/>
              <a:ext cx="9338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91320" y="3581280"/>
            <a:ext cx="436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6705720" y="4648320"/>
            <a:ext cx="1294920" cy="685440"/>
            <a:chOff x="6705720" y="4648320"/>
            <a:chExt cx="1294920" cy="685440"/>
          </a:xfrm>
        </p:grpSpPr>
        <p:grpSp>
          <p:nvGrpSpPr>
            <p:cNvPr id="176" name=""/>
            <p:cNvGrpSpPr/>
            <p:nvPr/>
          </p:nvGrpSpPr>
          <p:grpSpPr>
            <a:xfrm>
              <a:off x="6705720" y="4648320"/>
              <a:ext cx="1005480" cy="685440"/>
              <a:chOff x="6705720" y="4648320"/>
              <a:chExt cx="1005480" cy="685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34940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4112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31760" y="4648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2348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1484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0584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9612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8676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7740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6804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5868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25040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24068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3168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21960" y="4655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2600" y="4655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03600" y="4656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94960" y="4659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85600" y="4659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176240" y="4660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66880" y="4660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157520" y="4663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148160" y="46652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39880" y="466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30160" y="466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20800" y="4669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11440" y="4671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102080" y="46738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092720" y="4675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84440" y="46782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75080" y="4679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66800" y="4682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058520" y="4683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048800" y="4686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039440" y="4690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030080" y="4692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20720" y="4695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011360" y="46994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03800" y="4700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4800" y="47052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85080" y="4707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75720" y="4710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67440" y="4713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59160" y="4717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949800" y="4722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941520" y="4723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932160" y="4727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923880" y="4731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15600" y="4736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05880" y="4740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97600" y="474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888240" y="4750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881040" y="4754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71320" y="475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864120" y="4766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54760" y="477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847560" y="4776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838200" y="4780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30640" y="4787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822360" y="4793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813000" y="4799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05800" y="48063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798600" y="4811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89960" y="4818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82760" y="4827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74480" y="4833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69080" y="4841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60800" y="4849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54680" y="485892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47480" y="4867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41000" y="4874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34880" y="4885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30560" y="48956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24440" y="4907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19400" y="49172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15080" y="49269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11840" y="4938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08600" y="4949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07520" y="4962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05720" y="4975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05720" y="4988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705720" y="5001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07520" y="50137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08600" y="50252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11840" y="5036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15080" y="50493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719400" y="50594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725520" y="5069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30560" y="50806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34880" y="5090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41000" y="5099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48200" y="5109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54680" y="511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60800" y="512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69080" y="5134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76640" y="5141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2760" y="5148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89960" y="5155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98600" y="5164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805800" y="5170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13000" y="51775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22360" y="5182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30640" y="5188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38200" y="5195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47560" y="5200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54760" y="52059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64120" y="5210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71320" y="5217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81040" y="5220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888240" y="5224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897600" y="5231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05880" y="5235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915600" y="5240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23880" y="5244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32160" y="5248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41520" y="52498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49800" y="52542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59160" y="5258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967440" y="5262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975720" y="52642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85080" y="5268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94800" y="5271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03800" y="52754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011360" y="5276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20720" y="52812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30080" y="5284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39440" y="5285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48800" y="5288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58520" y="5292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66800" y="5293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075080" y="5297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84440" y="529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92720" y="5299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02080" y="5302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11440" y="5303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120800" y="5306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3016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13988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148160" y="5311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157520" y="5312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6688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176240" y="53154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8560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9496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203600" y="53197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1260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2196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3168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24068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25040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5868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26804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7740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28676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9612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058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148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2348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3248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422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5156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6092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7028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78560" y="5328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8792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976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4070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160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42356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432920" y="5325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442280" y="5325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45164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459920" y="5324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69280" y="5324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7900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88000" y="5321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97720" y="5319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50708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51644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2472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3408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43440" y="5312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52800" y="5311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56252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7152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80160" y="53067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589520" y="5303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598880" y="53028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8240" y="5299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617600" y="529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626960" y="5297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4520" y="5293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643880" y="5292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52880" y="5288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61520" y="5285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70880" y="5284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80240" y="52812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89600" y="5276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8960" y="52754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06160" y="5271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715880" y="5268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5240" y="5264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34600" y="52628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42160" y="5258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51520" y="52542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60880" y="524988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70240" y="5248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77440" y="52441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86800" y="52401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96160" y="5235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03720" y="5231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13080" y="5224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20280" y="5220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29640" y="5217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36840" y="5210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46560" y="52059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54840" y="5200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63120" y="51958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71400" y="5188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78960" y="5182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87960" y="51775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95520" y="5170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03800" y="51645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11000" y="5155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18200" y="51487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24680" y="51418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32960" y="5134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40520" y="5126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46640" y="5117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52760" y="5109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960320" y="5099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66440" y="5090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71480" y="5080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76880" y="5069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81920" y="50594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86240" y="5049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89480" y="50364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92360" y="5025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94520" y="5013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95600" y="50011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95600" y="4988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95600" y="4975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94520" y="4962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92360" y="49496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89480" y="49384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240" y="492696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81920" y="49172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76880" y="49071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71480" y="489564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66440" y="48859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60320" y="48744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53840" y="4867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46640" y="48589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40520" y="4849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32960" y="4841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26840" y="4833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18200" y="48276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11000" y="48189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03800" y="4811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95520" y="4806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87960" y="4799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78960" y="47934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71400" y="4787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63120" y="47804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54840" y="4776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46560" y="47703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36840" y="4766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29640" y="475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20280" y="4754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13080" y="4750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03720" y="4744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96160" y="4740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86800" y="47365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77440" y="4731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70240" y="47278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760880" y="4723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51520" y="4722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42160" y="4717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4600" y="4713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25240" y="4710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15880" y="4707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06520" y="47052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97160" y="4700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89960" y="4699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80600" y="46951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70880" y="4692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1880" y="4690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3240" y="4686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43880" y="4683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34520" y="46821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27320" y="4679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7600" y="46782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08600" y="4675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98880" y="46738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89520" y="4671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80520" y="46695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71880" y="4668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62520" y="4668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53160" y="46652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43800" y="46638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34440" y="46609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25080" y="46609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16800" y="4659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07080" y="4659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97720" y="46569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88360" y="46551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79000" y="4655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69640" y="4652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0280" y="4652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52000" y="4652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42280" y="4651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33280" y="4651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23560" y="4651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14200" y="4648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404840" y="4648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96560" y="4648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87200" y="4648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7784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6812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5912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51560" y="464832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 flipV="1">
            <a:off x="7543800" y="434304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0920" y="4724280"/>
            <a:ext cx="135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74680" y="4724280"/>
            <a:ext cx="86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414520" y="5029200"/>
            <a:ext cx="1295280" cy="685440"/>
            <a:chOff x="2414520" y="5029200"/>
            <a:chExt cx="1295280" cy="685440"/>
          </a:xfrm>
        </p:grpSpPr>
        <p:grpSp>
          <p:nvGrpSpPr>
            <p:cNvPr id="502" name=""/>
            <p:cNvGrpSpPr/>
            <p:nvPr/>
          </p:nvGrpSpPr>
          <p:grpSpPr>
            <a:xfrm>
              <a:off x="2414520" y="5029200"/>
              <a:ext cx="1005840" cy="685440"/>
              <a:chOff x="2414520" y="5029200"/>
              <a:chExt cx="1005840" cy="685440"/>
            </a:xfrm>
          </p:grpSpPr>
          <p:sp>
            <p:nvSpPr>
              <p:cNvPr id="503" name=""/>
              <p:cNvSpPr/>
              <p:nvPr/>
            </p:nvSpPr>
            <p:spPr>
              <a:xfrm>
                <a:off x="305856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05028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040560" y="5029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03228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2400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01464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0528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99556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98656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7720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6748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5920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4984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4048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31120" y="5036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921760" y="5036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12400" y="5037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03760" y="504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894760" y="504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85040" y="5041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75680" y="5041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866320" y="5044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856960" y="5046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848680" y="504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39320" y="504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829960" y="5050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20600" y="5051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11240" y="50547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01520" y="5056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793240" y="50590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783880" y="5060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775600" y="5063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67320" y="5064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57960" y="5067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748240" y="5071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739240" y="5073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729520" y="5076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20160" y="50803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712960" y="5081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703600" y="50860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94240" y="50886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684520" y="5091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676240" y="5094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667960" y="5098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658600" y="5103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650320" y="5104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640960" y="5108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632680" y="5112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624400" y="5117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14680" y="5121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06400" y="5125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97040" y="5131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89840" y="5135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80120" y="5140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72920" y="5146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563560" y="51512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56360" y="5157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47000" y="5161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39440" y="5168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31160" y="5174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21800" y="5180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14600" y="5187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07400" y="5192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498760" y="51998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91920" y="52084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483280" y="5213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477880" y="5222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469600" y="5230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463480" y="52398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456280" y="5248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49800" y="5255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43680" y="5266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39360" y="52765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433240" y="5288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428200" y="5298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423880" y="53078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20640" y="5319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17400" y="5330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416320" y="5343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14520" y="5356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14520" y="5369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14520" y="5382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16320" y="5394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17400" y="5406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20640" y="5417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23880" y="5430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28200" y="54403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434320" y="5450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439360" y="54615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43680" y="5471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49800" y="5479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57360" y="5490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63480" y="5498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69600" y="55072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477880" y="5515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485440" y="5522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491920" y="5529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498760" y="5536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07400" y="5545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14600" y="5551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21800" y="55584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531160" y="5563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39440" y="5569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47000" y="5576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556360" y="5581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563560" y="558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572920" y="5591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80120" y="559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89840" y="5600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597040" y="5605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06400" y="5612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14680" y="5616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624400" y="5621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32680" y="5625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40960" y="56293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650320" y="5630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658600" y="56350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667960" y="5639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676240" y="56437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684520" y="5645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694240" y="5649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703600" y="5652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712960" y="56563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720160" y="5657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29520" y="5662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39240" y="56649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748240" y="5666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757960" y="5669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767320" y="5673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775600" y="5674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83880" y="567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93240" y="567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801520" y="5680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811240" y="5683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820600" y="5684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29960" y="5687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83932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84868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856960" y="5691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66320" y="5693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87568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885040" y="5696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89476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0376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12400" y="57006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92176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93112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94048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94984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5920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6748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97720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98656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55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0528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0146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240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3228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4164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510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6072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7008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0794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087720" y="57088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09708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1064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1161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251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3272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142080" y="5706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151440" y="5706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16080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169080" y="570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78440" y="570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780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197160" y="57020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206520" y="5700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21624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22560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23388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4324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252600" y="5693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261960" y="56919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27168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28068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89320" y="56876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298680" y="5684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08040" y="56836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17400" y="5680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326760" y="567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336120" y="567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43320" y="5674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53040" y="5673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362040" y="5669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370680" y="566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380040" y="5664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389400" y="5662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398760" y="5657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408120" y="56563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415320" y="5652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3425040" y="5649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4400" y="5645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43760" y="5643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450960" y="56394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60680" y="56350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469680" y="563076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79400" y="5629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86600" y="56250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95960" y="56210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05320" y="5616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12520" y="56124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22240" y="5605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29440" y="5600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38800" y="5598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46000" y="5591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55360" y="55868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63640" y="5581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572280" y="5576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580560" y="5569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87760" y="5563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97120" y="55584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04680" y="5551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12960" y="5545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20160" y="5536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27360" y="55296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33840" y="5522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42120" y="5515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49320" y="5507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55800" y="5498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661920" y="5490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69480" y="5479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75600" y="54716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80640" y="54615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686040" y="54500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91080" y="54403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95400" y="54302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98640" y="54172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01520" y="5406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03680" y="5394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04760" y="5382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04760" y="5369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04760" y="53560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03680" y="5343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01520" y="53305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98640" y="5319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95400" y="530784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91080" y="52981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86040" y="52880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680640" y="527652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75600" y="52668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69480" y="5255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63000" y="52480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55800" y="52398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9320" y="5230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2120" y="5222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36000" y="52138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627360" y="52084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620160" y="51998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12960" y="51926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04680" y="51872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97120" y="51800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87760" y="51742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80560" y="5168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72280" y="5161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563640" y="5157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555360" y="51512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546000" y="5146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38800" y="5140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29440" y="5135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22240" y="51314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12520" y="5125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505320" y="51217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5960" y="5117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86600" y="51127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79400" y="5108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469680" y="51044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60680" y="5103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50960" y="5098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43760" y="5094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34400" y="5091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25040" y="5088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15680" y="50860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05960" y="5081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399120" y="5080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89400" y="5076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380040" y="5073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70680" y="50716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62400" y="5067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53040" y="5064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43680" y="5063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36120" y="5060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26760" y="50590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17400" y="5056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08040" y="50547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298680" y="5051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89320" y="50504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81040" y="5049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71680" y="5049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62320" y="5046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52600" y="5044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43600" y="5041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33880" y="5041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25600" y="5040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16240" y="5040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06880" y="5037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7160" y="5036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88160" y="5036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78440" y="5033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69080" y="5033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60800" y="5033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1440" y="5032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42080" y="5032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32720" y="50320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23360" y="5029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14000" y="5029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05360" y="502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96360" y="502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8664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7728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6792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60720" y="502920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3252960" y="472392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762120" y="5029200"/>
            <a:ext cx="1294920" cy="685440"/>
            <a:chOff x="762120" y="5029200"/>
            <a:chExt cx="1294920" cy="685440"/>
          </a:xfrm>
        </p:grpSpPr>
        <p:grpSp>
          <p:nvGrpSpPr>
            <p:cNvPr id="826" name=""/>
            <p:cNvGrpSpPr/>
            <p:nvPr/>
          </p:nvGrpSpPr>
          <p:grpSpPr>
            <a:xfrm>
              <a:off x="762120" y="5029200"/>
              <a:ext cx="1005480" cy="685440"/>
              <a:chOff x="762120" y="5029200"/>
              <a:chExt cx="1005480" cy="685440"/>
            </a:xfrm>
          </p:grpSpPr>
          <p:sp>
            <p:nvSpPr>
              <p:cNvPr id="827" name=""/>
              <p:cNvSpPr/>
              <p:nvPr/>
            </p:nvSpPr>
            <p:spPr>
              <a:xfrm>
                <a:off x="140580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39752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388160" y="5029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37988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37124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36224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35252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34316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33380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32444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31508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0680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29708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28808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278360" y="5036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269000" y="5036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60000" y="5037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251360" y="504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242000" y="504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232640" y="5041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223280" y="5041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213920" y="5044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204560" y="5046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96280" y="504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186560" y="504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177200" y="5050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167840" y="5051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158480" y="50547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149120" y="5056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140840" y="50590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131480" y="5060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123200" y="5063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114920" y="5064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105200" y="5067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095840" y="5071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086480" y="5073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077120" y="5076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67760" y="50803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060200" y="5081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051200" y="50860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041480" y="50886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032120" y="5091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023840" y="5094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015560" y="5098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006200" y="5103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97920" y="5104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88560" y="5108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80280" y="5112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72000" y="5117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2280" y="5121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54000" y="5125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944640" y="5131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937440" y="5135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927720" y="5140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920520" y="5146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911160" y="51512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903960" y="5157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94600" y="5161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87040" y="5168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78760" y="5174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69400" y="5180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62200" y="5187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55000" y="5192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46360" y="51998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39160" y="52084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30880" y="5213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25480" y="5222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17200" y="5230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11080" y="52398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03880" y="5248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97400" y="5255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91280" y="5266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86960" y="52765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80840" y="5288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75800" y="5298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1480" y="53078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68240" y="5319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5000" y="5330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920" y="5343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2120" y="5356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2120" y="5369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2120" y="5382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3920" y="5394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5000" y="5406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8240" y="5417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1480" y="5430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5800" y="54403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81920" y="5450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6960" y="54615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91280" y="5471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97400" y="5479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04600" y="5490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11080" y="5498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17200" y="55072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25480" y="5515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33040" y="5522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39160" y="5529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46360" y="5536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55000" y="5545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62200" y="5551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69400" y="55584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78760" y="5563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87040" y="5569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94600" y="5576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03960" y="5581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11160" y="558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0520" y="5591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927720" y="559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937440" y="5600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944640" y="5605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954000" y="5612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962280" y="5616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972000" y="5621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980280" y="5625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88560" y="56293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97920" y="5630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006200" y="56350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015560" y="5639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023840" y="56437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032120" y="5645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041480" y="5649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051200" y="5652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060200" y="56563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067760" y="5657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077120" y="5662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086480" y="56649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095840" y="5666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105200" y="5669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114920" y="5673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123200" y="5674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131480" y="567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140840" y="567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149120" y="5680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158480" y="5683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167840" y="5684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177200" y="5687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18656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19628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204560" y="5691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213920" y="5693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22328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232640" y="5696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24200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25136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260000" y="57006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26900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27836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28808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29708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30680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31508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32444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33380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3431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35252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3622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3712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37988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38888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3986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4079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41732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42668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434960" y="57088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44432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40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634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724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47996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489320" y="5706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498680" y="5706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50804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16320" y="570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525680" y="570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53540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544400" y="57020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554120" y="5700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56348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57284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8112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59048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599840" y="5693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609200" y="56919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61892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62792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636560" y="56876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645920" y="5684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655280" y="56836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64640" y="5680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674000" y="567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683360" y="567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690920" y="5674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700280" y="5673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709280" y="5669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717920" y="566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727280" y="5664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36640" y="5662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46000" y="5657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755360" y="56563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762560" y="5652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772280" y="5649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781640" y="5645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791000" y="5643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98560" y="56394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07920" y="56350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17280" y="563076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26640" y="5629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33840" y="56250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43200" y="56210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852560" y="5616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860120" y="56124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69480" y="5605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76680" y="5600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86040" y="5598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893240" y="5591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902960" y="55868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911240" y="5581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919520" y="5576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927800" y="5569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35360" y="5563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944360" y="55584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951920" y="5551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960200" y="5545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67400" y="5536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74600" y="55296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981080" y="5522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989360" y="5515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996920" y="5507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03040" y="5498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09160" y="5490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016720" y="5479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22840" y="54716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027880" y="54615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033280" y="54500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038320" y="54403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042640" y="54302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045880" y="54172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48760" y="5406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050920" y="5394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052000" y="5382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052000" y="5369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052000" y="53560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050920" y="5343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048760" y="53305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045880" y="5319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042640" y="530784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8320" y="52981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033280" y="52880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27880" y="527652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22840" y="52668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016720" y="5255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10240" y="52480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03040" y="52398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96920" y="5230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989360" y="5222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983240" y="52138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974600" y="52084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967400" y="51998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960200" y="51926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951920" y="51872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944360" y="51800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35360" y="51742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927800" y="5168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19520" y="5161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11240" y="5157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02960" y="51512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893240" y="5146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886040" y="5140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76680" y="5135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69480" y="51314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60120" y="5125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52560" y="51217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843200" y="5117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833840" y="51127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826640" y="5108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17280" y="51044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07920" y="5103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98560" y="5098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91000" y="5094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81640" y="5091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772280" y="5088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62920" y="50860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753560" y="5081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746360" y="5080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37000" y="5076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727280" y="5073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718280" y="50716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09640" y="5067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700280" y="5064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690920" y="5063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83720" y="5060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74000" y="50590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65000" y="5056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55280" y="50547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45920" y="5051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636920" y="50504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28280" y="5049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18920" y="5049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09560" y="5046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00200" y="5044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590840" y="5041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81480" y="5041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73200" y="5040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63480" y="5040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54120" y="5037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44760" y="5036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535400" y="5036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26040" y="5033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516680" y="5033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508400" y="5033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98680" y="5032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89680" y="5032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79960" y="50320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70600" y="5029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61240" y="5029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52960" y="502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443600" y="502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43424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42452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41552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07960" y="502920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 flipV="1">
            <a:off x="1600200" y="472392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9" name="E286%20copy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400800" y="5334120"/>
            <a:ext cx="574560" cy="84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0" name=""/>
          <p:cNvGraphicFramePr/>
          <p:nvPr/>
        </p:nvGraphicFramePr>
        <p:xfrm>
          <a:off x="7620120" y="5246640"/>
          <a:ext cx="1523880" cy="10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5246640"/>
                    <a:ext cx="152388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2" name=""/>
          <p:cNvGrpSpPr/>
          <p:nvPr/>
        </p:nvGrpSpPr>
        <p:grpSpPr>
          <a:xfrm>
            <a:off x="5334120" y="4648320"/>
            <a:ext cx="1294920" cy="685440"/>
            <a:chOff x="5334120" y="4648320"/>
            <a:chExt cx="1294920" cy="685440"/>
          </a:xfrm>
        </p:grpSpPr>
        <p:grpSp>
          <p:nvGrpSpPr>
            <p:cNvPr id="1153" name=""/>
            <p:cNvGrpSpPr/>
            <p:nvPr/>
          </p:nvGrpSpPr>
          <p:grpSpPr>
            <a:xfrm>
              <a:off x="5334120" y="4648320"/>
              <a:ext cx="1005480" cy="685440"/>
              <a:chOff x="5334120" y="4648320"/>
              <a:chExt cx="1005480" cy="685440"/>
            </a:xfrm>
          </p:grpSpPr>
          <p:sp>
            <p:nvSpPr>
              <p:cNvPr id="1154" name=""/>
              <p:cNvSpPr/>
              <p:nvPr/>
            </p:nvSpPr>
            <p:spPr>
              <a:xfrm>
                <a:off x="597780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96952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960160" y="4648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95188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94324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3424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2452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91516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90580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9644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8708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7880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6908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6008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50360" y="4655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41000" y="4655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2000" y="4656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23360" y="4659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14000" y="4659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04640" y="4660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795280" y="4660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785920" y="4663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776560" y="46652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768280" y="466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58560" y="466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749200" y="4669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739840" y="4671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730480" y="46738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721120" y="4675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712840" y="46782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703480" y="4679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695200" y="4682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686920" y="4683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677200" y="4686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667840" y="4690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658480" y="4692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49120" y="4695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639760" y="46994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632200" y="4700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623200" y="47052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13480" y="4707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04120" y="4710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595840" y="4713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587560" y="4717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578200" y="4722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569920" y="4723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560560" y="4727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552280" y="4731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544000" y="4736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534280" y="4740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526000" y="474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516640" y="4750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509440" y="4754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499720" y="475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492520" y="4766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83160" y="477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475960" y="4776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66600" y="4780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59040" y="4787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450760" y="4793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441400" y="4799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434200" y="48063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427000" y="4811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418360" y="4818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411160" y="4827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402880" y="4833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397480" y="4841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389200" y="4849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383080" y="485892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375880" y="4867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369400" y="4874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363280" y="4885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358960" y="48956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52840" y="4907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347800" y="49172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343480" y="49269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340240" y="4938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337000" y="4949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335920" y="4962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334120" y="4975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334120" y="4988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334120" y="5001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335920" y="50137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337000" y="50252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340240" y="5036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343480" y="50493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347800" y="50594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353920" y="5069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358960" y="50806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363280" y="5090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369400" y="5099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376600" y="5109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383080" y="511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9200" y="512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397480" y="5134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05040" y="5141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411160" y="5148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418360" y="5155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427000" y="5164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34200" y="5170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41400" y="51775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50760" y="5182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59040" y="5188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66600" y="5195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475960" y="5200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483160" y="52059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492520" y="5210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499720" y="5217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509440" y="5220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516640" y="5224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526000" y="5231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534280" y="5235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544000" y="5240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552280" y="5244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560560" y="5248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569920" y="52498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578200" y="52542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587560" y="5258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595840" y="5262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604120" y="52642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613480" y="5268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623200" y="5271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632200" y="52754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639760" y="5276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649120" y="52812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658480" y="5284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667840" y="5285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677200" y="5288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686920" y="5292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695200" y="5293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703480" y="5297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712840" y="529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721120" y="5299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730480" y="5302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739840" y="5303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749200" y="5306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75856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76828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776560" y="5311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785920" y="5312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79528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804640" y="53154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81400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82336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832000" y="53197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84100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5036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6008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6908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7880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8708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9644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0580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1516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2452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342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432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95188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96088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706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97996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98932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99868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006960" y="5328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01632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0260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0354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0444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05196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061320" y="5325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70680" y="5325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8004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088320" y="5324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097680" y="5324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10740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116400" y="5321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126120" y="5319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13548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14484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15312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6248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171840" y="5312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181200" y="5311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19092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9992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08560" y="53067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17920" y="5303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27280" y="53028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236640" y="5299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46000" y="529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55360" y="5297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62920" y="5293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272280" y="5292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81280" y="5288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289920" y="5285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299280" y="5284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308640" y="52812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318000" y="5276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327360" y="52754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334560" y="5271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>
              <a:off x="6344280" y="5268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53640" y="5264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63000" y="52628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70560" y="5258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79920" y="52542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9280" y="524988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98640" y="5248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405840" y="52441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415200" y="52401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424560" y="5235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432120" y="5231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41480" y="5224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8680" y="5220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458040" y="5217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465240" y="5210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74960" y="52059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483240" y="5200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491520" y="51958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499800" y="5188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507360" y="5182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16360" y="51775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523920" y="5170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532200" y="51645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539400" y="5155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546600" y="51487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53080" y="51418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61360" y="5134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68920" y="5126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575040" y="5117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81160" y="5109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588720" y="5099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94840" y="5090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599880" y="5080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05280" y="5069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10320" y="50594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14640" y="5049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17880" y="50364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760" y="5025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22920" y="5013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4000" y="50011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24000" y="4988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24000" y="4975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2920" y="4962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20760" y="49496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17880" y="49384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14640" y="492696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10320" y="49172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05280" y="49071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599880" y="489564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594840" y="48859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588720" y="48744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582240" y="4867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575040" y="48589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568920" y="4849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561360" y="4841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555240" y="4833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546600" y="48276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539400" y="48189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532200" y="4811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23920" y="4806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516360" y="4799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07360" y="47934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499800" y="4787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491520" y="47804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483240" y="4776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474960" y="47703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465240" y="4766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458040" y="475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448680" y="4754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441480" y="4750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432120" y="4744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424560" y="4740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415200" y="47365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405840" y="4731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398640" y="47278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389280" y="4723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79920" y="4722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370560" y="4717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363000" y="4713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353640" y="4710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344280" y="4707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34920" y="47052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325560" y="4700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318360" y="4699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309000" y="46951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299280" y="4692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290280" y="4690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81640" y="4686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2280" y="4683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62920" y="46821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55720" y="4679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46000" y="46782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37000" y="4675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27280" y="46738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7920" y="4671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08920" y="46695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00280" y="4668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190920" y="4668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181560" y="46652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172200" y="46638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162840" y="46609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153480" y="46609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145200" y="4659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135480" y="4659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126120" y="46569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116760" y="46551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107400" y="4655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98040" y="4652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88680" y="4652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80400" y="4652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70680" y="4651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1680" y="4651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51960" y="4651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42600" y="4648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033240" y="4648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24960" y="4648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15600" y="4648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00624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99652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98752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979960" y="464832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" name=""/>
          <p:cNvSpPr/>
          <p:nvPr/>
        </p:nvSpPr>
        <p:spPr>
          <a:xfrm flipV="1">
            <a:off x="6172200" y="434304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304920" y="3048120"/>
            <a:ext cx="1294920" cy="685440"/>
            <a:chOff x="304920" y="3048120"/>
            <a:chExt cx="1294920" cy="685440"/>
          </a:xfrm>
        </p:grpSpPr>
        <p:grpSp>
          <p:nvGrpSpPr>
            <p:cNvPr id="1477" name=""/>
            <p:cNvGrpSpPr/>
            <p:nvPr/>
          </p:nvGrpSpPr>
          <p:grpSpPr>
            <a:xfrm>
              <a:off x="304920" y="3048120"/>
              <a:ext cx="1005480" cy="685440"/>
              <a:chOff x="304920" y="3048120"/>
              <a:chExt cx="1005480" cy="685440"/>
            </a:xfrm>
          </p:grpSpPr>
          <p:sp>
            <p:nvSpPr>
              <p:cNvPr id="1478" name=""/>
              <p:cNvSpPr/>
              <p:nvPr/>
            </p:nvSpPr>
            <p:spPr>
              <a:xfrm>
                <a:off x="948600" y="3048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940320" y="3048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30960" y="3048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22680" y="3048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914040" y="3048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905040" y="3048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95320" y="3048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85960" y="3048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876600" y="3051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67240" y="3051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57880" y="3051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49600" y="3052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39880" y="3052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30880" y="3052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21160" y="3054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11800" y="3054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02800" y="3056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94160" y="3059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84800" y="3059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75440" y="3060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66080" y="3060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56720" y="30636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47360" y="3065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39080" y="306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29360" y="306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20000" y="3069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10640" y="3070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01280" y="3073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91920" y="307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83640" y="30780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74280" y="307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66000" y="3081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57720" y="3083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48000" y="3086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38640" y="3090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29280" y="30920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19920" y="309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10560" y="30992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03000" y="3100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94000" y="3105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84280" y="3107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74920" y="3110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66640" y="3113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58360" y="31176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49000" y="3121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40720" y="31233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31360" y="3127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23080" y="3131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14800" y="3136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05080" y="3140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96800" y="31446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87440" y="31503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80240" y="3154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70520" y="3159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63320" y="3165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53960" y="31701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46760" y="3175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37400" y="3180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29840" y="3187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21560" y="3193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12200" y="3198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05000" y="3206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97800" y="3211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89160" y="32187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81960" y="3227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73680" y="3232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68280" y="3241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60000" y="3249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53880" y="325872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46680" y="3267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40200" y="3274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34080" y="32857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29760" y="32954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23640" y="33069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18600" y="3317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14280" y="3326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11040" y="33382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7800" y="3349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6720" y="3362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04920" y="3375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04920" y="3387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04920" y="3400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06720" y="3413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07800" y="3425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11040" y="3436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14280" y="3449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18600" y="34592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24720" y="3468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29760" y="34804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34080" y="3490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40200" y="3498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47400" y="3508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53880" y="3517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60000" y="3526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68280" y="3534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5840" y="3541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960" y="3548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89160" y="3555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7800" y="3564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05000" y="3570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12200" y="35773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21560" y="3582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29840" y="3588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37400" y="3595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46760" y="3600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53960" y="3605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63320" y="3610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70520" y="3616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80240" y="3619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87440" y="3624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96800" y="36313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05080" y="3635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14800" y="36399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23080" y="3643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31360" y="36482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40720" y="36496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49000" y="3654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58360" y="36583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66640" y="3662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4920" y="3664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84280" y="3668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94000" y="36712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3000" y="3675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10560" y="3676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619920" y="36810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29280" y="3683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38640" y="3685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48000" y="36882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57720" y="36925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66000" y="36936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74280" y="3696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83640" y="369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91920" y="3699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01280" y="37026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640" y="3703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20000" y="3706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29360" y="3708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080" y="3708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47360" y="3710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56720" y="3712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66080" y="3715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75440" y="3715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84800" y="3716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94160" y="3716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802800" y="37195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11800" y="3720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821160" y="3720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830880" y="37238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839880" y="37238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49600" y="37238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57880" y="3724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67240" y="3724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76600" y="3724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8596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9532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90504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91404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922680" y="3727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931680" y="3727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94140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95076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96012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96948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977760" y="37278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987120" y="3727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99684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00620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01520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022760" y="3724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032120" y="3724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041480" y="3724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050840" y="37238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059120" y="37238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068480" y="37238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078200" y="3720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087200" y="37209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096920" y="37195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106280" y="3716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115640" y="3716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123920" y="3715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133280" y="3715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142640" y="3712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152000" y="3710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161720" y="3708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170720" y="3708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179360" y="37065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188720" y="3703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198080" y="3702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207440" y="3699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216800" y="369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226160" y="3696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233720" y="3693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243080" y="36925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252080" y="36882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260720" y="3685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270080" y="3683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279440" y="36810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288800" y="3676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298160" y="3675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305360" y="36712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8" name=""/>
            <p:cNvSpPr/>
            <p:nvPr/>
          </p:nvSpPr>
          <p:spPr>
            <a:xfrm>
              <a:off x="1315080" y="3668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324440" y="3664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333800" y="3662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41360" y="3658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50720" y="36540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080" y="364968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69440" y="36482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6640" y="36439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86000" y="36399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95360" y="3635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402920" y="3631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412280" y="3624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419480" y="3619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428840" y="3616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436040" y="36100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445760" y="3605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454040" y="3600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462320" y="35956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470600" y="3588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478160" y="35827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487160" y="35773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494720" y="3570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503000" y="3564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510200" y="35557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517400" y="35485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23880" y="35416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532160" y="3534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39720" y="3526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545840" y="3517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51960" y="35089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559520" y="34988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65640" y="34905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70680" y="34804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76080" y="34689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581120" y="34592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85440" y="34491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588680" y="3436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591560" y="34250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593720" y="3413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594800" y="34009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594800" y="33879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594800" y="3375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593720" y="3362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591560" y="33494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88680" y="33382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85440" y="332676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581120" y="33170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576080" y="33069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570680" y="329544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65640" y="32857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559520" y="3274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53040" y="32670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45840" y="32587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39720" y="3249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32160" y="3241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26040" y="3232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17400" y="32274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10200" y="3218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03000" y="3211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94720" y="32061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487160" y="31989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478160" y="3193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470600" y="3187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62320" y="3180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54040" y="31759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45760" y="3170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36040" y="31658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28840" y="3159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19480" y="31546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12280" y="31503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02920" y="3144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395360" y="31406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386000" y="3136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376640" y="31316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369440" y="3127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360080" y="31233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350720" y="3121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341360" y="3117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333800" y="3113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324440" y="3110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315080" y="3107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305720" y="3105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296360" y="31006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289160" y="30992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279800" y="30949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270080" y="30920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61080" y="30906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252440" y="3086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243080" y="3083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233720" y="30819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226520" y="3079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216800" y="30780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207800" y="3075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198080" y="3073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188720" y="3070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179720" y="30693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71080" y="3067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161720" y="3067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152360" y="3065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143000" y="30636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133640" y="30607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124280" y="30607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116000" y="3059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106280" y="3059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096920" y="3056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087560" y="30549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078200" y="30549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68840" y="30520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059480" y="30520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051200" y="3052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041480" y="3051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032480" y="3051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022760" y="30510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013400" y="3048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004040" y="3048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995760" y="3048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986400" y="3048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977040" y="30481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967320" y="30481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958320" y="30481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950760" y="304812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9" name=""/>
          <p:cNvSpPr/>
          <p:nvPr/>
        </p:nvSpPr>
        <p:spPr>
          <a:xfrm flipV="1">
            <a:off x="1143000" y="274284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0" name=""/>
          <p:cNvGraphicFramePr/>
          <p:nvPr/>
        </p:nvGraphicFramePr>
        <p:xfrm>
          <a:off x="5867280" y="990720"/>
          <a:ext cx="83844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990720"/>
                    <a:ext cx="8384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LAN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657600" y="281952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4" name=""/>
          <p:cNvGraphicFramePr/>
          <p:nvPr/>
        </p:nvGraphicFramePr>
        <p:xfrm>
          <a:off x="762120" y="1523880"/>
          <a:ext cx="46512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1523880"/>
                    <a:ext cx="4651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6" name="" descr=""/>
          <p:cNvPicPr/>
          <p:nvPr/>
        </p:nvPicPr>
        <p:blipFill>
          <a:blip r:embed="rId9"/>
          <a:stretch/>
        </p:blipFill>
        <p:spPr>
          <a:xfrm>
            <a:off x="3809880" y="4572000"/>
            <a:ext cx="1019160" cy="114300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10"/>
          <a:stretch/>
        </p:blipFill>
        <p:spPr>
          <a:xfrm>
            <a:off x="6781680" y="5943600"/>
            <a:ext cx="685800" cy="16200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11"/>
          <a:stretch/>
        </p:blipFill>
        <p:spPr>
          <a:xfrm>
            <a:off x="7924680" y="1752480"/>
            <a:ext cx="576360" cy="586080"/>
          </a:xfrm>
          <a:prstGeom prst="rect">
            <a:avLst/>
          </a:prstGeom>
          <a:ln w="0">
            <a:noFill/>
          </a:ln>
        </p:spPr>
      </p:pic>
      <p:pic>
        <p:nvPicPr>
          <p:cNvPr id="1809" name="" descr=""/>
          <p:cNvPicPr/>
          <p:nvPr/>
        </p:nvPicPr>
        <p:blipFill>
          <a:blip r:embed="rId12"/>
          <a:stretch/>
        </p:blipFill>
        <p:spPr>
          <a:xfrm>
            <a:off x="7010280" y="1219320"/>
            <a:ext cx="631800" cy="43632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 rot="18856800">
            <a:off x="6028200" y="1633680"/>
            <a:ext cx="468360" cy="47952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rot="1344000">
            <a:off x="7009920" y="5374800"/>
            <a:ext cx="692280" cy="6066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H="1" rot="18857400">
            <a:off x="7003440" y="2028600"/>
            <a:ext cx="716040" cy="49680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H="1" rot="19755000">
            <a:off x="7322760" y="1566360"/>
            <a:ext cx="339840" cy="63180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 flipH="1" rot="20192400">
            <a:off x="6277320" y="5014440"/>
            <a:ext cx="401760" cy="50004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 rot="20192400">
            <a:off x="7728480" y="4806720"/>
            <a:ext cx="401760" cy="50004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2089080" y="4624560"/>
            <a:ext cx="430200" cy="177480"/>
            <a:chOff x="2089080" y="4624560"/>
            <a:chExt cx="430200" cy="177480"/>
          </a:xfrm>
        </p:grpSpPr>
        <p:sp>
          <p:nvSpPr>
            <p:cNvPr id="1817" name=""/>
            <p:cNvSpPr/>
            <p:nvPr/>
          </p:nvSpPr>
          <p:spPr>
            <a:xfrm>
              <a:off x="2089080" y="4624560"/>
              <a:ext cx="430200" cy="1774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2190240" y="466884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 flipV="1">
              <a:off x="2192040" y="467244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6600960" y="4243320"/>
            <a:ext cx="430200" cy="177840"/>
            <a:chOff x="6600960" y="4243320"/>
            <a:chExt cx="430200" cy="177840"/>
          </a:xfrm>
        </p:grpSpPr>
        <p:sp>
          <p:nvSpPr>
            <p:cNvPr id="1821" name=""/>
            <p:cNvSpPr/>
            <p:nvPr/>
          </p:nvSpPr>
          <p:spPr>
            <a:xfrm>
              <a:off x="6600960" y="4243320"/>
              <a:ext cx="430200" cy="1778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6702120" y="428760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 flipV="1">
              <a:off x="6703920" y="429156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4" name=""/>
          <p:cNvGrpSpPr/>
          <p:nvPr/>
        </p:nvGrpSpPr>
        <p:grpSpPr>
          <a:xfrm>
            <a:off x="2817720" y="5105520"/>
            <a:ext cx="388800" cy="474120"/>
            <a:chOff x="2817720" y="5105520"/>
            <a:chExt cx="388800" cy="474120"/>
          </a:xfrm>
        </p:grpSpPr>
        <p:sp>
          <p:nvSpPr>
            <p:cNvPr id="1825" name=""/>
            <p:cNvSpPr/>
            <p:nvPr/>
          </p:nvSpPr>
          <p:spPr>
            <a:xfrm>
              <a:off x="2817720" y="5330160"/>
              <a:ext cx="355320" cy="24948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171600" y="5312520"/>
              <a:ext cx="27000" cy="26712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174480" y="5365080"/>
              <a:ext cx="27000" cy="17532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179520" y="5424840"/>
              <a:ext cx="27000" cy="424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141360" y="5312520"/>
              <a:ext cx="4896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3161880" y="52887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2892240" y="5289120"/>
              <a:ext cx="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3141360" y="5298120"/>
              <a:ext cx="0" cy="3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2873160" y="52977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07520" y="5284440"/>
              <a:ext cx="5580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39680" y="5284440"/>
              <a:ext cx="5580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23360" y="52905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855520" y="52905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24280" y="53650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026160" y="53665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107520" y="529992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839680" y="530136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107520" y="532692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839680" y="5328360"/>
              <a:ext cx="34920" cy="6336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873160" y="5340960"/>
              <a:ext cx="4140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895840" y="5358600"/>
              <a:ext cx="199080" cy="2664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957760" y="5366520"/>
              <a:ext cx="58680" cy="2664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3099600" y="53409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817720" y="53190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897280" y="5393160"/>
              <a:ext cx="178560" cy="6948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903760" y="5407560"/>
              <a:ext cx="16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907000" y="5442480"/>
              <a:ext cx="16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936880" y="5500800"/>
              <a:ext cx="22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936880" y="5524560"/>
              <a:ext cx="22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938680" y="5548320"/>
              <a:ext cx="2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047040" y="54961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047040" y="55198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047040" y="554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77720" y="54835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177720" y="5505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120120" y="5110200"/>
              <a:ext cx="27000" cy="18648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852640" y="5105520"/>
              <a:ext cx="27000" cy="18684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1143000" y="5105520"/>
            <a:ext cx="387360" cy="476280"/>
            <a:chOff x="1143000" y="5105520"/>
            <a:chExt cx="387360" cy="476280"/>
          </a:xfrm>
        </p:grpSpPr>
        <p:sp>
          <p:nvSpPr>
            <p:cNvPr id="1863" name=""/>
            <p:cNvSpPr/>
            <p:nvPr/>
          </p:nvSpPr>
          <p:spPr>
            <a:xfrm>
              <a:off x="1143000" y="533124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495440" y="531360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498320" y="536616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503360" y="54262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465200" y="531360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1485720" y="528984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217520" y="528948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465200" y="529884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198440" y="529920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431720" y="52851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164960" y="52851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447560" y="5291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180800" y="5291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49200" y="536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0720" y="536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31720" y="53010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64960" y="53024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431720" y="532800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64960" y="532944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98440" y="534204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20760" y="535968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82680" y="53676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1423800" y="534168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43000" y="532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222200" y="539460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228680" y="540900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31920" y="544392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61800" y="550260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261800" y="55263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263600" y="555012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371600" y="5497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371600" y="552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371600" y="5545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501560" y="548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01560" y="550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444320" y="511056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177920" y="510552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685800" y="3124080"/>
            <a:ext cx="387360" cy="476280"/>
            <a:chOff x="685800" y="3124080"/>
            <a:chExt cx="387360" cy="476280"/>
          </a:xfrm>
        </p:grpSpPr>
        <p:sp>
          <p:nvSpPr>
            <p:cNvPr id="1901" name=""/>
            <p:cNvSpPr/>
            <p:nvPr/>
          </p:nvSpPr>
          <p:spPr>
            <a:xfrm>
              <a:off x="685800" y="334980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38240" y="333216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041120" y="338472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046160" y="34448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008000" y="333216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1028520" y="330840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760320" y="330804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1008000" y="33174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741240" y="33177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74520" y="33037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07760" y="33037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90360" y="330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23600" y="330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92000" y="338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93520" y="33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520" y="331956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07760" y="33210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520" y="334656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07760" y="334800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41240" y="336060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63560" y="337824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5480" y="33861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966600" y="336024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85800" y="3338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65000" y="341316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71480" y="342756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74720" y="346248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04600" y="352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04600" y="354492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06400" y="356868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351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914400" y="3540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914400" y="3564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044360" y="3503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044360" y="352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987120" y="312912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20720" y="312408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5638680" y="4724280"/>
            <a:ext cx="387360" cy="476280"/>
            <a:chOff x="5638680" y="4724280"/>
            <a:chExt cx="387360" cy="476280"/>
          </a:xfrm>
        </p:grpSpPr>
        <p:sp>
          <p:nvSpPr>
            <p:cNvPr id="1939" name=""/>
            <p:cNvSpPr/>
            <p:nvPr/>
          </p:nvSpPr>
          <p:spPr>
            <a:xfrm>
              <a:off x="5638680" y="495000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991120" y="493236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994000" y="498492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999040" y="50450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960880" y="493236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5981400" y="490860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5713200" y="490824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5960880" y="4917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5694120" y="49179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27400" y="49039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660640" y="49039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43240" y="491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676480" y="491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744880" y="498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846400" y="498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927400" y="491976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660640" y="49212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927400" y="494676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660640" y="494820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694120" y="496080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716440" y="497844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78360" y="49863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5919480" y="496044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638680" y="493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717880" y="501336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724360" y="502776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727600" y="506268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757480" y="51213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57480" y="514512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759280" y="516888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867280" y="511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867280" y="514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867280" y="516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997240" y="510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997240" y="512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940000" y="472932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673600" y="472428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6" name=""/>
          <p:cNvGrpSpPr/>
          <p:nvPr/>
        </p:nvGrpSpPr>
        <p:grpSpPr>
          <a:xfrm>
            <a:off x="7086600" y="4724280"/>
            <a:ext cx="387360" cy="476280"/>
            <a:chOff x="7086600" y="4724280"/>
            <a:chExt cx="387360" cy="476280"/>
          </a:xfrm>
        </p:grpSpPr>
        <p:sp>
          <p:nvSpPr>
            <p:cNvPr id="1977" name=""/>
            <p:cNvSpPr/>
            <p:nvPr/>
          </p:nvSpPr>
          <p:spPr>
            <a:xfrm>
              <a:off x="7086600" y="495000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439040" y="493236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441920" y="498492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446960" y="50450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408800" y="493236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7429320" y="490860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7161120" y="490824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7408800" y="4917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7142040" y="49179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375320" y="49039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108560" y="49039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391160" y="491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124400" y="491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192800" y="498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294320" y="498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375320" y="491976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108560" y="49212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375320" y="494676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108560" y="494820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142040" y="496080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164360" y="497844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226280" y="49863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7367400" y="496044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086600" y="493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165800" y="501336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172280" y="502776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175520" y="506268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205400" y="51213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205400" y="514512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207200" y="516888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315200" y="511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315200" y="514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315200" y="516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445160" y="510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445160" y="512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387920" y="472932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121520" y="472428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400800" y="2057400"/>
            <a:ext cx="387360" cy="476280"/>
            <a:chOff x="6400800" y="2057400"/>
            <a:chExt cx="387360" cy="476280"/>
          </a:xfrm>
        </p:grpSpPr>
        <p:sp>
          <p:nvSpPr>
            <p:cNvPr id="2015" name=""/>
            <p:cNvSpPr/>
            <p:nvPr/>
          </p:nvSpPr>
          <p:spPr>
            <a:xfrm>
              <a:off x="6400800" y="228312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53240" y="226548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756120" y="231804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761160" y="23781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723000" y="226548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43520" y="22417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6475320" y="224136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6723000" y="225072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6456240" y="22510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689520" y="22370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422760" y="22370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705360" y="2243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438600" y="2243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507000" y="231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608520" y="2319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689520" y="22528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422760" y="225432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689520" y="227988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422760" y="228132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456240" y="229392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78560" y="231156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540480" y="23194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6681600" y="229356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400800" y="227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480000" y="234648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486480" y="23608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89720" y="239580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519600" y="245448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519600" y="247824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521400" y="25020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629400" y="244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629400" y="247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629400" y="2497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759360" y="2436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759360" y="2459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02120" y="206244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435720" y="205740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 rot="988200">
            <a:off x="3009600" y="2589120"/>
            <a:ext cx="3535200" cy="2436840"/>
          </a:xfrm>
          <a:prstGeom prst="ellips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3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2054" name=""/>
          <p:cNvSpPr/>
          <p:nvPr/>
        </p:nvSpPr>
        <p:spPr>
          <a:xfrm>
            <a:off x="1539720" y="1241280"/>
            <a:ext cx="609624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E286%20copy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791320" y="3886200"/>
            <a:ext cx="574560" cy="847800"/>
          </a:xfrm>
          <a:prstGeom prst="rect">
            <a:avLst/>
          </a:prstGeom>
          <a:ln w="0">
            <a:noFill/>
          </a:ln>
        </p:spPr>
      </p:pic>
      <p:sp>
        <p:nvSpPr>
          <p:cNvPr id="2056" name=""/>
          <p:cNvSpPr/>
          <p:nvPr/>
        </p:nvSpPr>
        <p:spPr>
          <a:xfrm>
            <a:off x="3909960" y="2678040"/>
            <a:ext cx="80064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08400" y="1905120"/>
            <a:ext cx="10249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915120" y="4876920"/>
            <a:ext cx="10051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315560" y="1828800"/>
            <a:ext cx="10566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0" name=""/>
          <p:cNvGraphicFramePr/>
          <p:nvPr/>
        </p:nvGraphicFramePr>
        <p:xfrm>
          <a:off x="8381880" y="2057400"/>
          <a:ext cx="513000" cy="13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1880" y="2057400"/>
                    <a:ext cx="5130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2" name=""/>
          <p:cNvSpPr/>
          <p:nvPr/>
        </p:nvSpPr>
        <p:spPr>
          <a:xfrm rot="19838400">
            <a:off x="7005240" y="2588760"/>
            <a:ext cx="733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rot="1182600">
            <a:off x="1914120" y="2635200"/>
            <a:ext cx="13647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PERLAN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rot="19759800">
            <a:off x="2110320" y="4572000"/>
            <a:ext cx="13647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PERLAN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rot="787800">
            <a:off x="7179120" y="3659040"/>
            <a:ext cx="10263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6" name="" descr=""/>
          <p:cNvPicPr/>
          <p:nvPr/>
        </p:nvPicPr>
        <p:blipFill>
          <a:blip r:embed="rId5"/>
          <a:stretch/>
        </p:blipFill>
        <p:spPr>
          <a:xfrm>
            <a:off x="4724280" y="4572000"/>
            <a:ext cx="990720" cy="233280"/>
          </a:xfrm>
          <a:prstGeom prst="rect">
            <a:avLst/>
          </a:prstGeom>
          <a:ln w="0">
            <a:noFill/>
          </a:ln>
        </p:spPr>
      </p:pic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Wireless PAN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8" name=""/>
          <p:cNvGraphicFramePr/>
          <p:nvPr/>
        </p:nvGraphicFramePr>
        <p:xfrm>
          <a:off x="3276720" y="3200400"/>
          <a:ext cx="1143000" cy="817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3200400"/>
                    <a:ext cx="1143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0" name=""/>
          <p:cNvGraphicFramePr/>
          <p:nvPr/>
        </p:nvGraphicFramePr>
        <p:xfrm>
          <a:off x="8381880" y="3809880"/>
          <a:ext cx="513000" cy="1319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1880" y="3809880"/>
                    <a:ext cx="51300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2" name=""/>
          <p:cNvSpPr/>
          <p:nvPr/>
        </p:nvSpPr>
        <p:spPr>
          <a:xfrm>
            <a:off x="152280" y="1676520"/>
            <a:ext cx="2362320" cy="28191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781680" y="1447920"/>
            <a:ext cx="2210040" cy="358128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rot="399000">
            <a:off x="620640" y="4648320"/>
            <a:ext cx="3886200" cy="1676160"/>
          </a:xfrm>
          <a:prstGeom prst="ellipse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5" name="" descr=""/>
          <p:cNvPicPr/>
          <p:nvPr/>
        </p:nvPicPr>
        <p:blipFill>
          <a:blip r:embed="rId10"/>
          <a:stretch/>
        </p:blipFill>
        <p:spPr>
          <a:xfrm>
            <a:off x="3200400" y="5638680"/>
            <a:ext cx="990720" cy="233640"/>
          </a:xfrm>
          <a:prstGeom prst="rect">
            <a:avLst/>
          </a:prstGeom>
          <a:ln w="0">
            <a:noFill/>
          </a:ln>
        </p:spPr>
      </p:pic>
      <p:sp>
        <p:nvSpPr>
          <p:cNvPr id="2076" name=""/>
          <p:cNvSpPr/>
          <p:nvPr/>
        </p:nvSpPr>
        <p:spPr>
          <a:xfrm flipH="1" rot="20192400">
            <a:off x="1763280" y="2579760"/>
            <a:ext cx="1104840" cy="90792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rot="1344000">
            <a:off x="2417400" y="4447800"/>
            <a:ext cx="973080" cy="117468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rot="428400">
            <a:off x="2948040" y="4751280"/>
            <a:ext cx="822240" cy="9828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rot="1299600">
            <a:off x="6740280" y="2273400"/>
            <a:ext cx="1333440" cy="15714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rot="3829800">
            <a:off x="6796800" y="3351600"/>
            <a:ext cx="1222560" cy="137952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rot="4023000">
            <a:off x="4493160" y="3632760"/>
            <a:ext cx="938160" cy="110484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2" name="" descr=""/>
          <p:cNvPicPr/>
          <p:nvPr/>
        </p:nvPicPr>
        <p:blipFill>
          <a:blip r:embed="rId11"/>
          <a:stretch/>
        </p:blipFill>
        <p:spPr>
          <a:xfrm>
            <a:off x="1219320" y="3809880"/>
            <a:ext cx="990360" cy="233640"/>
          </a:xfrm>
          <a:prstGeom prst="rect">
            <a:avLst/>
          </a:prstGeom>
          <a:ln w="0">
            <a:noFill/>
          </a:ln>
        </p:spPr>
      </p:pic>
      <p:sp>
        <p:nvSpPr>
          <p:cNvPr id="2083" name=""/>
          <p:cNvSpPr/>
          <p:nvPr/>
        </p:nvSpPr>
        <p:spPr>
          <a:xfrm rot="2428800">
            <a:off x="1904760" y="2971440"/>
            <a:ext cx="822240" cy="9828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4" name=""/>
          <p:cNvGrpSpPr/>
          <p:nvPr/>
        </p:nvGrpSpPr>
        <p:grpSpPr>
          <a:xfrm>
            <a:off x="762120" y="3429000"/>
            <a:ext cx="387360" cy="476280"/>
            <a:chOff x="762120" y="3429000"/>
            <a:chExt cx="387360" cy="476280"/>
          </a:xfrm>
        </p:grpSpPr>
        <p:sp>
          <p:nvSpPr>
            <p:cNvPr id="2085" name=""/>
            <p:cNvSpPr/>
            <p:nvPr/>
          </p:nvSpPr>
          <p:spPr>
            <a:xfrm>
              <a:off x="762120" y="365472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114560" y="363708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117440" y="368964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122480" y="37497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084320" y="363708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1104840" y="36133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836640" y="361296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1084320" y="362232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817560" y="36226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50840" y="36086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84080" y="36086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66680" y="3614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99920" y="3614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68320" y="3689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969840" y="3691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050840" y="36244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84080" y="362592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50840" y="365148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84080" y="365292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17560" y="366552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39880" y="368316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01800" y="36910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1042920" y="366516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62120" y="364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41320" y="371808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47800" y="37324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51040" y="376740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80920" y="382608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80920" y="384984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82720" y="38736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90720" y="382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90720" y="384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90720" y="3868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120680" y="380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120680" y="383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063440" y="343404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97040" y="342900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914400" y="2590920"/>
            <a:ext cx="387360" cy="476280"/>
            <a:chOff x="914400" y="2590920"/>
            <a:chExt cx="387360" cy="476280"/>
          </a:xfrm>
        </p:grpSpPr>
        <p:sp>
          <p:nvSpPr>
            <p:cNvPr id="2123" name=""/>
            <p:cNvSpPr/>
            <p:nvPr/>
          </p:nvSpPr>
          <p:spPr>
            <a:xfrm>
              <a:off x="914400" y="281664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266840" y="279900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269720" y="285156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274760" y="29116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236600" y="279900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1257120" y="277524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V="1">
              <a:off x="988920" y="277488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1236600" y="278424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969840" y="278460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03120" y="27705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936360" y="27705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218960" y="277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952200" y="277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020600" y="285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122120" y="285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203120" y="27864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936360" y="27878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203120" y="281340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936360" y="281484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969840" y="282744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992160" y="284508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054080" y="28530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1195200" y="282708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914400" y="280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993600" y="288000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000080" y="289440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003320" y="292932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033200" y="298800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33200" y="30117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035000" y="303552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143000" y="298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143000" y="3007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143000" y="303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272960" y="2970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272960" y="299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215720" y="259596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949320" y="259092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0" name=""/>
          <p:cNvGrpSpPr/>
          <p:nvPr/>
        </p:nvGrpSpPr>
        <p:grpSpPr>
          <a:xfrm>
            <a:off x="1676520" y="5486400"/>
            <a:ext cx="387360" cy="476280"/>
            <a:chOff x="1676520" y="5486400"/>
            <a:chExt cx="387360" cy="476280"/>
          </a:xfrm>
        </p:grpSpPr>
        <p:sp>
          <p:nvSpPr>
            <p:cNvPr id="2161" name=""/>
            <p:cNvSpPr/>
            <p:nvPr/>
          </p:nvSpPr>
          <p:spPr>
            <a:xfrm>
              <a:off x="1676520" y="571212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028960" y="569448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31840" y="574704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036880" y="58071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98720" y="569448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2019240" y="56707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1751040" y="567036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1998720" y="567972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1731960" y="56800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965240" y="56660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698480" y="56660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81080" y="567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714320" y="567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782720" y="574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84240" y="5748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965240" y="56818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698480" y="568332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965240" y="570888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698480" y="571032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731960" y="572292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754280" y="574056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16200" y="57484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>
              <a:off x="1957320" y="572256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676520" y="570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55720" y="577548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62200" y="57898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440" y="582480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795320" y="588348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95320" y="590724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797120" y="59310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905120" y="587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905120" y="590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905120" y="592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035080" y="586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035080" y="588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977840" y="549144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711440" y="548640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2438280" y="5791320"/>
            <a:ext cx="387360" cy="476280"/>
            <a:chOff x="2438280" y="5791320"/>
            <a:chExt cx="387360" cy="476280"/>
          </a:xfrm>
        </p:grpSpPr>
        <p:sp>
          <p:nvSpPr>
            <p:cNvPr id="2199" name=""/>
            <p:cNvSpPr/>
            <p:nvPr/>
          </p:nvSpPr>
          <p:spPr>
            <a:xfrm>
              <a:off x="2438280" y="601704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790720" y="599940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93600" y="605196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798640" y="61120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760480" y="599940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2781000" y="597564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2512800" y="597528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2760480" y="598464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2493720" y="598500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27000" y="59709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60240" y="59709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742840" y="5977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476080" y="5977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44480" y="605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646000" y="605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727000" y="59868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460240" y="59882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27000" y="601380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460240" y="601524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493720" y="602784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516040" y="604548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577960" y="60534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2719080" y="602748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6005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517480" y="608040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523960" y="609480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527200" y="612972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557080" y="618840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557080" y="6212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558880" y="623592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66880" y="618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666880" y="6207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666880" y="623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796840" y="617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796840" y="619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9600" y="579636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473200" y="579132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iperLAN/2 Protocol Architech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7" name=""/>
          <p:cNvGraphicFramePr/>
          <p:nvPr/>
        </p:nvGraphicFramePr>
        <p:xfrm>
          <a:off x="914400" y="2514600"/>
          <a:ext cx="746748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4674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9" name=""/>
          <p:cNvSpPr/>
          <p:nvPr/>
        </p:nvSpPr>
        <p:spPr>
          <a:xfrm>
            <a:off x="457200" y="1447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ation scope: air interface, service interfaces of the radio access system and the convergence lay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0" name="platta1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038840" cy="2743200"/>
          </a:xfrm>
          <a:prstGeom prst="rect">
            <a:avLst/>
          </a:prstGeom>
          <a:ln w="0">
            <a:noFill/>
          </a:ln>
        </p:spPr>
      </p:pic>
      <p:sp>
        <p:nvSpPr>
          <p:cNvPr id="2241" name=""/>
          <p:cNvSpPr/>
          <p:nvPr/>
        </p:nvSpPr>
        <p:spPr>
          <a:xfrm>
            <a:off x="1066680" y="5867280"/>
            <a:ext cx="167652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ell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743200" y="5867280"/>
            <a:ext cx="3657600" cy="457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cket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066680" y="5105520"/>
            <a:ext cx="914400" cy="7617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876920" y="2133720"/>
            <a:ext cx="377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gmentation and re-assembly to / from 48 bytes packet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iority mapping from IEEE 802.1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ress mapping from IEEE 8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ulticast &amp; broadcast hand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lexible amount of QoS clas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657600" y="5105520"/>
            <a:ext cx="9144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4572000" y="5105520"/>
            <a:ext cx="9144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rew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86400" y="5105520"/>
            <a:ext cx="9144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5943240" y="48006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gence 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010040" cy="24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onvergence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single convergence layer active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between higher layer connections/priorities and DLC connections/prioriti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2743200" y="5105520"/>
            <a:ext cx="9144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: Medium Access Control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19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MA/TDD with a fixed frame duration of 2 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transmission possibilities: AP to MT (Downlink), MT to AP (Uplink) and MT to MT (Direct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scheduling (not specifi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interface frame creation in the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 allocation by the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 requests from 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assignment of capacity in uplink and downlink - no fixed slot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consider QoS and link adaptation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of Data PDU and ARQ PDU without coll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00:06:50Z</dcterms:created>
  <dc:creator>Jamshid Khun-Jush</dc:creator>
  <dc:description/>
  <dc:language>en-US</dc:language>
  <cp:lastModifiedBy>Jamshid Khun-Jush</cp:lastModifiedBy>
  <cp:lastPrinted>1998-07-22T00:48:38Z</cp:lastPrinted>
  <dcterms:modified xsi:type="dcterms:W3CDTF">2000-03-08T13:51:44Z</dcterms:modified>
  <cp:revision>294</cp:revision>
  <dc:subject/>
  <dc:title>Hiperlan2 QoS</dc:title>
</cp:coreProperties>
</file>