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6.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5.wmf" ContentType="image/x-wmf"/>
  <Override PartName="/ppt/media/image35.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048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62520" y="0"/>
            <a:ext cx="30477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move the slide</a:t>
            </a:r>
            <a:endParaRPr b="1" lang="en-US" sz="2400" spc="-1" strike="noStrike">
              <a:solidFill>
                <a:srgbClr val="0066ff"/>
              </a:solidFill>
              <a:latin typeface="Arial"/>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8839080"/>
            <a:ext cx="304812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62520" y="8839080"/>
            <a:ext cx="3047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C738-74B1-4DA2-A0AF-49B2B594B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B606-63E1-423C-BE00-DF9DBC026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535040" y="744480"/>
            <a:ext cx="4094280" cy="3070440"/>
          </a:xfrm>
          <a:prstGeom prst="rect">
            <a:avLst/>
          </a:prstGeom>
          <a:ln w="0">
            <a:noFill/>
          </a:ln>
        </p:spPr>
      </p:sp>
      <p:sp>
        <p:nvSpPr>
          <p:cNvPr id="213"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9B52-905F-423C-84C2-840A2D804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35040" y="744480"/>
            <a:ext cx="4094280" cy="3070440"/>
          </a:xfrm>
          <a:prstGeom prst="rect">
            <a:avLst/>
          </a:prstGeom>
          <a:ln w="0">
            <a:noFill/>
          </a:ln>
        </p:spPr>
      </p:sp>
      <p:sp>
        <p:nvSpPr>
          <p:cNvPr id="219"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57C7-4822-47E3-929D-57EC4D87B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2"/>
          <p:cNvSpPr>
            <a:spLocks noGrp="1"/>
          </p:cNvSpPr>
          <p:nvPr>
            <p:ph type="sldImg"/>
          </p:nvPr>
        </p:nvSpPr>
        <p:spPr>
          <a:xfrm>
            <a:off x="1535040" y="744480"/>
            <a:ext cx="4094280" cy="30704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39A4-3B60-46D0-AB43-2E3F0EFB2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535040" y="744480"/>
            <a:ext cx="4094280" cy="3070440"/>
          </a:xfrm>
          <a:prstGeom prst="rect">
            <a:avLst/>
          </a:prstGeom>
          <a:ln w="0">
            <a:noFill/>
          </a:ln>
        </p:spPr>
      </p:sp>
      <p:sp>
        <p:nvSpPr>
          <p:cNvPr id="231"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EAD4-9DBF-477C-A89D-3B74E4BDA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35040" y="744480"/>
            <a:ext cx="4094280" cy="3070440"/>
          </a:xfrm>
          <a:prstGeom prst="rect">
            <a:avLst/>
          </a:prstGeom>
          <a:ln w="0">
            <a:noFill/>
          </a:ln>
        </p:spPr>
      </p:sp>
      <p:sp>
        <p:nvSpPr>
          <p:cNvPr id="237"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E174-7409-40EE-AB5D-FD963BB3A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35040" y="744480"/>
            <a:ext cx="4094280" cy="3070440"/>
          </a:xfrm>
          <a:prstGeom prst="rect">
            <a:avLst/>
          </a:prstGeom>
          <a:ln w="0">
            <a:noFill/>
          </a:ln>
        </p:spPr>
      </p:sp>
      <p:sp>
        <p:nvSpPr>
          <p:cNvPr id="243"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1"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4"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9"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0"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4"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9"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7"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2209680" y="6477120"/>
            <a:ext cx="69343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a:t>
            </a:r>
            <a:fld id="{1979500F-4BF5-4303-B440-126AFC01384A}" type="slidenum">
              <a:rPr b="1" lang="en-US" sz="1200" spc="-1" strike="noStrike">
                <a:solidFill>
                  <a:srgbClr val="000000"/>
                </a:solidFill>
                <a:latin typeface="Arial"/>
              </a:rPr>
              <a:t>&lt;number&gt;</a:t>
            </a:fld>
            <a:r>
              <a:rPr b="1" lang="en-US" sz="1200" spc="-1" strike="noStrike">
                <a:solidFill>
                  <a:srgbClr val="000000"/>
                </a:solidFill>
                <a:latin typeface="Arial"/>
              </a:rPr>
              <a:t>     </a:t>
            </a:r>
            <a:r>
              <a:rPr b="0" lang="en-US" sz="1200" spc="-1" strike="noStrike">
                <a:solidFill>
                  <a:srgbClr val="000000"/>
                </a:solidFill>
                <a:latin typeface="Times New Roman"/>
              </a:rPr>
              <a:t>R. Gubbi (Sharewave), W. Diepstraten(Lucent</a:t>
            </a:r>
            <a:r>
              <a:rPr b="1" lang="en-US" sz="1200" spc="-1" strike="noStrike">
                <a:solidFill>
                  <a:srgbClr val="000000"/>
                </a:solidFill>
                <a:latin typeface="Arial"/>
              </a:rPr>
              <a:t>), </a:t>
            </a:r>
            <a:r>
              <a:rPr b="0" lang="en-US" sz="1200" spc="-1" strike="noStrike">
                <a:solidFill>
                  <a:srgbClr val="000000"/>
                </a:solidFill>
                <a:latin typeface="Times New Roman"/>
              </a:rPr>
              <a:t>J. Ho (AT&amp;T)</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56840" y="152280"/>
            <a:ext cx="114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6" name=""/>
          <p:cNvSpPr/>
          <p:nvPr/>
        </p:nvSpPr>
        <p:spPr>
          <a:xfrm>
            <a:off x="6319440" y="152280"/>
            <a:ext cx="22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Times New Roman"/>
              </a:rPr>
              <a:t>doc.: IEEE 802.11-00/033r1</a:t>
            </a:r>
            <a:endParaRPr b="0" lang="en-US" sz="1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1600200"/>
            <a:ext cx="88394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Extensions to 802.11 MAC</a:t>
            </a:r>
            <a:endParaRPr b="0" lang="en-US" sz="3400" spc="-1" strike="noStrike">
              <a:solidFill>
                <a:srgbClr val="000000"/>
              </a:solidFill>
              <a:latin typeface="Times New Roman"/>
            </a:endParaRPr>
          </a:p>
        </p:txBody>
      </p:sp>
      <p:sp>
        <p:nvSpPr>
          <p:cNvPr id="53" name=""/>
          <p:cNvSpPr/>
          <p:nvPr/>
        </p:nvSpPr>
        <p:spPr>
          <a:xfrm>
            <a:off x="1447920" y="3260880"/>
            <a:ext cx="586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	</a:t>
            </a:r>
            <a:r>
              <a:rPr b="1" lang="en-US" sz="2000" spc="-1" strike="noStrike">
                <a:solidFill>
                  <a:srgbClr val="0099ff"/>
                </a:solidFill>
                <a:latin typeface="Arial"/>
              </a:rPr>
              <a:t>Rajugopal Gubbi, Sharewave</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Wim Diepstraten, Lucent Technologie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Jin-Meng Ho, AT&amp;T Laboratories</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8B03A852-8F65-49DB-B813-377D06CC3F65}" type="datetime3">
              <a:rPr lang="en-US"/>
              <a:t>July 29,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1" name="PlaceHolder 2"/>
          <p:cNvSpPr>
            <a:spLocks noGrp="1"/>
          </p:cNvSpPr>
          <p:nvPr>
            <p:ph/>
          </p:nvPr>
        </p:nvSpPr>
        <p:spPr>
          <a:xfrm>
            <a:off x="533520" y="1584000"/>
            <a:ext cx="82296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hould be able to request a stream connection specifying the QoS parameter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verify that the device is authorized to consume the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the requesting device of the QoS parameter values it can currently support. This enables negotiation between the coordinator and the requesting devic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9BA836B-F02E-45BD-AE16-6D5A66A4F0EC}"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3" name="PlaceHolder 2"/>
          <p:cNvSpPr>
            <a:spLocks noGrp="1"/>
          </p:cNvSpPr>
          <p:nvPr>
            <p:ph/>
          </p:nvPr>
        </p:nvSpPr>
        <p:spPr>
          <a:xfrm>
            <a:off x="533520" y="166032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either admit or reject the reques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oS of existing streams can be preserv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urrent stream priority can be support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fficient bandwidth is available</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pecified latency is achievable: can allow for multiple transmissions in a single Beacon interva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be able to inform the requestor of decis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0DBC2F1-5B3F-45B7-9817-B7DD2E7EA7D1}"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5" name="PlaceHolder 2"/>
          <p:cNvSpPr>
            <a:spLocks noGrp="1"/>
          </p:cNvSpPr>
          <p:nvPr>
            <p:ph/>
          </p:nvPr>
        </p:nvSpPr>
        <p:spPr>
          <a:xfrm>
            <a:off x="533520" y="166068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riorities should be support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Isochronous prioriti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non-isochronous priorities (hi/m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effort (low, today’s 802.11 MSDU defaul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admission requires exchange of one management frame (including priority, BW alloc and latency as parameter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C980995-2F95-4B53-B42E-602DA1B6B3A9}"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7" name="PlaceHolder 2"/>
          <p:cNvSpPr>
            <a:spLocks noGrp="1"/>
          </p:cNvSpPr>
          <p:nvPr>
            <p:ph/>
          </p:nvPr>
        </p:nvSpPr>
        <p:spPr>
          <a:xfrm>
            <a:off x="228600" y="1371600"/>
            <a:ext cx="86868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pecify the ACK and Retry strategy based on the needs of the stream</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reams have varying needs for ACKs and retrie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s take time and require Tx-Rx turnarounds that reduce available throughput so should only be used when and as needed</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ome FEC and/or content protection codes an immediate ACK decision may be infeasibl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FED95F83-8D07-42D4-B58B-2040BFEF8CBD}"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9" name="PlaceHolder 2"/>
          <p:cNvSpPr>
            <a:spLocks noGrp="1"/>
          </p:cNvSpPr>
          <p:nvPr>
            <p:ph/>
          </p:nvPr>
        </p:nvSpPr>
        <p:spPr>
          <a:xfrm>
            <a:off x="533520" y="1295280"/>
            <a:ext cx="815328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possible to negotiate re-transmission parameters between the tx and rx devic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should be able to accumulate the retransmission requests and send as a combined response</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allowable time/buffer size bound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device should be able to do selective re-transmission (as opposed to go-back-t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s must be part of stream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DoNotAck” for use on frames which will not be retried by the sender</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lso be used on final retry attempt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DA244EC-ABCE-429D-BAA8-BC3D60D2D0BA}"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1" name="PlaceHolder 2"/>
          <p:cNvSpPr>
            <a:spLocks noGrp="1"/>
          </p:cNvSpPr>
          <p:nvPr>
            <p:ph/>
          </p:nvPr>
        </p:nvSpPr>
        <p:spPr>
          <a:xfrm>
            <a:off x="380520" y="1050840"/>
            <a:ext cx="899172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the receiving station to support synchronization of streams of different types (for example, audio and video)</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stream data are necessarily encoded within a single stream (i.e. gaming with voice-ove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implementing time-to-live limits, buffer aging at intermediate relay entities, inter-BSS forwarding in ESS, et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ayers do not take into account the latency of the WLAN access. So the MAC needs to provide hooks to compensate for tha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provide timing support in the order of T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459D7A1-6863-4D44-AFD7-E081720A32AB}"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3" name="PlaceHolder 2"/>
          <p:cNvSpPr>
            <a:spLocks noGrp="1"/>
          </p:cNvSpPr>
          <p:nvPr>
            <p:ph/>
          </p:nvPr>
        </p:nvSpPr>
        <p:spPr>
          <a:xfrm>
            <a:off x="533520" y="1371240"/>
            <a:ext cx="7772400" cy="16174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must timestamp the outgoing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report the time information to higher layers to assist stream synchroniz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7020AF2-ADE0-415F-9044-46CC777B17F0}"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5"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VBR traffic without needing to reserv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nitor bandwidth usage for stream</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streams to use unallocated or temporarily spare bandwidth as neede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95623D2-B5E5-4B6B-B86E-E420855D379C}" type="datetime3">
              <a:rPr lang="en-US"/>
              <a:t>July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7"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periodically send out their bandwidth usage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spond to dynamic requests for bandwidth changes from devic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monitor bandwidth usage and renegotiate th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negotiate bandwidth from a lower priority stream to a higher priority strea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69583BC-41F1-4D8A-A519-315BD409663B}" type="datetime3">
              <a:rPr lang="en-US"/>
              <a:t>July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and Connection Handling</a:t>
            </a:r>
            <a:endParaRPr b="1" lang="en-US" sz="2400" spc="-1" strike="noStrike">
              <a:solidFill>
                <a:srgbClr val="0066ff"/>
              </a:solidFill>
              <a:latin typeface="Arial"/>
            </a:endParaRPr>
          </a:p>
        </p:txBody>
      </p:sp>
      <p:sp>
        <p:nvSpPr>
          <p:cNvPr id="8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reassociate between BSSs in an ESS while maintaining QoS guarantee and established streams when moving to adjacent BSS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re-association contingent upon new BSS having sufficient bandwidth available to accept the new stream and its QoS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llow QoS while roaming</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EB7AE9C2-EDED-45A1-9162-9F5AD69CAA94}"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History</a:t>
            </a:r>
            <a:endParaRPr b="1" lang="en-US" sz="2400" spc="-1" strike="noStrike">
              <a:solidFill>
                <a:srgbClr val="0066ff"/>
              </a:solidFill>
              <a:latin typeface="Arial"/>
            </a:endParaRPr>
          </a:p>
        </p:txBody>
      </p:sp>
      <p:sp>
        <p:nvSpPr>
          <p:cNvPr id="55" name="PlaceHolder 2"/>
          <p:cNvSpPr>
            <a:spLocks noGrp="1"/>
          </p:cNvSpPr>
          <p:nvPr>
            <p:ph/>
          </p:nvPr>
        </p:nvSpPr>
        <p:spPr>
          <a:xfrm>
            <a:off x="533520" y="1457280"/>
            <a:ext cx="8229600" cy="364968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articipants have generated proposals for QoS extensions to the 802.11 MAC standard</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est of achieving a fast standard proces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got together over the last month to see where we agree</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o explore where and how we can compromise</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the result of that joint effor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D224ECF-2B3E-46D7-8709-E498CB030AE5}" type="datetime3">
              <a:rPr lang="en-US"/>
              <a:t>July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Connection and Handling</a:t>
            </a:r>
            <a:endParaRPr b="1" lang="en-US" sz="2400" spc="-1" strike="noStrike">
              <a:solidFill>
                <a:srgbClr val="0066ff"/>
              </a:solidFill>
              <a:latin typeface="Arial"/>
            </a:endParaRPr>
          </a:p>
        </p:txBody>
      </p:sp>
      <p:sp>
        <p:nvSpPr>
          <p:cNvPr id="91" name="PlaceHolder 2"/>
          <p:cNvSpPr>
            <a:spLocks noGrp="1"/>
          </p:cNvSpPr>
          <p:nvPr>
            <p:ph/>
          </p:nvPr>
        </p:nvSpPr>
        <p:spPr>
          <a:xfrm>
            <a:off x="533160" y="1371240"/>
            <a:ext cx="830556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e-association mechanism can be extended for smooth hand over while maintaining the Qo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nd Probe responses must contain an element for load ind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select coordinator for re-association based on the load indication and its own QoS requir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oordinator must obtain QoS parameters of the re-associating device from the old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accept or reject re-association based on the requested Qo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132529B-CC96-46AF-A523-911838CCCBB0}" type="datetime3">
              <a:rPr lang="en-US"/>
              <a:t>July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3" name="PlaceHolder 2"/>
          <p:cNvSpPr>
            <a:spLocks noGrp="1"/>
          </p:cNvSpPr>
          <p:nvPr>
            <p:ph/>
          </p:nvPr>
        </p:nvSpPr>
        <p:spPr>
          <a:xfrm>
            <a:off x="533520" y="1295280"/>
            <a:ext cx="77724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overlapping BSSs on the same channel in a cooperative manner even when BSSs are not part of the same ESS and are not able to communicate directly via wireless or wired network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ded environments (I.e. apartments) can easily exceed the number of distinct physical channe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useful for installing and managing a full-coverage ESS in an enterprise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75477FB-D349-4C2B-B5C3-829574082512}" type="datetime3">
              <a:rPr lang="en-US"/>
              <a:t>July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5" name="PlaceHolder 2"/>
          <p:cNvSpPr>
            <a:spLocks noGrp="1"/>
          </p:cNvSpPr>
          <p:nvPr>
            <p:ph/>
          </p:nvPr>
        </p:nvSpPr>
        <p:spPr>
          <a:xfrm>
            <a:off x="533520" y="1371240"/>
            <a:ext cx="815328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be able to send their measured channel statistics periodically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s should be able to detect the presence of another BSS or be informed by a STA in the area of overla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should be able to negotiate their sharing of the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lapping BSSs should be able to conform to the negotiated portion of the shared bandwidth</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FC69843-8247-4D1D-B078-8492C53AB58A}" type="datetime3">
              <a:rPr lang="en-US"/>
              <a:t>July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7"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on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must be able to renegotiate QoS parameters of a stream to conform to new conditions using the already described DBM mechanis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ing must be scalable to at least four overlapping BSS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s in area of overlap can relay shared info when the APs can not communicate directl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CBBD52E-1CE6-43D2-81AE-E70581EF9134}" type="datetime3">
              <a:rPr lang="en-US"/>
              <a:t>July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99"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detect and correct transmitted data in the presence of channel error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ream type requirements require low BER (~1x10</a:t>
            </a:r>
            <a:r>
              <a:rPr b="0" lang="en-US" sz="2400" spc="-1" strike="noStrike" baseline="30000">
                <a:solidFill>
                  <a:srgbClr val="000000"/>
                </a:solidFill>
                <a:latin typeface="Arial"/>
              </a:rPr>
              <a:t>-8</a:t>
            </a:r>
            <a:r>
              <a:rPr b="0" lang="en-US" sz="2400" spc="-1" strike="noStrike">
                <a:solidFill>
                  <a:srgbClr val="000000"/>
                </a:solidFill>
                <a:latin typeface="Arial"/>
              </a:rPr>
              <a:t>) in order to perform as users expec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to look at FEC gain in high interference and delay spread environment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for FEC for 802.11a PHY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7D47636-3360-40FB-B8CE-2415E845F969}" type="datetime3">
              <a:rPr lang="en-US"/>
              <a:t>July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101"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tion of FEC is indicated by a capability bi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d Solomon (255,239) code as base scheme for use with 802.11b PHY</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negotiate different code block lengths to improve the channel performance for each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and Rx device must be able to negotiate one from some number of defined FEC schemes for each stream using fixed code for first code block of MPD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C9FF1E5-09CC-43A5-BF5B-A5C63EEDFB56}" type="datetime3">
              <a:rPr lang="en-US"/>
              <a:t>July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3"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one STA to communicate directly with another STA in the same BSS without having to do so through an intermediar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stream admittance and bandwidth reservation/allocation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onservation in a bandwidth limited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868C990-E228-4B7F-8DC8-42541FCCF0C8}" type="datetime3">
              <a:rPr lang="en-US"/>
              <a:t>July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5"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allocate bandwidth for Dynamic TDM-style transmission using the already described admission control and DBM mechanism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be able to pre-negotiate bandwidth using the already described admission control and DBM mechanisms, and transmit frames in Dynamic TDM-styl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receive without necessarily ACKing immediately using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EAA2494-9495-434E-A886-339BFFDBF7AC}" type="datetime3">
              <a:rPr lang="en-US"/>
              <a:t>July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7"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the existing multicast ability to include selective retransmission of frames by an arbitrary subset of STAs in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selective, multicast distribution of media streams while maintaining Qo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conserves bandwidth versus doing separate bilateral transmission to each STA in the relevant subset of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9A10F3CD-D048-40C3-B03E-0BB5159DA3E7}" type="datetime3">
              <a:rPr lang="en-US"/>
              <a:t>July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9"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obtain permission from the coordinator to consume any stream in the BSS using the already described admission control mechanism </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device must be able to collect retransmission requests from all the rx devices and appropriately retransmit. The request for retransmission and the retransmission process make use of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D104B7F-9F4C-4AFE-A560-2BC9FB2CD8E6}"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57" name="PlaceHolder 2"/>
          <p:cNvSpPr>
            <a:spLocks noGrp="1"/>
          </p:cNvSpPr>
          <p:nvPr>
            <p:ph/>
          </p:nvPr>
        </p:nvSpPr>
        <p:spPr>
          <a:xfrm>
            <a:off x="456840" y="1447920"/>
            <a:ext cx="7620120" cy="320328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es</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Methods</a:t>
            </a:r>
            <a:endParaRPr b="1"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AT&amp;T)</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ShareWave)</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Luc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9AB073D-B585-41B9-A98A-F10765CD004D}" type="datetime3">
              <a:rPr lang="en-US"/>
              <a:t>July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hoose dynamically the physical channel on which a single BSS should operat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high severity in the current channel of operation</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vercome  overlapped BSS scenario to the extent possible</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pability is required in the ETSI rules for the 5.2GHz band</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02C515F5-D79B-48E2-8FB1-CB0618B2B626}" type="datetime3">
              <a:rPr lang="en-US"/>
              <a:t>July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3"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assess the channel condition using the channel statistics described in overlapped BSS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to achieve a short pause in BSS operation while looking for a better channe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all the devices in the BSS to change to the new channe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830E9DB-4F9F-4023-8ABE-6F376188488C}" type="datetime3">
              <a:rPr lang="en-US"/>
              <a:t>July 29,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 Considerations</a:t>
            </a:r>
            <a:endParaRPr b="1" lang="en-US" sz="2400" spc="-1" strike="noStrike">
              <a:solidFill>
                <a:srgbClr val="0066ff"/>
              </a:solidFill>
              <a:latin typeface="Arial"/>
            </a:endParaRPr>
          </a:p>
        </p:txBody>
      </p:sp>
      <p:sp>
        <p:nvSpPr>
          <p:cNvPr id="115"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avoid or minimize channel collision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schedule transmission opportunities &amp; limit max TxOp to &lt;2304 octet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maintain a high efficiency in the use of the available channel bandwidth and allow practical sharing of channel with nearby BSSs if necessar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C6106ED2-91C8-4966-90E7-84F1FC8D1DAE}" type="datetime3">
              <a:rPr lang="en-US"/>
              <a:t>July 29,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s</a:t>
            </a:r>
            <a:endParaRPr b="1" lang="en-US" sz="2400" spc="-1" strike="noStrike">
              <a:solidFill>
                <a:srgbClr val="0066ff"/>
              </a:solidFill>
              <a:latin typeface="Arial"/>
            </a:endParaRPr>
          </a:p>
        </p:txBody>
      </p:sp>
      <p:sp>
        <p:nvSpPr>
          <p:cNvPr id="117" name="PlaceHolder 2"/>
          <p:cNvSpPr>
            <a:spLocks noGrp="1"/>
          </p:cNvSpPr>
          <p:nvPr>
            <p:ph/>
          </p:nvPr>
        </p:nvSpPr>
        <p:spPr>
          <a:xfrm>
            <a:off x="533520" y="1371240"/>
            <a:ext cx="7772400" cy="19983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mp;T MediaPlex</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Wave WhiteCap</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cent Blackburst</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6EC5AC79-2698-4608-98F0-4BD16EF37D03}" type="datetime3">
              <a:rPr lang="en-US"/>
              <a:t>July 29,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82560" y="700200"/>
            <a:ext cx="7778880" cy="53197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82560" y="662040"/>
            <a:ext cx="7778880" cy="52434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82560" y="263520"/>
            <a:ext cx="7778880" cy="60436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82560" y="228600"/>
            <a:ext cx="7778880" cy="60706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49400" y="208080"/>
            <a:ext cx="8845200" cy="61531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68280" y="168120"/>
            <a:ext cx="8407440" cy="661356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9" name="PlaceHolder 2"/>
          <p:cNvSpPr>
            <a:spLocks noGrp="1"/>
          </p:cNvSpPr>
          <p:nvPr>
            <p:ph/>
          </p:nvPr>
        </p:nvSpPr>
        <p:spPr>
          <a:xfrm>
            <a:off x="533520" y="1447560"/>
            <a:ext cx="8229600" cy="3014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want to achieve</a:t>
            </a:r>
            <a:endParaRPr b="1"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mpatibility with the existing 802.11 devices</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hooks in the MAC to enable QoS Extension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uitable integration in a QoS system </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IETF type of bandwidth reservation</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le to Home and Enterprise network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6BAC4CA-2591-4CB5-B049-7D9F6CE25552}" type="datetime3">
              <a:rPr lang="en-US"/>
              <a:t>July 29,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82560" y="533520"/>
            <a:ext cx="7778880" cy="57625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82560" y="457200"/>
            <a:ext cx="7778880" cy="60390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82560" y="152280"/>
            <a:ext cx="7778880" cy="61344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515880" y="206280"/>
            <a:ext cx="8112240" cy="61182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2560" y="214200"/>
            <a:ext cx="7778880" cy="61102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2560" y="196920"/>
            <a:ext cx="7778880" cy="59752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84200" y="228600"/>
            <a:ext cx="8172360" cy="60562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598320" y="515880"/>
            <a:ext cx="7944120" cy="58230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681120" y="533520"/>
            <a:ext cx="7778520" cy="57402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1120" y="289080"/>
            <a:ext cx="7778520" cy="595944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61" name="PlaceHolder 2"/>
          <p:cNvSpPr>
            <a:spLocks noGrp="1"/>
          </p:cNvSpPr>
          <p:nvPr>
            <p:ph/>
          </p:nvPr>
        </p:nvSpPr>
        <p:spPr>
          <a:xfrm>
            <a:off x="533520" y="1218960"/>
            <a:ext cx="82296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commonality between three separate proposa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QoS extension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mechanisms under consideration</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not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ivacy and Content Prote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eyond 40-bit WE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P: Multimedia-specific features will require inter-SG cooper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EF3FB3A-41AF-4F9E-A79E-22019B4DDF11}" type="datetime3">
              <a:rPr lang="en-US"/>
              <a:t>July 29,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81120" y="457200"/>
            <a:ext cx="7778520" cy="582444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81120" y="380880"/>
            <a:ext cx="7778520" cy="57484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81120" y="533520"/>
            <a:ext cx="7778520" cy="56736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681120" y="457200"/>
            <a:ext cx="7778520" cy="57880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49440" y="533520"/>
            <a:ext cx="7842240" cy="573696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1120" y="541440"/>
            <a:ext cx="7778520" cy="57736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81120" y="380880"/>
            <a:ext cx="7778520" cy="63090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81120" y="222120"/>
            <a:ext cx="7778520" cy="64836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98320" y="534960"/>
            <a:ext cx="7944120" cy="578484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81120" y="652320"/>
            <a:ext cx="7778520" cy="55501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xt</a:t>
            </a:r>
            <a:endParaRPr b="1" lang="en-US" sz="2400" spc="-1" strike="noStrike">
              <a:solidFill>
                <a:srgbClr val="0066ff"/>
              </a:solidFill>
              <a:latin typeface="Arial"/>
            </a:endParaRPr>
          </a:p>
        </p:txBody>
      </p:sp>
      <p:sp>
        <p:nvSpPr>
          <p:cNvPr id="63" name="PlaceHolder 2"/>
          <p:cNvSpPr>
            <a:spLocks noGrp="1"/>
          </p:cNvSpPr>
          <p:nvPr>
            <p:ph/>
          </p:nvPr>
        </p:nvSpPr>
        <p:spPr>
          <a:xfrm>
            <a:off x="533160" y="1371240"/>
            <a:ext cx="8381880" cy="4283640"/>
          </a:xfrm>
          <a:prstGeom prst="rect">
            <a:avLst/>
          </a:prstGeom>
          <a:noFill/>
          <a:ln w="0">
            <a:noFill/>
          </a:ln>
        </p:spPr>
        <p:txBody>
          <a:bodyPr lIns="90000" rIns="90000" tIns="46800" bIns="46800" anchor="t">
            <a:normAutofit/>
          </a:bodyPr>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s are the unit for QoS guarantee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eam is identified by Stream ID, which is unique in the context of originating station MAC addres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parameters of each stream are known at all endpoints of stream and coordinator</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ordination entity per BSS, but not necessarily with link to infrastructure (for AdHoc) and it can be collocated with the AP, PC and/or Porta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Opportunities (TxOps) are granted to streams, but may be used, within defined time limits, for any available transmission under STA contro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537484D-E899-4D05-8DCB-448375AFF473}" type="datetime3">
              <a:rPr lang="en-US"/>
              <a:t>July 29,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81120" y="380880"/>
            <a:ext cx="7778520" cy="58788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167652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ynamic TDM, non-polled Channel Access</a:t>
            </a:r>
            <a:endParaRPr b="0" lang="en-US" sz="3400" spc="-1" strike="noStrike">
              <a:solidFill>
                <a:srgbClr val="000000"/>
              </a:solidFill>
              <a:latin typeface="Times New Roman"/>
            </a:endParaRPr>
          </a:p>
        </p:txBody>
      </p:sp>
      <p:sp>
        <p:nvSpPr>
          <p:cNvPr id="146" name=""/>
          <p:cNvSpPr/>
          <p:nvPr/>
        </p:nvSpPr>
        <p:spPr>
          <a:xfrm>
            <a:off x="1447920" y="3108240"/>
            <a:ext cx="586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Rajugopal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F950D274-E133-4BD6-B8A3-3BBB20241A3A}" type="datetime3">
              <a:rPr lang="en-US"/>
              <a:t>July 29,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148" name="PlaceHolder 2"/>
          <p:cNvSpPr>
            <a:spLocks noGrp="1"/>
          </p:cNvSpPr>
          <p:nvPr>
            <p:ph/>
          </p:nvPr>
        </p:nvSpPr>
        <p:spPr>
          <a:xfrm>
            <a:off x="456840" y="1447920"/>
            <a:ext cx="7620120" cy="275904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proposed channel access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hierarchy</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channel </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the proposed channel access mechanism</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463F5920-A9BB-4925-B487-D55CB04A0FAF}" type="datetime3">
              <a:rPr lang="en-US"/>
              <a:t>July 29,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 of the proposed channel access mechanism</a:t>
            </a:r>
            <a:endParaRPr b="1" lang="en-US" sz="2400" spc="-1" strike="noStrike">
              <a:solidFill>
                <a:srgbClr val="0066ff"/>
              </a:solidFill>
              <a:latin typeface="Arial"/>
            </a:endParaRPr>
          </a:p>
        </p:txBody>
      </p:sp>
      <p:sp>
        <p:nvSpPr>
          <p:cNvPr id="150" name="PlaceHolder 2"/>
          <p:cNvSpPr>
            <a:spLocks noGrp="1"/>
          </p:cNvSpPr>
          <p:nvPr>
            <p:ph/>
          </p:nvPr>
        </p:nvSpPr>
        <p:spPr>
          <a:xfrm>
            <a:off x="456840" y="1218960"/>
            <a:ext cx="7620120" cy="498132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F based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 to PCF for non-polled, direct transmissions by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divides the CFP into tx-slots for each device and conveys them to the requesting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transmit their data within their individual allocated time in the CFP</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communicate their last packet transmission in their tx-slot so that the next device in line for transmission can take advantage of any temporarily left over bandwidth</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8EC10DF4-0543-4367-A690-6A564D118323}" type="datetime3">
              <a:rPr lang="en-US"/>
              <a:t>July 29,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ransmission Hierarchy</a:t>
            </a:r>
            <a:endParaRPr b="1" lang="en-US" sz="2400" spc="-1" strike="noStrike">
              <a:solidFill>
                <a:srgbClr val="0066ff"/>
              </a:solidFill>
              <a:latin typeface="Arial"/>
            </a:endParaRPr>
          </a:p>
        </p:txBody>
      </p:sp>
      <p:graphicFrame>
        <p:nvGraphicFramePr>
          <p:cNvPr id="152" name=""/>
          <p:cNvGraphicFramePr/>
          <p:nvPr/>
        </p:nvGraphicFramePr>
        <p:xfrm>
          <a:off x="887400" y="1379520"/>
          <a:ext cx="6912000" cy="4487760"/>
        </p:xfrm>
        <a:graphic>
          <a:graphicData uri="http://schemas.openxmlformats.org/presentationml/2006/ole">
            <p:oleObj r:id="rId1" spid="">
              <p:embed/>
              <p:pic>
                <p:nvPicPr>
                  <p:cNvPr id="153" name="" descr=""/>
                  <p:cNvPicPr/>
                  <p:nvPr/>
                </p:nvPicPr>
                <p:blipFill>
                  <a:blip r:embed="rId2"/>
                  <a:stretch/>
                </p:blipFill>
                <p:spPr>
                  <a:xfrm>
                    <a:off x="887400" y="1379520"/>
                    <a:ext cx="6912000" cy="4487760"/>
                  </a:xfrm>
                  <a:prstGeom prst="rect">
                    <a:avLst/>
                  </a:prstGeom>
                  <a:ln w="0">
                    <a:noFill/>
                  </a:ln>
                </p:spPr>
              </p:pic>
            </p:oleObj>
          </a:graphicData>
        </a:graphic>
      </p:graphicFrame>
      <p:sp>
        <p:nvSpPr>
          <p:cNvPr id="3" name="PlaceHolder 2"/>
          <p:cNvSpPr>
            <a:spLocks noGrp="1"/>
          </p:cNvSpPr>
          <p:nvPr>
            <p:ph type="dt" idx="1"/>
          </p:nvPr>
        </p:nvSpPr>
        <p:spPr/>
        <p:txBody>
          <a:bodyPr/>
          <a:p>
            <a:fld id="{4F448E36-60FC-4DD6-A342-47222BBD6CF9}" type="datetime3">
              <a:rPr lang="en-US"/>
              <a:t>July 29,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a:t>
            </a:r>
            <a:endParaRPr b="1" lang="en-US" sz="2400" spc="-1" strike="noStrike">
              <a:solidFill>
                <a:srgbClr val="0066ff"/>
              </a:solidFill>
              <a:latin typeface="Arial"/>
            </a:endParaRPr>
          </a:p>
        </p:txBody>
      </p:sp>
      <p:sp>
        <p:nvSpPr>
          <p:cNvPr id="155" name="PlaceHolder 2"/>
          <p:cNvSpPr>
            <a:spLocks noGrp="1"/>
          </p:cNvSpPr>
          <p:nvPr>
            <p:ph/>
          </p:nvPr>
        </p:nvSpPr>
        <p:spPr>
          <a:xfrm>
            <a:off x="456840" y="1761840"/>
            <a:ext cx="8381880" cy="364788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times are negotiated/allocated during the stream admission using the Admission control as described in the synergy sec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provides tx-list during Admission control negotia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assesses its bandwidth requirement for the stream and sends it as part of channel statistics. Further changes to channel access times are negotiated/allocated using the DBM mechanism as described in the synergy section</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F5D8D050-89AB-4018-998C-BD7CF197C16E}" type="datetime3">
              <a:rPr lang="en-US"/>
              <a:t>July 29,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 (contd..)</a:t>
            </a:r>
            <a:endParaRPr b="1" lang="en-US" sz="2400" spc="-1" strike="noStrike">
              <a:solidFill>
                <a:srgbClr val="0066ff"/>
              </a:solidFill>
              <a:latin typeface="Arial"/>
            </a:endParaRPr>
          </a:p>
        </p:txBody>
      </p:sp>
      <p:sp>
        <p:nvSpPr>
          <p:cNvPr id="157"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 from PC is used for time reference</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tarts transmission at the beginning of its allocated time. The device can start early if it detects the last frame tx from the previous device in the tx-list</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arks the last frame transmitted and finishes at or before the end of its allocated ti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A4973CC8-1510-4D8D-A048-00582AB0E8E2}" type="datetime3">
              <a:rPr lang="en-US"/>
              <a:t>July 29,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vantages of the proposed channel access mechanism</a:t>
            </a:r>
            <a:endParaRPr b="1" lang="en-US" sz="2400" spc="-1" strike="noStrike">
              <a:solidFill>
                <a:srgbClr val="0066ff"/>
              </a:solidFill>
              <a:latin typeface="Arial"/>
            </a:endParaRPr>
          </a:p>
        </p:txBody>
      </p:sp>
      <p:sp>
        <p:nvSpPr>
          <p:cNvPr id="159"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overhead</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hanges are demand based (quasi-static)</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emporarily unused bandwidth of one device by the next device in the tx-list and hence not requiring frequent bandwidth re-negotiation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based, simple implementation is possibl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50529F51-4EF6-49D7-9224-96388C161CB7}" type="datetime3">
              <a:rPr lang="en-US"/>
              <a:t>July 29, 2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ucent Blackburst</a:t>
            </a:r>
            <a:endParaRPr b="1" lang="en-US" sz="2400" spc="-1" strike="noStrike">
              <a:solidFill>
                <a:srgbClr val="0066ff"/>
              </a:solidFill>
              <a:latin typeface="Arial"/>
            </a:endParaRPr>
          </a:p>
        </p:txBody>
      </p:sp>
      <p:sp>
        <p:nvSpPr>
          <p:cNvPr id="16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1AB55EC7-1CE0-4089-871C-205FDD7DAF47}" type="datetime3">
              <a:rPr lang="en-US"/>
              <a:t>July 29, 2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ucent</a:t>
            </a:r>
            <a:r>
              <a:rPr b="1" lang="en-US" sz="2400" spc="-1" strike="noStrike">
                <a:solidFill>
                  <a:srgbClr val="0066ff"/>
                </a:solidFill>
                <a:latin typeface="Arial"/>
              </a:rPr>
              <a:t> </a:t>
            </a:r>
            <a:r>
              <a:rPr b="1" lang="en-US" sz="2800" spc="-1" strike="noStrike">
                <a:solidFill>
                  <a:srgbClr val="0066ff"/>
                </a:solidFill>
                <a:latin typeface="Arial"/>
              </a:rPr>
              <a:t>Proposal</a:t>
            </a:r>
            <a:endParaRPr b="1" lang="en-US" sz="2800" spc="-1" strike="noStrike">
              <a:solidFill>
                <a:srgbClr val="0066ff"/>
              </a:solidFill>
              <a:latin typeface="Arial"/>
            </a:endParaRPr>
          </a:p>
        </p:txBody>
      </p:sp>
      <p:sp>
        <p:nvSpPr>
          <p:cNvPr id="163"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ucent proposes BlackBurst as a distributed access mechanism that can satisfy QoS need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n extension of the DCF procedure.</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able to do collision free contention resolution between QoS contenders, and the DCF traffi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utomatically resolves BSS overlap.</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F5FC68BF-3C85-43C0-BBAB-4F11086946E4}"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ynergies</a:t>
            </a:r>
            <a:endParaRPr b="1" lang="en-US" sz="2400" spc="-1" strike="noStrike">
              <a:solidFill>
                <a:srgbClr val="0066ff"/>
              </a:solidFill>
              <a:latin typeface="Arial"/>
            </a:endParaRPr>
          </a:p>
        </p:txBody>
      </p:sp>
      <p:sp>
        <p:nvSpPr>
          <p:cNvPr id="65" name="PlaceHolder 2"/>
          <p:cNvSpPr>
            <a:spLocks noGrp="1"/>
          </p:cNvSpPr>
          <p:nvPr>
            <p:ph/>
          </p:nvPr>
        </p:nvSpPr>
        <p:spPr>
          <a:xfrm>
            <a:off x="533520" y="121932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ssion Control</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Assignmen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allocation/reserva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anteed Latency Bound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able Acknowledgement Typ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andwidth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am Synchronization Suppor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aming and Connection Handl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SS Overlap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Channel Protec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STA-to-STA Commun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le Multicast Stream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Frequency Sele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62AF396-DB78-4DF6-BC9E-9D95BF3A4DFE}" type="datetime3">
              <a:rPr lang="en-US"/>
              <a:t>July 29, 2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37720" y="1905120"/>
            <a:ext cx="8077320" cy="3657600"/>
          </a:xfrm>
          <a:prstGeom prst="rect">
            <a:avLst/>
          </a:prstGeom>
          <a:noFill/>
          <a:ln w="0">
            <a:noFill/>
          </a:ln>
        </p:spPr>
        <p:txBody>
          <a:bodyPr lIns="92160" rIns="92160" tIns="46080" bIns="46080" anchor="t">
            <a:normAutofit fontScale="94000"/>
          </a:bodyPr>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nterframe spacings, as in the IEEE 802.11 standard</a:t>
            </a:r>
            <a:endParaRPr b="1"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SHOR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ponse packets (S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al-time (RT) stations (P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LO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ata stations (DIFS)</a:t>
            </a:r>
            <a:endParaRPr b="0"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ng capabilities, as in CSMA/CA</a:t>
            </a: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ity of RT stations to send </a:t>
            </a:r>
            <a:r>
              <a:rPr b="1" i="1" lang="en-US" sz="2400" spc="-1" strike="noStrike">
                <a:solidFill>
                  <a:srgbClr val="000000"/>
                </a:solidFill>
                <a:latin typeface="Arial"/>
              </a:rPr>
              <a:t>black bursts</a:t>
            </a:r>
            <a:endParaRPr b="1" lang="en-US" sz="2400" spc="-1" strike="noStrike">
              <a:solidFill>
                <a:srgbClr val="000000"/>
              </a:solidFill>
              <a:latin typeface="Arial"/>
            </a:endParaRPr>
          </a:p>
          <a:p>
            <a:pPr marL="322200" indent="-32220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ch is Preamble modulation during a BlackBurst Slot duration.</a:t>
            </a:r>
            <a:endParaRPr b="1" lang="en-US" sz="2000" spc="-1" strike="noStrike">
              <a:solidFill>
                <a:srgbClr val="000000"/>
              </a:solidFill>
              <a:latin typeface="Arial"/>
            </a:endParaRPr>
          </a:p>
        </p:txBody>
      </p:sp>
      <p:sp>
        <p:nvSpPr>
          <p:cNvPr id="165"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uses a DCF extens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09480" y="1523520"/>
            <a:ext cx="8305920" cy="4876920"/>
          </a:xfrm>
          <a:prstGeom prst="rect">
            <a:avLst/>
          </a:prstGeom>
          <a:noFill/>
          <a:ln w="0">
            <a:noFill/>
          </a:ln>
        </p:spPr>
        <p:txBody>
          <a:bodyPr lIns="92160" rIns="92160" tIns="46080" bIns="4608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n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s for at least T</a:t>
            </a:r>
            <a:r>
              <a:rPr b="0" lang="en-US" sz="2400" spc="-1" strike="noStrike" baseline="-25000">
                <a:solidFill>
                  <a:srgbClr val="000000"/>
                </a:solidFill>
                <a:latin typeface="Arial"/>
              </a:rPr>
              <a:t>PKT</a:t>
            </a:r>
            <a:r>
              <a:rPr b="0" lang="en-US" sz="2400" spc="-1" strike="noStrike">
                <a:solidFill>
                  <a:srgbClr val="000000"/>
                </a:solidFill>
                <a:latin typeface="Arial"/>
              </a:rPr>
              <a:t> s.</a:t>
            </a:r>
            <a:endParaRPr b="0"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s the next access instant to D</a:t>
            </a:r>
            <a:r>
              <a:rPr b="0" lang="en-US" sz="2400" spc="-1" strike="noStrike" baseline="-25000">
                <a:solidFill>
                  <a:srgbClr val="000000"/>
                </a:solidFill>
                <a:latin typeface="Arial"/>
              </a:rPr>
              <a:t>MIN</a:t>
            </a:r>
            <a:r>
              <a:rPr b="0" lang="en-US" sz="2400" spc="-1" strike="noStrike">
                <a:solidFill>
                  <a:srgbClr val="000000"/>
                </a:solidFill>
                <a:latin typeface="Arial"/>
              </a:rPr>
              <a:t> s. in the future</a:t>
            </a:r>
            <a:endParaRPr b="0" lang="en-US" sz="24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 scheduled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hannel has been idle for PIFS,  it transmits</a:t>
            </a:r>
            <a:endParaRPr b="0" lang="en-US" sz="2400" spc="-1" strike="noStrike">
              <a:solidFill>
                <a:srgbClr val="000000"/>
              </a:solidFill>
              <a:latin typeface="Arial"/>
            </a:endParaRPr>
          </a:p>
          <a:p>
            <a:pPr lvl="2" marL="108576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option is to always start BlackBurst contention.</a:t>
            </a:r>
            <a:endParaRPr b="0" lang="en-US" sz="20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waits until channel has been idle for PIFS and enters into black burst contention based on “Wait duration”.</a:t>
            </a:r>
            <a:endParaRPr b="0" lang="en-US" sz="2400" spc="-1" strike="noStrike">
              <a:solidFill>
                <a:srgbClr val="000000"/>
              </a:solidFill>
              <a:latin typeface="Arial"/>
            </a:endParaRPr>
          </a:p>
        </p:txBody>
      </p:sp>
      <p:sp>
        <p:nvSpPr>
          <p:cNvPr id="167"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asic opera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752480"/>
            <a:ext cx="8305920" cy="426744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 of black burst is proportional to delay in accessing the channel</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instants of distinct stations differ by at least T</a:t>
            </a:r>
            <a:r>
              <a:rPr b="1" lang="en-US" sz="2400" spc="-1" strike="noStrike" baseline="-25000">
                <a:solidFill>
                  <a:srgbClr val="000000"/>
                </a:solidFill>
                <a:latin typeface="Arial"/>
              </a:rPr>
              <a:t>PK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ack bursts differ by at least a black slo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que winner after a black burst contention period - the station that has been waiting the longes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annel access instant timing is reset after every successful contention / resynchronization.</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llisions, because there is only one winner </a:t>
            </a:r>
            <a:endParaRPr b="0" lang="en-US" sz="2400" spc="-1" strike="noStrike">
              <a:solidFill>
                <a:srgbClr val="000000"/>
              </a:solidFill>
              <a:latin typeface="Arial"/>
            </a:endParaRPr>
          </a:p>
        </p:txBody>
      </p:sp>
      <p:sp>
        <p:nvSpPr>
          <p:cNvPr id="169" name=""/>
          <p:cNvSpPr/>
          <p:nvPr/>
        </p:nvSpPr>
        <p:spPr>
          <a:xfrm>
            <a:off x="1981080" y="2895480"/>
            <a:ext cx="444600" cy="216000"/>
          </a:xfrm>
          <a:prstGeom prst="rightArrow">
            <a:avLst>
              <a:gd name="adj1" fmla="val 50000"/>
              <a:gd name="adj2" fmla="val 10298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2"/>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conten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687240" y="1440000"/>
          <a:ext cx="8037720" cy="4321080"/>
        </p:xfrm>
        <a:graphic>
          <a:graphicData uri="http://schemas.openxmlformats.org/presentationml/2006/ole">
            <p:oleObj r:id="rId1" spid="">
              <p:embed/>
              <p:pic>
                <p:nvPicPr>
                  <p:cNvPr id="172" name="" descr=""/>
                  <p:cNvPicPr/>
                  <p:nvPr/>
                </p:nvPicPr>
                <p:blipFill>
                  <a:blip r:embed="rId2"/>
                  <a:stretch/>
                </p:blipFill>
                <p:spPr>
                  <a:xfrm>
                    <a:off x="687240" y="1440000"/>
                    <a:ext cx="8037720" cy="4321080"/>
                  </a:xfrm>
                  <a:prstGeom prst="rect">
                    <a:avLst/>
                  </a:prstGeom>
                  <a:ln w="0">
                    <a:noFill/>
                  </a:ln>
                </p:spPr>
              </p:pic>
            </p:oleObj>
          </a:graphicData>
        </a:graphic>
      </p:graphicFrame>
      <p:sp>
        <p:nvSpPr>
          <p:cNvPr id="17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ample of operation</a:t>
            </a:r>
            <a:endParaRPr b="1" lang="en-US" sz="2800" spc="-1" strike="noStrike">
              <a:solidFill>
                <a:srgbClr val="0066ff"/>
              </a:solidFill>
              <a:latin typeface="Arial"/>
            </a:endParaRPr>
          </a:p>
        </p:txBody>
      </p:sp>
      <p:sp>
        <p:nvSpPr>
          <p:cNvPr id="3" name="PlaceHolder 2"/>
          <p:cNvSpPr>
            <a:spLocks noGrp="1"/>
          </p:cNvSpPr>
          <p:nvPr>
            <p:ph type="dt" idx="1"/>
          </p:nvPr>
        </p:nvSpPr>
        <p:spPr/>
        <p:txBody>
          <a:bodyPr/>
          <a:p>
            <a:r>
              <a:rPr lang="en-US"/>
              <a:t>November 1999</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160" y="1219320"/>
            <a:ext cx="8305560" cy="3962160"/>
          </a:xfrm>
          <a:prstGeom prst="rect">
            <a:avLst/>
          </a:prstGeom>
          <a:noFill/>
          <a:ln w="0">
            <a:noFill/>
          </a:ln>
        </p:spPr>
        <p:txBody>
          <a:bodyPr lIns="92160" rIns="92160" tIns="46080" bIns="46080" anchor="t">
            <a:normAutofit fontScale="89000"/>
          </a:bodyPr>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reception of an RT packet, a receiver knows when to expect the next packet</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certain timeout the receiver can send a CTS to invite the transmitter to repeat its last RT packet.</a:t>
            </a:r>
            <a:endParaRPr b="0" lang="en-US" sz="2400" spc="-1" strike="noStrike">
              <a:solidFill>
                <a:srgbClr val="000000"/>
              </a:solidFill>
              <a:latin typeface="Arial"/>
            </a:endParaRPr>
          </a:p>
          <a:p>
            <a:pPr lvl="2" marL="966240" indent="-2034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S will have a “Duration” that is consistent with the allocated bandwidth for this connection.</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for recovery from “Hidden Station” problems.</a:t>
            </a:r>
            <a:endParaRPr b="0" lang="en-US" sz="2400" spc="-1" strike="noStrike">
              <a:solidFill>
                <a:srgbClr val="000000"/>
              </a:solidFill>
              <a:latin typeface="Arial"/>
            </a:endParaRPr>
          </a:p>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S is used as a negative acknowledgment indication</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ness against hidden stations (implied RTS scheme)</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isting CTS makes it compatible with the current DCF.</a:t>
            </a:r>
            <a:endParaRPr b="0" lang="en-US" sz="2400" spc="-1" strike="noStrike">
              <a:solidFill>
                <a:srgbClr val="000000"/>
              </a:solidFill>
              <a:latin typeface="Arial"/>
            </a:endParaRPr>
          </a:p>
        </p:txBody>
      </p:sp>
      <p:sp>
        <p:nvSpPr>
          <p:cNvPr id="175"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Negative Acknowledgment</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ultiple priorities in BB</a:t>
            </a:r>
            <a:endParaRPr b="1" lang="en-US" sz="2800" spc="-1" strike="noStrike">
              <a:solidFill>
                <a:srgbClr val="0066ff"/>
              </a:solidFill>
              <a:latin typeface="Arial"/>
            </a:endParaRPr>
          </a:p>
        </p:txBody>
      </p:sp>
      <p:sp>
        <p:nvSpPr>
          <p:cNvPr id="177" name="PlaceHolder 2"/>
          <p:cNvSpPr>
            <a:spLocks noGrp="1"/>
          </p:cNvSpPr>
          <p:nvPr>
            <p:ph/>
          </p:nvPr>
        </p:nvSpPr>
        <p:spPr>
          <a:xfrm>
            <a:off x="533520" y="3065040"/>
            <a:ext cx="7772400" cy="2421000"/>
          </a:xfrm>
          <a:prstGeom prst="rect">
            <a:avLst/>
          </a:prstGeom>
          <a:noFill/>
          <a:ln w="0">
            <a:noFill/>
          </a:ln>
        </p:spPr>
        <p:txBody>
          <a:bodyPr lIns="90000" rIns="90000" tIns="46800" bIns="46800" anchor="t">
            <a:normAutofit fontScale="93000"/>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 listen interval introduced per subsequent priority level to assess priority.</a:t>
            </a:r>
            <a:endParaRPr b="1"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overhead of 1 slot on highest priority.</a:t>
            </a:r>
            <a:endParaRPr b="0"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dditional 2 slots per subsequent priority level.</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also be used to resolve contention with the PCF.</a:t>
            </a:r>
            <a:endParaRPr b="1"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How many “Access Priority” levels would be needed if any.</a:t>
            </a:r>
            <a:endParaRPr b="1" lang="en-US" sz="2000" spc="-1" strike="noStrike">
              <a:solidFill>
                <a:srgbClr val="000000"/>
              </a:solidFill>
              <a:latin typeface="Arial"/>
            </a:endParaRPr>
          </a:p>
        </p:txBody>
      </p:sp>
      <p:graphicFrame>
        <p:nvGraphicFramePr>
          <p:cNvPr id="178" name=""/>
          <p:cNvGraphicFramePr/>
          <p:nvPr/>
        </p:nvGraphicFramePr>
        <p:xfrm>
          <a:off x="1219320" y="1219320"/>
          <a:ext cx="7086600" cy="1670040"/>
        </p:xfrm>
        <a:graphic>
          <a:graphicData uri="http://schemas.openxmlformats.org/presentationml/2006/ole">
            <p:oleObj r:id="rId1" spid="">
              <p:embed/>
              <p:pic>
                <p:nvPicPr>
                  <p:cNvPr id="179" name="" descr=""/>
                  <p:cNvPicPr/>
                  <p:nvPr/>
                </p:nvPicPr>
                <p:blipFill>
                  <a:blip r:embed="rId2"/>
                  <a:stretch/>
                </p:blipFill>
                <p:spPr>
                  <a:xfrm>
                    <a:off x="1219320" y="1219320"/>
                    <a:ext cx="7086600" cy="1670040"/>
                  </a:xfrm>
                  <a:prstGeom prst="rect">
                    <a:avLst/>
                  </a:prstGeom>
                  <a:ln w="0">
                    <a:noFill/>
                  </a:ln>
                </p:spPr>
              </p:pic>
            </p:oleObj>
          </a:graphicData>
        </a:graphic>
      </p:graphicFrame>
      <p:sp>
        <p:nvSpPr>
          <p:cNvPr id="4" name="PlaceHolder 3"/>
          <p:cNvSpPr>
            <a:spLocks noGrp="1"/>
          </p:cNvSpPr>
          <p:nvPr>
            <p:ph type="dt" idx="1"/>
          </p:nvPr>
        </p:nvSpPr>
        <p:spPr/>
        <p:txBody>
          <a:bodyPr/>
          <a:p>
            <a:fld id="{8DA15221-69FC-475B-9A27-E03579AB1873}" type="datetime3">
              <a:rPr lang="en-US"/>
              <a:t>July 29, 2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440" y="1294920"/>
            <a:ext cx="8001000" cy="487692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tible with IEEE 802.11 MA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tension of the DCF.</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traffic has priority over data traffi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distributed mechanism.</a:t>
            </a:r>
            <a:endParaRPr b="0"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across BSS boundarie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stations access the channel in round-robin order within the same priority level</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packets are NOT subject to collisions</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s RT streams with different bandwidth requirements</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Burst of frames separated by SIF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ust against hidden stations</a:t>
            </a:r>
            <a:endParaRPr b="1" lang="en-US" sz="2800" spc="-1" strike="noStrike">
              <a:solidFill>
                <a:srgbClr val="000000"/>
              </a:solidFill>
              <a:latin typeface="Arial"/>
            </a:endParaRPr>
          </a:p>
        </p:txBody>
      </p:sp>
      <p:sp>
        <p:nvSpPr>
          <p:cNvPr id="181"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Properties</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situations </a:t>
            </a:r>
            <a:endParaRPr b="1" lang="en-US" sz="2400" spc="-1" strike="noStrike">
              <a:solidFill>
                <a:srgbClr val="0066ff"/>
              </a:solidFill>
              <a:latin typeface="Arial"/>
            </a:endParaRPr>
          </a:p>
        </p:txBody>
      </p:sp>
      <p:sp>
        <p:nvSpPr>
          <p:cNvPr id="183" name="PlaceHolder 2"/>
          <p:cNvSpPr>
            <a:spLocks noGrp="1"/>
          </p:cNvSpPr>
          <p:nvPr>
            <p:ph/>
          </p:nvPr>
        </p:nvSpPr>
        <p:spPr>
          <a:xfrm>
            <a:off x="456840" y="3809880"/>
            <a:ext cx="8381880" cy="1524240"/>
          </a:xfrm>
          <a:prstGeom prst="rect">
            <a:avLst/>
          </a:prstGeom>
          <a:noFill/>
          <a:ln w="0">
            <a:noFill/>
          </a:ln>
        </p:spPr>
        <p:txBody>
          <a:bodyPr lIns="90000" rIns="90000" tIns="46800" bIns="46800" anchor="t">
            <a:normAutofit fontScale="7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dimensional BSS overlap using 4 channels</a:t>
            </a:r>
            <a:endParaRPr b="1"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an issue for enterprise network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lso for dense apartment building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less in residential home area’s</a:t>
            </a:r>
            <a:endParaRPr b="0" lang="en-US" sz="20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ption is that cells are dimensioned for 11 Mbps operation</a:t>
            </a:r>
            <a:endParaRPr b="1" lang="en-US" sz="2000" spc="-1" strike="noStrike">
              <a:solidFill>
                <a:srgbClr val="000000"/>
              </a:solidFill>
              <a:latin typeface="Arial"/>
            </a:endParaRPr>
          </a:p>
        </p:txBody>
      </p:sp>
      <p:graphicFrame>
        <p:nvGraphicFramePr>
          <p:cNvPr id="184" name=""/>
          <p:cNvGraphicFramePr/>
          <p:nvPr/>
        </p:nvGraphicFramePr>
        <p:xfrm>
          <a:off x="2590920" y="1066680"/>
          <a:ext cx="3276360" cy="2916360"/>
        </p:xfrm>
        <a:graphic>
          <a:graphicData uri="http://schemas.openxmlformats.org/presentationml/2006/ole">
            <p:oleObj r:id="rId1" spid="">
              <p:embed/>
              <p:pic>
                <p:nvPicPr>
                  <p:cNvPr id="185" name="" descr=""/>
                  <p:cNvPicPr/>
                  <p:nvPr/>
                </p:nvPicPr>
                <p:blipFill>
                  <a:blip r:embed="rId2"/>
                  <a:stretch/>
                </p:blipFill>
                <p:spPr>
                  <a:xfrm>
                    <a:off x="2590920" y="1066680"/>
                    <a:ext cx="3276360" cy="2916360"/>
                  </a:xfrm>
                  <a:prstGeom prst="rect">
                    <a:avLst/>
                  </a:prstGeom>
                  <a:ln w="0">
                    <a:noFill/>
                  </a:ln>
                </p:spPr>
              </p:pic>
            </p:oleObj>
          </a:graphicData>
        </a:graphic>
      </p:graphicFrame>
      <p:sp>
        <p:nvSpPr>
          <p:cNvPr id="4" name="PlaceHolder 3"/>
          <p:cNvSpPr>
            <a:spLocks noGrp="1"/>
          </p:cNvSpPr>
          <p:nvPr>
            <p:ph type="dt" idx="1"/>
          </p:nvPr>
        </p:nvSpPr>
        <p:spPr/>
        <p:txBody>
          <a:bodyPr/>
          <a:p>
            <a:fld id="{AF353E35-F071-43C1-A5CF-B8280910ABA9}" type="datetime3">
              <a:rPr lang="en-US"/>
              <a:t>July 29, 2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at 11 Mbps</a:t>
            </a:r>
            <a:endParaRPr b="1" lang="en-US" sz="2400" spc="-1" strike="noStrike">
              <a:solidFill>
                <a:srgbClr val="0066ff"/>
              </a:solidFill>
              <a:latin typeface="Arial"/>
            </a:endParaRPr>
          </a:p>
        </p:txBody>
      </p:sp>
      <p:sp>
        <p:nvSpPr>
          <p:cNvPr id="187" name="PlaceHolder 2"/>
          <p:cNvSpPr>
            <a:spLocks noGrp="1"/>
          </p:cNvSpPr>
          <p:nvPr>
            <p:ph/>
          </p:nvPr>
        </p:nvSpPr>
        <p:spPr>
          <a:xfrm>
            <a:off x="533520" y="3276720"/>
            <a:ext cx="7772400" cy="2209680"/>
          </a:xfrm>
          <a:prstGeom prst="rect">
            <a:avLst/>
          </a:prstGeom>
          <a:noFill/>
          <a:ln w="0">
            <a:noFill/>
          </a:ln>
        </p:spPr>
        <p:txBody>
          <a:bodyPr lIns="90000" rIns="90000" tIns="46800" bIns="46800" anchor="t">
            <a:normAutofit fontScale="79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practice need to maintain an approx. 15 dB SIR</a:t>
            </a:r>
            <a:endParaRPr b="1"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ranslates in roughly a 3:1 distance ratio between Signal and co-channel interferer</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ocations outside the circles are vulnerable for interference from the other cell.</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thin the circle the bandwidth could be reused</a:t>
            </a:r>
            <a:endParaRPr b="0" lang="en-US" sz="2400" spc="-1" strike="noStrike">
              <a:solidFill>
                <a:srgbClr val="000000"/>
              </a:solidFill>
              <a:latin typeface="Arial"/>
            </a:endParaRPr>
          </a:p>
          <a:p>
            <a:pPr lvl="2" marL="54144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does not interfere with the other network</a:t>
            </a:r>
            <a:endParaRPr b="0" lang="en-US" sz="2400" spc="-1" strike="noStrike">
              <a:solidFill>
                <a:srgbClr val="000000"/>
              </a:solidFill>
              <a:latin typeface="Arial"/>
            </a:endParaRPr>
          </a:p>
        </p:txBody>
      </p:sp>
      <p:graphicFrame>
        <p:nvGraphicFramePr>
          <p:cNvPr id="188" name=""/>
          <p:cNvGraphicFramePr/>
          <p:nvPr/>
        </p:nvGraphicFramePr>
        <p:xfrm>
          <a:off x="2133720" y="838080"/>
          <a:ext cx="4375080" cy="2941920"/>
        </p:xfrm>
        <a:graphic>
          <a:graphicData uri="http://schemas.openxmlformats.org/presentationml/2006/ole">
            <p:oleObj r:id="rId1" spid="">
              <p:embed/>
              <p:pic>
                <p:nvPicPr>
                  <p:cNvPr id="189" name="" descr=""/>
                  <p:cNvPicPr/>
                  <p:nvPr/>
                </p:nvPicPr>
                <p:blipFill>
                  <a:blip r:embed="rId2"/>
                  <a:stretch/>
                </p:blipFill>
                <p:spPr>
                  <a:xfrm>
                    <a:off x="2133720" y="8380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F95D5A87-AFD2-4820-A843-E23F626D2563}" type="datetime3">
              <a:rPr lang="en-US"/>
              <a:t>July 29, 2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52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BB versus PCF</a:t>
            </a:r>
            <a:endParaRPr b="1" lang="en-US" sz="2400" spc="-1" strike="noStrike">
              <a:solidFill>
                <a:srgbClr val="0066ff"/>
              </a:solidFill>
              <a:latin typeface="Arial"/>
            </a:endParaRPr>
          </a:p>
        </p:txBody>
      </p:sp>
      <p:sp>
        <p:nvSpPr>
          <p:cNvPr id="191" name="PlaceHolder 2"/>
          <p:cNvSpPr>
            <a:spLocks noGrp="1"/>
          </p:cNvSpPr>
          <p:nvPr>
            <p:ph/>
          </p:nvPr>
        </p:nvSpPr>
        <p:spPr>
          <a:xfrm>
            <a:off x="380520" y="3505320"/>
            <a:ext cx="8610840" cy="2286000"/>
          </a:xfrm>
          <a:prstGeom prst="rect">
            <a:avLst/>
          </a:prstGeom>
          <a:noFill/>
          <a:ln w="0">
            <a:noFill/>
          </a:ln>
        </p:spPr>
        <p:txBody>
          <a:bodyPr lIns="90000" rIns="90000" tIns="46800" bIns="46800" anchor="t">
            <a:normAutofit fontScale="8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DCF needs to defer for traffic in a range where it can cause interference.</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quires a “Conservative” defer threshold</a:t>
            </a:r>
            <a:endParaRPr b="0" lang="en-US" sz="18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CF needs to avoid overlap between the PCF in each BSS</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ynchronizing the CFP periods, avoiding overlap.</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within the circles could overlap, with certain traffic in other BSS.</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lso DCF traffic from the other BSS can cause interference.</a:t>
            </a:r>
            <a:endParaRPr b="0"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needed over a distance beyond the 11 Mbps range.</a:t>
            </a:r>
            <a:endParaRPr b="0" lang="en-US" sz="1800" spc="-1" strike="noStrike">
              <a:solidFill>
                <a:srgbClr val="000000"/>
              </a:solidFill>
              <a:latin typeface="Arial"/>
            </a:endParaRPr>
          </a:p>
        </p:txBody>
      </p:sp>
      <p:graphicFrame>
        <p:nvGraphicFramePr>
          <p:cNvPr id="192" name=""/>
          <p:cNvGraphicFramePr/>
          <p:nvPr/>
        </p:nvGraphicFramePr>
        <p:xfrm>
          <a:off x="4267080" y="762120"/>
          <a:ext cx="4399200" cy="2941560"/>
        </p:xfrm>
        <a:graphic>
          <a:graphicData uri="http://schemas.openxmlformats.org/presentationml/2006/ole">
            <p:oleObj r:id="rId1" spid="">
              <p:embed/>
              <p:pic>
                <p:nvPicPr>
                  <p:cNvPr id="193" name="" descr=""/>
                  <p:cNvPicPr/>
                  <p:nvPr/>
                </p:nvPicPr>
                <p:blipFill>
                  <a:blip r:embed="rId2"/>
                  <a:stretch/>
                </p:blipFill>
                <p:spPr>
                  <a:xfrm>
                    <a:off x="4267080" y="762120"/>
                    <a:ext cx="4399200" cy="2941560"/>
                  </a:xfrm>
                  <a:prstGeom prst="rect">
                    <a:avLst/>
                  </a:prstGeom>
                  <a:ln w="0">
                    <a:noFill/>
                  </a:ln>
                </p:spPr>
              </p:pic>
            </p:oleObj>
          </a:graphicData>
        </a:graphic>
      </p:graphicFrame>
      <p:graphicFrame>
        <p:nvGraphicFramePr>
          <p:cNvPr id="194" name=""/>
          <p:cNvGraphicFramePr/>
          <p:nvPr/>
        </p:nvGraphicFramePr>
        <p:xfrm>
          <a:off x="838080" y="1066680"/>
          <a:ext cx="3380040" cy="1476360"/>
        </p:xfrm>
        <a:graphic>
          <a:graphicData uri="http://schemas.openxmlformats.org/presentationml/2006/ole">
            <p:oleObj r:id="rId3" spid="">
              <p:embed/>
              <p:pic>
                <p:nvPicPr>
                  <p:cNvPr id="195" name="" descr=""/>
                  <p:cNvPicPr/>
                  <p:nvPr/>
                </p:nvPicPr>
                <p:blipFill>
                  <a:blip r:embed="rId4"/>
                  <a:stretch/>
                </p:blipFill>
                <p:spPr>
                  <a:xfrm>
                    <a:off x="838080" y="1066680"/>
                    <a:ext cx="3380040" cy="1476360"/>
                  </a:xfrm>
                  <a:prstGeom prst="rect">
                    <a:avLst/>
                  </a:prstGeom>
                  <a:ln w="0">
                    <a:noFill/>
                  </a:ln>
                </p:spPr>
              </p:pic>
            </p:oleObj>
          </a:graphicData>
        </a:graphic>
      </p:graphicFrame>
      <p:sp>
        <p:nvSpPr>
          <p:cNvPr id="4" name="PlaceHolder 3"/>
          <p:cNvSpPr>
            <a:spLocks noGrp="1"/>
          </p:cNvSpPr>
          <p:nvPr>
            <p:ph type="dt" idx="1"/>
          </p:nvPr>
        </p:nvSpPr>
        <p:spPr/>
        <p:txBody>
          <a:bodyPr/>
          <a:p>
            <a:fld id="{D5C5BB3E-CA4F-44CF-9184-C47212D31A3F}"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7"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ntrol admission of streams to the network and to revoke stream admission or alter stream operation parameters due to network condition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ssign different static priorities to different stream types at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llocate and reserve bandwidth as requested by a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guarantee access latency within specified limits. The latency being defined as the delay from the time a frame arrives at the MAC of tx-device to the time it is delivered by the MAC of rx-device to its higher layer.</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BC40A53-492D-46B2-BECB-22D7A900B469}" type="datetime3">
              <a:rPr lang="en-US"/>
              <a:t>July 29, 2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BlackBurst</a:t>
            </a:r>
            <a:endParaRPr b="1" lang="en-US" sz="2400" spc="-1" strike="noStrike">
              <a:solidFill>
                <a:srgbClr val="0066ff"/>
              </a:solidFill>
              <a:latin typeface="Arial"/>
            </a:endParaRPr>
          </a:p>
        </p:txBody>
      </p:sp>
      <p:sp>
        <p:nvSpPr>
          <p:cNvPr id="197" name="PlaceHolder 2"/>
          <p:cNvSpPr>
            <a:spLocks noGrp="1"/>
          </p:cNvSpPr>
          <p:nvPr>
            <p:ph/>
          </p:nvPr>
        </p:nvSpPr>
        <p:spPr>
          <a:xfrm>
            <a:off x="533520" y="1371600"/>
            <a:ext cx="8229600" cy="4114800"/>
          </a:xfrm>
          <a:prstGeom prst="rect">
            <a:avLst/>
          </a:prstGeom>
          <a:noFill/>
          <a:ln w="0">
            <a:noFill/>
          </a:ln>
        </p:spPr>
        <p:txBody>
          <a:bodyPr lIns="90000" rIns="90000" tIns="46800" bIns="46800" anchor="t">
            <a:normAutofit fontScale="87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needs a “Conservative” Defer Threshold.</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ssure 1:3 SIR distance ratio.</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solve contention between BSS’s</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does reduce the reuse typically possible for DCF</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makes BlackBurst “sensitive” for the PHY implementation.</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Tx to Rx turnaround time not specified separately in the PHY standard.</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quires a BB slot to be SIFS+Slot</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mplementations can do that within a Slot.</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CCA threshold specification is inadequate to assure a 1:3 SIR distance Rati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28CEF5E-5834-43EB-8324-586081CFCABE}" type="datetime3">
              <a:rPr lang="en-US"/>
              <a:t>July 29, 2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720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in PCF</a:t>
            </a:r>
            <a:endParaRPr b="1" lang="en-US" sz="2400" spc="-1" strike="noStrike">
              <a:solidFill>
                <a:srgbClr val="0066ff"/>
              </a:solidFill>
              <a:latin typeface="Arial"/>
            </a:endParaRPr>
          </a:p>
        </p:txBody>
      </p:sp>
      <p:sp>
        <p:nvSpPr>
          <p:cNvPr id="199" name="PlaceHolder 2"/>
          <p:cNvSpPr>
            <a:spLocks noGrp="1"/>
          </p:cNvSpPr>
          <p:nvPr>
            <p:ph/>
          </p:nvPr>
        </p:nvSpPr>
        <p:spPr>
          <a:xfrm>
            <a:off x="533520" y="3505320"/>
            <a:ext cx="8153280" cy="1752480"/>
          </a:xfrm>
          <a:prstGeom prst="rect">
            <a:avLst/>
          </a:prstGeom>
          <a:noFill/>
          <a:ln w="0">
            <a:noFill/>
          </a:ln>
        </p:spPr>
        <p:txBody>
          <a:bodyPr lIns="90000" rIns="90000" tIns="46800" bIns="46800" anchor="t">
            <a:normAutofit fontScale="7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CF must “learn” which stations are vulnerable for BSS overlap</a:t>
            </a:r>
            <a:endParaRPr b="1"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rotect that by forcing silence in the other BSS</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duces the BW budget for the other BSS</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every time a connection is being established.</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SS’s need to “Learn” the overlap, and establish a different CFP synchronization.</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chanism should scale across more overlapping BSS’s</a:t>
            </a:r>
            <a:endParaRPr b="0" lang="en-US" sz="1800" spc="-1" strike="noStrike">
              <a:solidFill>
                <a:srgbClr val="000000"/>
              </a:solidFill>
              <a:latin typeface="Arial"/>
            </a:endParaRPr>
          </a:p>
        </p:txBody>
      </p:sp>
      <p:graphicFrame>
        <p:nvGraphicFramePr>
          <p:cNvPr id="200" name=""/>
          <p:cNvGraphicFramePr/>
          <p:nvPr/>
        </p:nvGraphicFramePr>
        <p:xfrm>
          <a:off x="4952880" y="1523880"/>
          <a:ext cx="3544920" cy="1476360"/>
        </p:xfrm>
        <a:graphic>
          <a:graphicData uri="http://schemas.openxmlformats.org/presentationml/2006/ole">
            <p:oleObj r:id="rId1" spid="">
              <p:embed/>
              <p:pic>
                <p:nvPicPr>
                  <p:cNvPr id="201" name="" descr=""/>
                  <p:cNvPicPr/>
                  <p:nvPr/>
                </p:nvPicPr>
                <p:blipFill>
                  <a:blip r:embed="rId2"/>
                  <a:stretch/>
                </p:blipFill>
                <p:spPr>
                  <a:xfrm>
                    <a:off x="4952880" y="1523880"/>
                    <a:ext cx="3544920" cy="1476360"/>
                  </a:xfrm>
                  <a:prstGeom prst="rect">
                    <a:avLst/>
                  </a:prstGeom>
                  <a:ln w="0">
                    <a:noFill/>
                  </a:ln>
                </p:spPr>
              </p:pic>
            </p:oleObj>
          </a:graphicData>
        </a:graphic>
      </p:graphicFrame>
      <p:graphicFrame>
        <p:nvGraphicFramePr>
          <p:cNvPr id="202" name=""/>
          <p:cNvGraphicFramePr/>
          <p:nvPr/>
        </p:nvGraphicFramePr>
        <p:xfrm>
          <a:off x="457200" y="1066680"/>
          <a:ext cx="4375080" cy="2941920"/>
        </p:xfrm>
        <a:graphic>
          <a:graphicData uri="http://schemas.openxmlformats.org/presentationml/2006/ole">
            <p:oleObj r:id="rId3" spid="">
              <p:embed/>
              <p:pic>
                <p:nvPicPr>
                  <p:cNvPr id="203" name="" descr=""/>
                  <p:cNvPicPr/>
                  <p:nvPr/>
                </p:nvPicPr>
                <p:blipFill>
                  <a:blip r:embed="rId4"/>
                  <a:stretch/>
                </p:blipFill>
                <p:spPr>
                  <a:xfrm>
                    <a:off x="457200" y="10666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2151A46B-FF6E-4FAF-921A-7D2CEF03BD73}" type="datetime3">
              <a:rPr lang="en-US"/>
              <a:t>July 29, 2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SS overlap Conclusion</a:t>
            </a:r>
            <a:endParaRPr b="1" lang="en-US" sz="2800" spc="-1" strike="noStrike">
              <a:solidFill>
                <a:srgbClr val="0066ff"/>
              </a:solidFill>
              <a:latin typeface="Arial"/>
            </a:endParaRPr>
          </a:p>
        </p:txBody>
      </p:sp>
      <p:sp>
        <p:nvSpPr>
          <p:cNvPr id="205" name="PlaceHolder 2"/>
          <p:cNvSpPr>
            <a:spLocks noGrp="1"/>
          </p:cNvSpPr>
          <p:nvPr>
            <p:ph/>
          </p:nvPr>
        </p:nvSpPr>
        <p:spPr>
          <a:xfrm>
            <a:off x="533160" y="1371600"/>
            <a:ext cx="8458200" cy="4114800"/>
          </a:xfrm>
          <a:prstGeom prst="rect">
            <a:avLst/>
          </a:prstGeom>
          <a:noFill/>
          <a:ln w="0">
            <a:noFill/>
          </a:ln>
        </p:spPr>
        <p:txBody>
          <a:bodyPr lIns="90000" rIns="90000" tIns="46800" bIns="46800" anchor="t">
            <a:normAutofit fontScale="93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 very useful extension to the DCF standard.</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a fast implement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s sensitive to PHY implementation </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es probably require  PHY changes</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CF systems need CFP overlap control between BSS’s</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earning” the overlap situ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ynchronize BSS’s beyond direct communication reach.</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it a COMPLEX system.</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eWave proposal does describe mechanisms</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re these scaleable for multiple overlap situations?</a:t>
            </a:r>
            <a:endParaRPr b="0" lang="en-US" sz="2400" spc="-1" strike="noStrike">
              <a:solidFill>
                <a:srgbClr val="000000"/>
              </a:solidFill>
              <a:latin typeface="Arial"/>
            </a:endParaRPr>
          </a:p>
          <a:p>
            <a:pPr lvl="1" marL="31896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1519F95-C6D8-40BE-B346-B8A00223CDFE}" type="datetime3">
              <a:rPr lang="en-US"/>
              <a:t>July 29, 2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en-US" sz="2800" spc="-1" strike="noStrike">
                <a:solidFill>
                  <a:srgbClr val="0066ff"/>
                </a:solidFill>
                <a:latin typeface="Arial"/>
              </a:rPr>
              <a:t>BlackBurst Conclusion</a:t>
            </a:r>
            <a:endParaRPr b="1" lang="en-US" sz="2800" spc="-1" strike="noStrike">
              <a:solidFill>
                <a:srgbClr val="0066ff"/>
              </a:solidFill>
              <a:latin typeface="Arial"/>
            </a:endParaRPr>
          </a:p>
        </p:txBody>
      </p:sp>
      <p:sp>
        <p:nvSpPr>
          <p:cNvPr id="207"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interest to come to a fast QoS standard</a:t>
            </a:r>
            <a:endParaRPr b="1" lang="en-US" sz="2800" spc="-1" strike="noStrike">
              <a:solidFill>
                <a:srgbClr val="000000"/>
              </a:solidFill>
              <a:latin typeface="Arial"/>
            </a:endParaRPr>
          </a:p>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ucent is prepared to drop the BlackBurst proposal</a:t>
            </a:r>
            <a:endParaRPr b="1" lang="en-US" sz="2800" spc="-1" strike="noStrike">
              <a:solidFill>
                <a:srgbClr val="000000"/>
              </a:solidFill>
              <a:latin typeface="Arial"/>
            </a:endParaRPr>
          </a:p>
          <a:p>
            <a:pPr indent="0" algn="ctr">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343080" indent="-228600" algn="ctr">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aleable solution can be achieved for the BSS overlap management in a PCF.</a:t>
            </a:r>
            <a:endParaRPr b="0" lang="en-US" sz="28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fld id="{7E4BEA6F-8874-429F-9D44-7A5D85A649DD}"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9"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the number of consumers of bandwidth in order to meet previously granted guarante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assignment: Applications have different priority requirements for the streams they create</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BW allocation through negotiations at the time of stream admission. Dynamic changes to stream bandwidth is discussed in Dynamic Bw Mgm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guaranteed bounds on latency as different streams have different latency toleran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4B17344-5542-4E4A-AEA5-02B2D7B93027}"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Harry R. Worstell</cp:lastModifiedBy>
  <cp:lastPrinted>2000-03-02T01:29:59Z</cp:lastPrinted>
  <dcterms:modified xsi:type="dcterms:W3CDTF">2000-03-08T02:27:27Z</dcterms:modified>
  <cp:revision>849</cp:revision>
  <dc:subject>Joint proposal by Sharewave, Lucent and AT&amp;T</dc:subject>
  <dc:title>QoS extensions to 802.11 MAC</dc:title>
</cp:coreProperties>
</file>