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886-0206-4B1B-9DC7-FD156DB3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C2A-3273-44B7-B917-9E867A59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BF4-7E71-4425-806D-5A77FE47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E57-61B2-4894-9326-1ED01EBA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0D0-0D4F-4B71-B51C-E160D7FF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54B-D2B7-4E87-8548-1E396D2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CE6-FF50-4573-BFCD-B0EEC980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D63-272A-4EE6-A8B8-D58F335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634-8326-4ACD-B8C1-C0F2218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8A0-1156-42F2-8068-296B3F3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5E1-8002-4F67-BD9A-9FB11F3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F1B-5EE1-4032-8826-5090BB2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090BCE-8AA4-400D-A4C5-8A958C11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ouper.ieee.org/groups/802/1/pages/802.1x.html" TargetMode="External"/><Relationship Id="rId2" Type="http://schemas.openxmlformats.org/officeDocument/2006/relationships/hyperlink" Target="http://www.ietf.org/rfc/rfc2138.txt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X For 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nard Aboba, Tim Moore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Roese, Ravi Nalmati, Cable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ert Young, 3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Temme, Bill McFarland T-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Halasz, Air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Congdon, 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w Smith, Extrem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55C-9C4F-4EEB-8430-4922DD909E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 configured to allow open and shar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lien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uthentication used, since dynamically derived WEP key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associates with access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16F-ECF8-4CC8-B32A-7C9E5FF193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uthentication in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X authentication occurs after 802.11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association, client and access point have an Ethernet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to authentication, access point filters all non-EAPOL traffic from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802.1X authentication succeeds, access point removes th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messages sent to destination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, Access Point MAC addresses known after 802.11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use 802.1X multicast MAC address in EAP-Start, EAP-Request/Identity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to 802.1X authentication, access point only accepts packets with source = Client and Ethertype = EAP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CED-1264-47B8-817B-4ACF93C02C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/802.1X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6840" y="1219320"/>
          <a:ext cx="7048440" cy="54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219320"/>
                    <a:ext cx="704844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CA7-AD33-4581-B768-1369F5F2E8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nd Per-STA Sessio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EAPOL be used to derive per-Station unicast session k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use any EAP method supporting secure dynamic key der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-TLS (RFC 27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-G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s derived on client and the RADIU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server transmits key to 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US attribute encrypted on a hop-by-hop basis using shared secret shared by RADIUS client and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cast keys can be used to encrypt subsequent traffic, including EAPOW-key packet (for carrying multicast/global ke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ation unicast session keys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only multicast/global keys are supported, then session key is only used to encrypt the multicast/global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177-F4D7-418C-A0D6-07843E5FA1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nd Multicast/Global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EAPOL transfer multicast/global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EAPOL packet type can be defined for use in transporting multicast/global keys: EAPOW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W-Key packet type used to transmit one or more keys from access point to 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W-Key packets only sent after EAPOW authentication succ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W-Key packets are encrypted using derived per-STA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C20-244C-4A33-B796-DBC990DC00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9480" y="2895480"/>
            <a:ext cx="4572000" cy="35816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514600"/>
            <a:ext cx="4572000" cy="380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1554120"/>
            <a:ext cx="1698840" cy="382680"/>
          </a:xfrm>
          <a:custGeom>
            <a:avLst/>
            <a:gdLst/>
            <a:ahLst/>
            <a:rect l="l" t="t" r="r" b="b"/>
            <a:pathLst>
              <a:path w="1070" h="241">
                <a:moveTo>
                  <a:pt x="1070" y="0"/>
                </a:moveTo>
                <a:lnTo>
                  <a:pt x="1070" y="238"/>
                </a:lnTo>
                <a:lnTo>
                  <a:pt x="0" y="24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2514600"/>
            <a:ext cx="3733560" cy="396252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60760" y="184320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210"/>
                </a:moveTo>
                <a:lnTo>
                  <a:pt x="49" y="207"/>
                </a:lnTo>
                <a:lnTo>
                  <a:pt x="39" y="198"/>
                </a:lnTo>
                <a:lnTo>
                  <a:pt x="31" y="185"/>
                </a:lnTo>
                <a:lnTo>
                  <a:pt x="22" y="167"/>
                </a:lnTo>
                <a:lnTo>
                  <a:pt x="18" y="146"/>
                </a:lnTo>
                <a:lnTo>
                  <a:pt x="14" y="124"/>
                </a:lnTo>
                <a:lnTo>
                  <a:pt x="14" y="100"/>
                </a:lnTo>
                <a:lnTo>
                  <a:pt x="18" y="77"/>
                </a:lnTo>
                <a:lnTo>
                  <a:pt x="22" y="56"/>
                </a:lnTo>
                <a:lnTo>
                  <a:pt x="31" y="39"/>
                </a:lnTo>
                <a:lnTo>
                  <a:pt x="39" y="25"/>
                </a:lnTo>
                <a:lnTo>
                  <a:pt x="49" y="18"/>
                </a:lnTo>
                <a:lnTo>
                  <a:pt x="60" y="15"/>
                </a:lnTo>
                <a:lnTo>
                  <a:pt x="71" y="18"/>
                </a:lnTo>
                <a:lnTo>
                  <a:pt x="81" y="25"/>
                </a:lnTo>
                <a:lnTo>
                  <a:pt x="91" y="39"/>
                </a:lnTo>
                <a:lnTo>
                  <a:pt x="97" y="56"/>
                </a:lnTo>
                <a:lnTo>
                  <a:pt x="104" y="77"/>
                </a:lnTo>
                <a:lnTo>
                  <a:pt x="106" y="100"/>
                </a:lnTo>
                <a:lnTo>
                  <a:pt x="106" y="124"/>
                </a:lnTo>
                <a:lnTo>
                  <a:pt x="104" y="146"/>
                </a:lnTo>
                <a:lnTo>
                  <a:pt x="97" y="167"/>
                </a:lnTo>
                <a:lnTo>
                  <a:pt x="91" y="185"/>
                </a:lnTo>
                <a:lnTo>
                  <a:pt x="81" y="198"/>
                </a:lnTo>
                <a:lnTo>
                  <a:pt x="71" y="207"/>
                </a:lnTo>
                <a:lnTo>
                  <a:pt x="60" y="210"/>
                </a:lnTo>
                <a:close/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71920" y="1854360"/>
            <a:ext cx="73080" cy="155520"/>
          </a:xfrm>
          <a:custGeom>
            <a:avLst/>
            <a:gdLst/>
            <a:ahLst/>
            <a:rect l="l" t="t" r="r" b="b"/>
            <a:pathLst>
              <a:path w="92" h="195">
                <a:moveTo>
                  <a:pt x="46" y="195"/>
                </a:moveTo>
                <a:lnTo>
                  <a:pt x="35" y="192"/>
                </a:lnTo>
                <a:lnTo>
                  <a:pt x="25" y="183"/>
                </a:lnTo>
                <a:lnTo>
                  <a:pt x="17" y="170"/>
                </a:lnTo>
                <a:lnTo>
                  <a:pt x="8" y="152"/>
                </a:lnTo>
                <a:lnTo>
                  <a:pt x="4" y="131"/>
                </a:lnTo>
                <a:lnTo>
                  <a:pt x="0" y="109"/>
                </a:lnTo>
                <a:lnTo>
                  <a:pt x="0" y="85"/>
                </a:lnTo>
                <a:lnTo>
                  <a:pt x="4" y="62"/>
                </a:lnTo>
                <a:lnTo>
                  <a:pt x="8" y="41"/>
                </a:lnTo>
                <a:lnTo>
                  <a:pt x="17" y="24"/>
                </a:lnTo>
                <a:lnTo>
                  <a:pt x="25" y="10"/>
                </a:lnTo>
                <a:lnTo>
                  <a:pt x="35" y="3"/>
                </a:lnTo>
                <a:lnTo>
                  <a:pt x="46" y="0"/>
                </a:lnTo>
                <a:lnTo>
                  <a:pt x="57" y="3"/>
                </a:lnTo>
                <a:lnTo>
                  <a:pt x="67" y="10"/>
                </a:lnTo>
                <a:lnTo>
                  <a:pt x="77" y="24"/>
                </a:lnTo>
                <a:lnTo>
                  <a:pt x="83" y="41"/>
                </a:lnTo>
                <a:lnTo>
                  <a:pt x="90" y="62"/>
                </a:lnTo>
                <a:lnTo>
                  <a:pt x="92" y="85"/>
                </a:lnTo>
                <a:lnTo>
                  <a:pt x="92" y="109"/>
                </a:lnTo>
                <a:lnTo>
                  <a:pt x="90" y="131"/>
                </a:lnTo>
                <a:lnTo>
                  <a:pt x="83" y="152"/>
                </a:lnTo>
                <a:lnTo>
                  <a:pt x="77" y="170"/>
                </a:lnTo>
                <a:lnTo>
                  <a:pt x="67" y="183"/>
                </a:lnTo>
                <a:lnTo>
                  <a:pt x="57" y="192"/>
                </a:lnTo>
                <a:lnTo>
                  <a:pt x="46" y="1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60760" y="184320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4440" y="1665360"/>
            <a:ext cx="38916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0" y="0"/>
                </a:moveTo>
                <a:lnTo>
                  <a:pt x="0" y="336"/>
                </a:lnTo>
                <a:lnTo>
                  <a:pt x="490" y="3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49920" y="1932120"/>
            <a:ext cx="193680" cy="26640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0" y="335"/>
                </a:moveTo>
                <a:lnTo>
                  <a:pt x="0" y="0"/>
                </a:lnTo>
                <a:lnTo>
                  <a:pt x="24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3600" y="1932120"/>
            <a:ext cx="193680" cy="26640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245" y="335"/>
                </a:moveTo>
                <a:lnTo>
                  <a:pt x="24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3600" y="1665360"/>
            <a:ext cx="1440" cy="266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0840" y="1932120"/>
            <a:ext cx="2127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043240" y="1932120"/>
            <a:ext cx="968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9000" y="1873080"/>
            <a:ext cx="349200" cy="11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200" y="182880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2440" y="122076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01760" y="1533600"/>
            <a:ext cx="485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2440" y="1709640"/>
            <a:ext cx="584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52440" y="122076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78000" y="1565280"/>
            <a:ext cx="534960" cy="122400"/>
          </a:xfrm>
          <a:custGeom>
            <a:avLst/>
            <a:gdLst/>
            <a:ahLst/>
            <a:rect l="l" t="t" r="r" b="b"/>
            <a:pathLst>
              <a:path w="674" h="153">
                <a:moveTo>
                  <a:pt x="34" y="28"/>
                </a:moveTo>
                <a:lnTo>
                  <a:pt x="42" y="0"/>
                </a:lnTo>
                <a:lnTo>
                  <a:pt x="631" y="0"/>
                </a:lnTo>
                <a:lnTo>
                  <a:pt x="638" y="28"/>
                </a:lnTo>
                <a:lnTo>
                  <a:pt x="34" y="28"/>
                </a:lnTo>
                <a:close/>
                <a:moveTo>
                  <a:pt x="0" y="153"/>
                </a:moveTo>
                <a:lnTo>
                  <a:pt x="31" y="42"/>
                </a:lnTo>
                <a:lnTo>
                  <a:pt x="643" y="42"/>
                </a:lnTo>
                <a:lnTo>
                  <a:pt x="674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1600" y="1454040"/>
            <a:ext cx="171360" cy="289080"/>
          </a:xfrm>
          <a:custGeom>
            <a:avLst/>
            <a:gdLst/>
            <a:ahLst/>
            <a:rect l="l" t="t" r="r" b="b"/>
            <a:pathLst>
              <a:path w="215" h="363">
                <a:moveTo>
                  <a:pt x="93" y="13"/>
                </a:moveTo>
                <a:lnTo>
                  <a:pt x="94" y="6"/>
                </a:lnTo>
                <a:lnTo>
                  <a:pt x="102" y="0"/>
                </a:lnTo>
                <a:lnTo>
                  <a:pt x="112" y="0"/>
                </a:lnTo>
                <a:lnTo>
                  <a:pt x="120" y="6"/>
                </a:lnTo>
                <a:lnTo>
                  <a:pt x="122" y="13"/>
                </a:lnTo>
                <a:lnTo>
                  <a:pt x="120" y="22"/>
                </a:lnTo>
                <a:lnTo>
                  <a:pt x="112" y="26"/>
                </a:lnTo>
                <a:lnTo>
                  <a:pt x="102" y="26"/>
                </a:lnTo>
                <a:lnTo>
                  <a:pt x="94" y="22"/>
                </a:lnTo>
                <a:lnTo>
                  <a:pt x="93" y="13"/>
                </a:lnTo>
                <a:close/>
                <a:moveTo>
                  <a:pt x="0" y="363"/>
                </a:moveTo>
                <a:lnTo>
                  <a:pt x="215" y="363"/>
                </a:lnTo>
                <a:lnTo>
                  <a:pt x="215" y="335"/>
                </a:lnTo>
                <a:lnTo>
                  <a:pt x="0" y="335"/>
                </a:lnTo>
                <a:lnTo>
                  <a:pt x="0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16120" y="1454040"/>
            <a:ext cx="22320" cy="22320"/>
          </a:xfrm>
          <a:custGeom>
            <a:avLst/>
            <a:gdLst/>
            <a:ahLst/>
            <a:rect l="l" t="t" r="r" b="b"/>
            <a:pathLst>
              <a:path w="29" h="26">
                <a:moveTo>
                  <a:pt x="0" y="13"/>
                </a:moveTo>
                <a:lnTo>
                  <a:pt x="1" y="6"/>
                </a:lnTo>
                <a:lnTo>
                  <a:pt x="9" y="0"/>
                </a:lnTo>
                <a:lnTo>
                  <a:pt x="19" y="0"/>
                </a:lnTo>
                <a:lnTo>
                  <a:pt x="27" y="6"/>
                </a:lnTo>
                <a:lnTo>
                  <a:pt x="29" y="13"/>
                </a:lnTo>
                <a:lnTo>
                  <a:pt x="27" y="22"/>
                </a:lnTo>
                <a:lnTo>
                  <a:pt x="19" y="26"/>
                </a:lnTo>
                <a:lnTo>
                  <a:pt x="9" y="26"/>
                </a:lnTo>
                <a:lnTo>
                  <a:pt x="1" y="22"/>
                </a:lnTo>
                <a:lnTo>
                  <a:pt x="0" y="1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03520" y="1444680"/>
            <a:ext cx="48960" cy="4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41600" y="1720800"/>
            <a:ext cx="171360" cy="2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1080" y="1266840"/>
            <a:ext cx="33948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51080" y="1266840"/>
            <a:ext cx="339480" cy="22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244520"/>
            <a:ext cx="438120" cy="265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6120" y="1266840"/>
            <a:ext cx="36360" cy="33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8800" y="1487520"/>
            <a:ext cx="608040" cy="2221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76840" y="1487520"/>
            <a:ext cx="363600" cy="2221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68800" y="1523880"/>
            <a:ext cx="971640" cy="149400"/>
          </a:xfrm>
          <a:custGeom>
            <a:avLst/>
            <a:gdLst/>
            <a:ahLst/>
            <a:rect l="l" t="t" r="r" b="b"/>
            <a:pathLst>
              <a:path w="1224" h="186">
                <a:moveTo>
                  <a:pt x="0" y="186"/>
                </a:moveTo>
                <a:lnTo>
                  <a:pt x="727" y="186"/>
                </a:lnTo>
                <a:lnTo>
                  <a:pt x="727" y="0"/>
                </a:lnTo>
                <a:lnTo>
                  <a:pt x="0" y="0"/>
                </a:lnTo>
                <a:lnTo>
                  <a:pt x="0" y="186"/>
                </a:lnTo>
                <a:close/>
                <a:moveTo>
                  <a:pt x="808" y="186"/>
                </a:moveTo>
                <a:lnTo>
                  <a:pt x="1224" y="186"/>
                </a:lnTo>
                <a:lnTo>
                  <a:pt x="1224" y="0"/>
                </a:lnTo>
                <a:lnTo>
                  <a:pt x="808" y="0"/>
                </a:lnTo>
                <a:lnTo>
                  <a:pt x="808" y="18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9040" y="1496880"/>
            <a:ext cx="925560" cy="19080"/>
          </a:xfrm>
          <a:custGeom>
            <a:avLst/>
            <a:gdLst/>
            <a:ahLst/>
            <a:rect l="l" t="t" r="r" b="b"/>
            <a:pathLst>
              <a:path w="1167" h="24">
                <a:moveTo>
                  <a:pt x="1129" y="24"/>
                </a:moveTo>
                <a:lnTo>
                  <a:pt x="1167" y="24"/>
                </a:lnTo>
                <a:lnTo>
                  <a:pt x="1167" y="0"/>
                </a:lnTo>
                <a:lnTo>
                  <a:pt x="1129" y="0"/>
                </a:lnTo>
                <a:lnTo>
                  <a:pt x="1129" y="24"/>
                </a:lnTo>
                <a:close/>
                <a:moveTo>
                  <a:pt x="114" y="18"/>
                </a:moveTo>
                <a:lnTo>
                  <a:pt x="153" y="18"/>
                </a:lnTo>
                <a:lnTo>
                  <a:pt x="153" y="6"/>
                </a:lnTo>
                <a:lnTo>
                  <a:pt x="114" y="6"/>
                </a:lnTo>
                <a:lnTo>
                  <a:pt x="114" y="18"/>
                </a:lnTo>
                <a:close/>
                <a:moveTo>
                  <a:pt x="57" y="18"/>
                </a:moveTo>
                <a:lnTo>
                  <a:pt x="96" y="18"/>
                </a:lnTo>
                <a:lnTo>
                  <a:pt x="96" y="6"/>
                </a:lnTo>
                <a:lnTo>
                  <a:pt x="57" y="6"/>
                </a:lnTo>
                <a:lnTo>
                  <a:pt x="57" y="18"/>
                </a:lnTo>
                <a:close/>
                <a:moveTo>
                  <a:pt x="0" y="18"/>
                </a:moveTo>
                <a:lnTo>
                  <a:pt x="39" y="18"/>
                </a:lnTo>
                <a:lnTo>
                  <a:pt x="39" y="6"/>
                </a:lnTo>
                <a:lnTo>
                  <a:pt x="0" y="6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45160" y="1487520"/>
            <a:ext cx="1440" cy="22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807080" y="1487160"/>
            <a:ext cx="1440" cy="22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95800" y="1496880"/>
            <a:ext cx="2880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9400" y="150192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45120" y="1501920"/>
            <a:ext cx="298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9040" y="150192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3160" y="129528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6080" y="888840"/>
            <a:ext cx="909360" cy="665280"/>
          </a:xfrm>
          <a:custGeom>
            <a:avLst/>
            <a:gdLst/>
            <a:ahLst/>
            <a:rect l="l" t="t" r="r" b="b"/>
            <a:pathLst>
              <a:path w="1147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  <a:close/>
                <a:moveTo>
                  <a:pt x="458" y="720"/>
                </a:moveTo>
                <a:lnTo>
                  <a:pt x="566" y="720"/>
                </a:lnTo>
                <a:lnTo>
                  <a:pt x="685" y="750"/>
                </a:lnTo>
                <a:lnTo>
                  <a:pt x="685" y="810"/>
                </a:lnTo>
                <a:lnTo>
                  <a:pt x="566" y="810"/>
                </a:lnTo>
                <a:lnTo>
                  <a:pt x="566" y="838"/>
                </a:lnTo>
                <a:lnTo>
                  <a:pt x="1039" y="838"/>
                </a:lnTo>
                <a:lnTo>
                  <a:pt x="1039" y="810"/>
                </a:lnTo>
                <a:lnTo>
                  <a:pt x="922" y="810"/>
                </a:lnTo>
                <a:lnTo>
                  <a:pt x="922" y="750"/>
                </a:lnTo>
                <a:lnTo>
                  <a:pt x="1039" y="720"/>
                </a:lnTo>
                <a:lnTo>
                  <a:pt x="1147" y="720"/>
                </a:lnTo>
                <a:lnTo>
                  <a:pt x="1147" y="209"/>
                </a:lnTo>
                <a:lnTo>
                  <a:pt x="458" y="209"/>
                </a:lnTo>
                <a:lnTo>
                  <a:pt x="458" y="7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56440" y="14986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9440" y="14986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2760" y="1096920"/>
            <a:ext cx="90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16920" y="1027080"/>
            <a:ext cx="122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88120" y="915840"/>
            <a:ext cx="181080" cy="3891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66080" y="888840"/>
            <a:ext cx="431640" cy="665280"/>
          </a:xfrm>
          <a:custGeom>
            <a:avLst/>
            <a:gdLst/>
            <a:ahLst/>
            <a:rect l="l" t="t" r="r" b="b"/>
            <a:pathLst>
              <a:path w="545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29680" y="1054080"/>
            <a:ext cx="545760" cy="5000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0" y="511"/>
                </a:moveTo>
                <a:lnTo>
                  <a:pt x="108" y="511"/>
                </a:lnTo>
                <a:lnTo>
                  <a:pt x="227" y="541"/>
                </a:lnTo>
                <a:lnTo>
                  <a:pt x="227" y="601"/>
                </a:lnTo>
                <a:lnTo>
                  <a:pt x="108" y="601"/>
                </a:lnTo>
                <a:lnTo>
                  <a:pt x="108" y="629"/>
                </a:lnTo>
                <a:lnTo>
                  <a:pt x="581" y="629"/>
                </a:lnTo>
                <a:lnTo>
                  <a:pt x="581" y="601"/>
                </a:lnTo>
                <a:lnTo>
                  <a:pt x="464" y="601"/>
                </a:lnTo>
                <a:lnTo>
                  <a:pt x="464" y="541"/>
                </a:lnTo>
                <a:lnTo>
                  <a:pt x="581" y="511"/>
                </a:lnTo>
                <a:lnTo>
                  <a:pt x="689" y="511"/>
                </a:lnTo>
                <a:lnTo>
                  <a:pt x="689" y="0"/>
                </a:lnTo>
                <a:lnTo>
                  <a:pt x="0" y="0"/>
                </a:lnTo>
                <a:lnTo>
                  <a:pt x="0" y="51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10400" y="1531800"/>
            <a:ext cx="187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10400" y="1484280"/>
            <a:ext cx="187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5360" y="1460520"/>
            <a:ext cx="376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80200" y="1333440"/>
            <a:ext cx="196920" cy="179280"/>
          </a:xfrm>
          <a:custGeom>
            <a:avLst/>
            <a:gdLst/>
            <a:ahLst/>
            <a:rect l="l" t="t" r="r" b="b"/>
            <a:pathLst>
              <a:path w="248" h="227">
                <a:moveTo>
                  <a:pt x="0" y="140"/>
                </a:moveTo>
                <a:lnTo>
                  <a:pt x="18" y="140"/>
                </a:lnTo>
                <a:lnTo>
                  <a:pt x="18" y="0"/>
                </a:lnTo>
                <a:lnTo>
                  <a:pt x="0" y="0"/>
                </a:lnTo>
                <a:lnTo>
                  <a:pt x="0" y="140"/>
                </a:lnTo>
                <a:close/>
                <a:moveTo>
                  <a:pt x="38" y="140"/>
                </a:moveTo>
                <a:lnTo>
                  <a:pt x="57" y="140"/>
                </a:lnTo>
                <a:lnTo>
                  <a:pt x="57" y="0"/>
                </a:lnTo>
                <a:lnTo>
                  <a:pt x="38" y="0"/>
                </a:lnTo>
                <a:lnTo>
                  <a:pt x="38" y="140"/>
                </a:lnTo>
                <a:close/>
                <a:moveTo>
                  <a:pt x="77" y="140"/>
                </a:moveTo>
                <a:lnTo>
                  <a:pt x="95" y="140"/>
                </a:lnTo>
                <a:lnTo>
                  <a:pt x="95" y="0"/>
                </a:lnTo>
                <a:lnTo>
                  <a:pt x="77" y="0"/>
                </a:lnTo>
                <a:lnTo>
                  <a:pt x="77" y="140"/>
                </a:lnTo>
                <a:close/>
                <a:moveTo>
                  <a:pt x="115" y="140"/>
                </a:moveTo>
                <a:lnTo>
                  <a:pt x="134" y="140"/>
                </a:lnTo>
                <a:lnTo>
                  <a:pt x="134" y="0"/>
                </a:lnTo>
                <a:lnTo>
                  <a:pt x="115" y="0"/>
                </a:lnTo>
                <a:lnTo>
                  <a:pt x="115" y="140"/>
                </a:lnTo>
                <a:close/>
                <a:moveTo>
                  <a:pt x="154" y="140"/>
                </a:moveTo>
                <a:lnTo>
                  <a:pt x="172" y="140"/>
                </a:lnTo>
                <a:lnTo>
                  <a:pt x="172" y="0"/>
                </a:lnTo>
                <a:lnTo>
                  <a:pt x="154" y="0"/>
                </a:lnTo>
                <a:lnTo>
                  <a:pt x="154" y="140"/>
                </a:lnTo>
                <a:close/>
                <a:moveTo>
                  <a:pt x="191" y="140"/>
                </a:moveTo>
                <a:lnTo>
                  <a:pt x="211" y="140"/>
                </a:lnTo>
                <a:lnTo>
                  <a:pt x="211" y="0"/>
                </a:lnTo>
                <a:lnTo>
                  <a:pt x="191" y="0"/>
                </a:lnTo>
                <a:lnTo>
                  <a:pt x="191" y="140"/>
                </a:lnTo>
                <a:close/>
                <a:moveTo>
                  <a:pt x="229" y="140"/>
                </a:moveTo>
                <a:lnTo>
                  <a:pt x="248" y="140"/>
                </a:lnTo>
                <a:lnTo>
                  <a:pt x="248" y="0"/>
                </a:lnTo>
                <a:lnTo>
                  <a:pt x="229" y="0"/>
                </a:lnTo>
                <a:lnTo>
                  <a:pt x="229" y="140"/>
                </a:lnTo>
                <a:close/>
                <a:moveTo>
                  <a:pt x="229" y="227"/>
                </a:moveTo>
                <a:lnTo>
                  <a:pt x="248" y="227"/>
                </a:lnTo>
                <a:lnTo>
                  <a:pt x="248" y="157"/>
                </a:lnTo>
                <a:lnTo>
                  <a:pt x="229" y="157"/>
                </a:lnTo>
                <a:lnTo>
                  <a:pt x="229" y="227"/>
                </a:lnTo>
                <a:close/>
                <a:moveTo>
                  <a:pt x="191" y="227"/>
                </a:moveTo>
                <a:lnTo>
                  <a:pt x="211" y="227"/>
                </a:lnTo>
                <a:lnTo>
                  <a:pt x="211" y="157"/>
                </a:lnTo>
                <a:lnTo>
                  <a:pt x="191" y="157"/>
                </a:lnTo>
                <a:lnTo>
                  <a:pt x="191" y="227"/>
                </a:lnTo>
                <a:close/>
                <a:moveTo>
                  <a:pt x="154" y="227"/>
                </a:moveTo>
                <a:lnTo>
                  <a:pt x="172" y="227"/>
                </a:lnTo>
                <a:lnTo>
                  <a:pt x="172" y="157"/>
                </a:lnTo>
                <a:lnTo>
                  <a:pt x="154" y="157"/>
                </a:lnTo>
                <a:lnTo>
                  <a:pt x="154" y="227"/>
                </a:lnTo>
                <a:close/>
                <a:moveTo>
                  <a:pt x="115" y="227"/>
                </a:moveTo>
                <a:lnTo>
                  <a:pt x="134" y="227"/>
                </a:lnTo>
                <a:lnTo>
                  <a:pt x="134" y="157"/>
                </a:lnTo>
                <a:lnTo>
                  <a:pt x="115" y="157"/>
                </a:lnTo>
                <a:lnTo>
                  <a:pt x="115" y="227"/>
                </a:lnTo>
                <a:close/>
                <a:moveTo>
                  <a:pt x="77" y="227"/>
                </a:moveTo>
                <a:lnTo>
                  <a:pt x="95" y="227"/>
                </a:lnTo>
                <a:lnTo>
                  <a:pt x="95" y="157"/>
                </a:lnTo>
                <a:lnTo>
                  <a:pt x="77" y="157"/>
                </a:lnTo>
                <a:lnTo>
                  <a:pt x="77" y="227"/>
                </a:lnTo>
                <a:close/>
                <a:moveTo>
                  <a:pt x="38" y="227"/>
                </a:moveTo>
                <a:lnTo>
                  <a:pt x="57" y="227"/>
                </a:lnTo>
                <a:lnTo>
                  <a:pt x="57" y="157"/>
                </a:lnTo>
                <a:lnTo>
                  <a:pt x="38" y="157"/>
                </a:lnTo>
                <a:lnTo>
                  <a:pt x="38" y="227"/>
                </a:lnTo>
                <a:close/>
                <a:moveTo>
                  <a:pt x="0" y="227"/>
                </a:moveTo>
                <a:lnTo>
                  <a:pt x="18" y="227"/>
                </a:lnTo>
                <a:lnTo>
                  <a:pt x="18" y="157"/>
                </a:lnTo>
                <a:lnTo>
                  <a:pt x="0" y="157"/>
                </a:lnTo>
                <a:lnTo>
                  <a:pt x="0" y="2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02520" y="93024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2520" y="930240"/>
            <a:ext cx="152280" cy="14400"/>
          </a:xfrm>
          <a:custGeom>
            <a:avLst/>
            <a:gdLst/>
            <a:ahLst/>
            <a:rect l="l" t="t" r="r" b="b"/>
            <a:pathLst>
              <a:path w="193" h="18">
                <a:moveTo>
                  <a:pt x="0" y="0"/>
                </a:moveTo>
                <a:lnTo>
                  <a:pt x="20" y="18"/>
                </a:lnTo>
                <a:lnTo>
                  <a:pt x="173" y="18"/>
                </a:lnTo>
                <a:lnTo>
                  <a:pt x="193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02520" y="1000080"/>
            <a:ext cx="152280" cy="5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02520" y="106848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02520" y="113832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02520" y="1206360"/>
            <a:ext cx="152280" cy="57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80200" y="1333440"/>
            <a:ext cx="1440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0900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40680" y="1333440"/>
            <a:ext cx="140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092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00800" y="1333440"/>
            <a:ext cx="1440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3104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6128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128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3104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00800" y="1457280"/>
            <a:ext cx="1440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7092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240680" y="1457280"/>
            <a:ext cx="140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0900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80200" y="1457280"/>
            <a:ext cx="1440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202520" y="944640"/>
            <a:ext cx="14400" cy="41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38960" y="944640"/>
            <a:ext cx="15840" cy="41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9000" y="1187280"/>
            <a:ext cx="98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09000" y="117648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09000" y="116532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09000" y="1155600"/>
            <a:ext cx="98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09000" y="114624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78840" y="1012680"/>
            <a:ext cx="44280" cy="2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9880" y="1106640"/>
            <a:ext cx="2232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19880" y="1146240"/>
            <a:ext cx="22320" cy="4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19880" y="1160640"/>
            <a:ext cx="2232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54720" y="1090440"/>
            <a:ext cx="704880" cy="354240"/>
          </a:xfrm>
          <a:custGeom>
            <a:avLst/>
            <a:gdLst/>
            <a:ahLst/>
            <a:rect l="l" t="t" r="r" b="b"/>
            <a:pathLst>
              <a:path w="888" h="448">
                <a:moveTo>
                  <a:pt x="0" y="17"/>
                </a:moveTo>
                <a:lnTo>
                  <a:pt x="59" y="17"/>
                </a:lnTo>
                <a:lnTo>
                  <a:pt x="59" y="0"/>
                </a:lnTo>
                <a:lnTo>
                  <a:pt x="0" y="0"/>
                </a:lnTo>
                <a:lnTo>
                  <a:pt x="0" y="17"/>
                </a:lnTo>
                <a:close/>
                <a:moveTo>
                  <a:pt x="855" y="448"/>
                </a:moveTo>
                <a:lnTo>
                  <a:pt x="888" y="448"/>
                </a:lnTo>
                <a:lnTo>
                  <a:pt x="888" y="437"/>
                </a:lnTo>
                <a:lnTo>
                  <a:pt x="855" y="437"/>
                </a:lnTo>
                <a:lnTo>
                  <a:pt x="855" y="448"/>
                </a:lnTo>
                <a:close/>
                <a:moveTo>
                  <a:pt x="328" y="349"/>
                </a:moveTo>
                <a:lnTo>
                  <a:pt x="328" y="54"/>
                </a:lnTo>
                <a:lnTo>
                  <a:pt x="801" y="54"/>
                </a:lnTo>
                <a:lnTo>
                  <a:pt x="801" y="349"/>
                </a:lnTo>
                <a:lnTo>
                  <a:pt x="328" y="349"/>
                </a:lnTo>
                <a:close/>
                <a:moveTo>
                  <a:pt x="307" y="369"/>
                </a:moveTo>
                <a:lnTo>
                  <a:pt x="823" y="369"/>
                </a:lnTo>
                <a:lnTo>
                  <a:pt x="823" y="35"/>
                </a:lnTo>
                <a:lnTo>
                  <a:pt x="845" y="35"/>
                </a:lnTo>
                <a:lnTo>
                  <a:pt x="845" y="15"/>
                </a:lnTo>
                <a:lnTo>
                  <a:pt x="286" y="15"/>
                </a:lnTo>
                <a:lnTo>
                  <a:pt x="286" y="390"/>
                </a:lnTo>
                <a:lnTo>
                  <a:pt x="307" y="390"/>
                </a:lnTo>
                <a:lnTo>
                  <a:pt x="307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54720" y="1090440"/>
            <a:ext cx="46080" cy="12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34400" y="1436760"/>
            <a:ext cx="2520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15360" y="1133640"/>
            <a:ext cx="376200" cy="2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81880" y="1101600"/>
            <a:ext cx="444600" cy="297000"/>
          </a:xfrm>
          <a:custGeom>
            <a:avLst/>
            <a:gdLst/>
            <a:ahLst/>
            <a:rect l="l" t="t" r="r" b="b"/>
            <a:pathLst>
              <a:path w="559" h="375">
                <a:moveTo>
                  <a:pt x="21" y="354"/>
                </a:moveTo>
                <a:lnTo>
                  <a:pt x="537" y="354"/>
                </a:lnTo>
                <a:lnTo>
                  <a:pt x="537" y="20"/>
                </a:lnTo>
                <a:lnTo>
                  <a:pt x="559" y="20"/>
                </a:lnTo>
                <a:lnTo>
                  <a:pt x="559" y="0"/>
                </a:lnTo>
                <a:lnTo>
                  <a:pt x="0" y="0"/>
                </a:lnTo>
                <a:lnTo>
                  <a:pt x="0" y="375"/>
                </a:lnTo>
                <a:lnTo>
                  <a:pt x="21" y="375"/>
                </a:lnTo>
                <a:lnTo>
                  <a:pt x="21" y="35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29680" y="1436760"/>
            <a:ext cx="272880" cy="23760"/>
          </a:xfrm>
          <a:custGeom>
            <a:avLst/>
            <a:gdLst/>
            <a:ahLst/>
            <a:rect l="l" t="t" r="r" b="b"/>
            <a:pathLst>
              <a:path w="345" h="30">
                <a:moveTo>
                  <a:pt x="0" y="0"/>
                </a:moveTo>
                <a:lnTo>
                  <a:pt x="345" y="0"/>
                </a:lnTo>
                <a:lnTo>
                  <a:pt x="345" y="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567560" y="1436760"/>
            <a:ext cx="180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48680" y="163512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On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61760" y="2895480"/>
            <a:ext cx="2438640" cy="398880"/>
            <a:chOff x="761760" y="2895480"/>
            <a:chExt cx="2438640" cy="398880"/>
          </a:xfrm>
        </p:grpSpPr>
        <p:sp>
          <p:nvSpPr>
            <p:cNvPr id="377" name=""/>
            <p:cNvSpPr/>
            <p:nvPr/>
          </p:nvSpPr>
          <p:spPr>
            <a:xfrm>
              <a:off x="761760" y="289548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OL-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8080" y="3276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58520" y="3630600"/>
            <a:ext cx="2586960" cy="407880"/>
            <a:chOff x="758520" y="3630600"/>
            <a:chExt cx="2586960" cy="407880"/>
          </a:xfrm>
        </p:grpSpPr>
        <p:sp>
          <p:nvSpPr>
            <p:cNvPr id="380" name=""/>
            <p:cNvSpPr/>
            <p:nvPr/>
          </p:nvSpPr>
          <p:spPr>
            <a:xfrm>
              <a:off x="762120" y="40384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520" y="3630600"/>
              <a:ext cx="258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864400" y="4114800"/>
            <a:ext cx="2811240" cy="407880"/>
            <a:chOff x="5864400" y="4114800"/>
            <a:chExt cx="2811240" cy="407880"/>
          </a:xfrm>
        </p:grpSpPr>
        <p:sp>
          <p:nvSpPr>
            <p:cNvPr id="383" name=""/>
            <p:cNvSpPr/>
            <p:nvPr/>
          </p:nvSpPr>
          <p:spPr>
            <a:xfrm flipH="1">
              <a:off x="5943600" y="452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64400" y="4114800"/>
              <a:ext cx="28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Challe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62120" y="4732200"/>
            <a:ext cx="2804040" cy="398880"/>
            <a:chOff x="762120" y="4732200"/>
            <a:chExt cx="2804040" cy="398880"/>
          </a:xfrm>
        </p:grpSpPr>
        <p:sp>
          <p:nvSpPr>
            <p:cNvPr id="386" name=""/>
            <p:cNvSpPr/>
            <p:nvPr/>
          </p:nvSpPr>
          <p:spPr>
            <a:xfrm>
              <a:off x="762120" y="510552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4280" y="4732200"/>
              <a:ext cx="28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credential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40040" y="1828800"/>
            <a:ext cx="4064760" cy="703800"/>
            <a:chOff x="1940040" y="1828800"/>
            <a:chExt cx="4064760" cy="703800"/>
          </a:xfrm>
        </p:grpSpPr>
        <p:sp>
          <p:nvSpPr>
            <p:cNvPr id="389" name=""/>
            <p:cNvSpPr/>
            <p:nvPr/>
          </p:nvSpPr>
          <p:spPr>
            <a:xfrm>
              <a:off x="4190400" y="2133720"/>
              <a:ext cx="18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940040" y="1828800"/>
              <a:ext cx="2361960" cy="407880"/>
              <a:chOff x="1940040" y="1828800"/>
              <a:chExt cx="2361960" cy="407880"/>
            </a:xfrm>
          </p:grpSpPr>
          <p:sp>
            <p:nvSpPr>
              <p:cNvPr id="391" name=""/>
              <p:cNvSpPr/>
              <p:nvPr/>
            </p:nvSpPr>
            <p:spPr>
              <a:xfrm>
                <a:off x="1940040" y="2236680"/>
                <a:ext cx="236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385000" y="1828800"/>
                <a:ext cx="13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ssoc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5941440" y="5195880"/>
            <a:ext cx="2500200" cy="407880"/>
            <a:chOff x="5941440" y="5195880"/>
            <a:chExt cx="2500200" cy="407880"/>
          </a:xfrm>
        </p:grpSpPr>
        <p:sp>
          <p:nvSpPr>
            <p:cNvPr id="394" name=""/>
            <p:cNvSpPr/>
            <p:nvPr/>
          </p:nvSpPr>
          <p:spPr>
            <a:xfrm flipH="1">
              <a:off x="5962320" y="56037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1440" y="519588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Ac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876920" y="2514600"/>
            <a:ext cx="304560" cy="3962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362320" y="3276720"/>
            <a:ext cx="2666880" cy="398880"/>
            <a:chOff x="2362320" y="3276720"/>
            <a:chExt cx="2666880" cy="398880"/>
          </a:xfrm>
        </p:grpSpPr>
        <p:sp>
          <p:nvSpPr>
            <p:cNvPr id="398" name=""/>
            <p:cNvSpPr/>
            <p:nvPr/>
          </p:nvSpPr>
          <p:spPr>
            <a:xfrm>
              <a:off x="2435400" y="3276720"/>
              <a:ext cx="24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quest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36232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362320" y="4257720"/>
            <a:ext cx="2666880" cy="390600"/>
            <a:chOff x="2362320" y="4257720"/>
            <a:chExt cx="2666880" cy="390600"/>
          </a:xfrm>
        </p:grpSpPr>
        <p:sp>
          <p:nvSpPr>
            <p:cNvPr id="401" name=""/>
            <p:cNvSpPr/>
            <p:nvPr/>
          </p:nvSpPr>
          <p:spPr>
            <a:xfrm>
              <a:off x="2385720" y="425772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P-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362320" y="4648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029200" y="3581280"/>
            <a:ext cx="2746080" cy="398880"/>
            <a:chOff x="5029200" y="3581280"/>
            <a:chExt cx="2746080" cy="398880"/>
          </a:xfrm>
        </p:grpSpPr>
        <p:sp>
          <p:nvSpPr>
            <p:cNvPr id="404" name=""/>
            <p:cNvSpPr/>
            <p:nvPr/>
          </p:nvSpPr>
          <p:spPr>
            <a:xfrm>
              <a:off x="5176080" y="35812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962520"/>
              <a:ext cx="21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029200" y="4670280"/>
            <a:ext cx="2763360" cy="435240"/>
            <a:chOff x="5029200" y="4670280"/>
            <a:chExt cx="2763360" cy="435240"/>
          </a:xfrm>
        </p:grpSpPr>
        <p:sp>
          <p:nvSpPr>
            <p:cNvPr id="407" name=""/>
            <p:cNvSpPr/>
            <p:nvPr/>
          </p:nvSpPr>
          <p:spPr>
            <a:xfrm>
              <a:off x="5193360" y="46702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29200" y="51055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425720" y="2604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35720" y="2895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AP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740000">
            <a:off x="1898640" y="931680"/>
            <a:ext cx="2133720" cy="106668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1828800"/>
            <a:ext cx="114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5280" y="1143000"/>
            <a:ext cx="5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7640" y="2514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38080" y="2438280"/>
            <a:ext cx="2362320" cy="398880"/>
            <a:chOff x="838080" y="2438280"/>
            <a:chExt cx="2362320" cy="398880"/>
          </a:xfrm>
        </p:grpSpPr>
        <p:sp>
          <p:nvSpPr>
            <p:cNvPr id="416" name=""/>
            <p:cNvSpPr/>
            <p:nvPr/>
          </p:nvSpPr>
          <p:spPr>
            <a:xfrm>
              <a:off x="911520" y="2438280"/>
              <a:ext cx="193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 Associ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8080" y="28195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362320" y="5224320"/>
            <a:ext cx="4009320" cy="889560"/>
            <a:chOff x="2362320" y="5224320"/>
            <a:chExt cx="4009320" cy="889560"/>
          </a:xfrm>
        </p:grpSpPr>
        <p:grpSp>
          <p:nvGrpSpPr>
            <p:cNvPr id="419" name=""/>
            <p:cNvGrpSpPr/>
            <p:nvPr/>
          </p:nvGrpSpPr>
          <p:grpSpPr>
            <a:xfrm>
              <a:off x="2362320" y="5224320"/>
              <a:ext cx="2666880" cy="414360"/>
              <a:chOff x="2362320" y="5224320"/>
              <a:chExt cx="2666880" cy="414360"/>
            </a:xfrm>
          </p:grpSpPr>
          <p:sp>
            <p:nvSpPr>
              <p:cNvPr id="420" name=""/>
              <p:cNvSpPr/>
              <p:nvPr/>
            </p:nvSpPr>
            <p:spPr>
              <a:xfrm>
                <a:off x="2383920" y="5224320"/>
                <a:ext cx="15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AP-Succ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362320" y="563868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570920" y="57150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allow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362320" y="5791320"/>
            <a:ext cx="2666880" cy="398880"/>
            <a:chOff x="2362320" y="5791320"/>
            <a:chExt cx="2666880" cy="398880"/>
          </a:xfrm>
        </p:grpSpPr>
        <p:sp>
          <p:nvSpPr>
            <p:cNvPr id="424" name=""/>
            <p:cNvSpPr/>
            <p:nvPr/>
          </p:nvSpPr>
          <p:spPr>
            <a:xfrm flipH="1">
              <a:off x="2362320" y="61722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5760" y="5791320"/>
              <a:ext cx="218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W-Key (WE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5DE-E6EF-4CD5-A8A2-7D509A2A55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are allowed to force clients to re-associate at an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is 6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ent responses transparently to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 sends WEP global key to client using 802.l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W-Key message used to send global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401-1116-4A75-BCCC-1540764EE3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(no pre-authent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Re-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X will re-authenticate but network access will be denied during re-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support for fast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-access poi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off per client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EAPOW-Key to updat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key pre-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authentication using global WEP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ucceeds then allow immediate access to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.e. 802.1X is put immediately into the authenticated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87C-67A4-4214-ACEA-D0605D9BF0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uthenticated” VLAN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xtension to IEEE 802.1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enable access to a registration server, enrollment server, etc. prior to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-Notification message can inform user of location of server to take credit card, enroll user, etc. prior to obtaining network ac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A2B-FF5C-47CB-AF00-65E8651D68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nd Ad-Hoc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d-hoc networ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communicating directly with other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ad-hoc networking work with 802.l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tations initiate EAPOL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tations authenticate with each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mutual authentication required and algorithm to select authent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 not used in ad-ho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implies that user credentials are stored on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272-DEC0-491C-BDC1-D166A31AB4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ment issues with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tion of IEEE 802.1X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7CA-FD82-493A-9DE3-1386BB2329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Management for  Ad-Hoc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-based 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ke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of existing EAP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-TLS: supports mutual authentication, keying, but assumes both participants have a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-GSS: supports mutual authentication, assumes “server” side is in contact with K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 will work in adhoc mode if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key is better for some user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new EAP method for this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A9C-983C-4C34-A039-D512CD5D85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802.1X Addresses 802.11 Securit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DA8-AC07-437D-AA3F-4448498EB2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/802.1X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72960" y="2054160"/>
          <a:ext cx="8367840" cy="31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54160"/>
                    <a:ext cx="8367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E48-8867-4BB0-BE19-65692CA959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 offers solutions to 802.11 deploym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 user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hanges required to 802.11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MIB parameters for 802.1X/802.11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dynamically derived WEP keys + mutual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ad-hoc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-Point functions as RADIUS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support for RFC 2138, 2139, draft-ietf-radius-ext-07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-Point functions as IEEE 802.1X authenticator P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es most WEP security 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E6E-431F-4A1E-BB9A-ADFB9FEAC5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to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hanges required for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sent to destination MAC address for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EAPOW-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X as an enhanced authentication and key management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appropriate methods supported by 802.1X to be used for 802.11 authentication and key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changes to improve encryption, integri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APP work needs to consider security impact re STA mobility between A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978-3ADB-4A0F-AA1D-7E03F55D8B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grouper.ieee.org/groups/802/1/pages/802.1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etf.org/rfc/rfc2138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139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548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radius-v2-06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accounting-v2-05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ext-07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tunnel-auth-09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tunnel-acct-05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284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716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336-EE96-4207-85C4-6F9D624694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Insecure Adhoc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, insecure adhoc networking sometimes desi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playing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“plug and go” solution without security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ppropriate in business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this be handled with 802.1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assume network is un-authent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uthenticated network will drop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drop received EAP-Star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 think they are connected to a non-authenticated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hoc networking just 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567-FDA1-4200-9D18-DEC4E34245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Incorporate 802.1X into 802.11 authentic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to add 802.1X support in 802.11 authentication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additional authentication type for 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additional of new key management functionality in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result in duplication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cants supporting 802.1X need duplicate code for 802.11 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cant operating system sees 802.11 as 80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s encapsulation/decapsulation in NIC driver to maintain transpar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changes required to 802.11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X state machine needs to be merged with 802.11 state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additional security over 802.1X over 802.11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ociate/disassociate not encrypted or integrity protected so no additional security provided by doing EAP w/key derivation prior to 802.11 Assoc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-authenticated VLANs cannot be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ice either authenticated or unauthent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035-18EB-4F12-B586-79239945F6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loyment Issues With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with existing user administration tools required (RADIUS, LDAP-based direc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Windows group for 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user or machine who is a member of the group has wireless 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via User-Name easier to administer than MAC address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ge accounting and auditing desi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keys difficult to manage on clients, access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ietary key management solutions require separate user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55D-BB84-4E09-9F01-B76046EAC2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Issues With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-packet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lnerability to disassociation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er identification an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entral authentication, authorization, accou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4 stream cipher vulnerable to known plaintext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mplementations derive WEP keys from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for extend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 cards, certificates, smartcards, one-time passwords, biometric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nageme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key of global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ynamic per-STA ke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EB5-3374-4103-BAFC-B72B2BE6D4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EEE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standards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s existing standards: EAP (RFC 2284), RADIUS (RFC 2138, 213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interoperable user identification, centralized authentication, ke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based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 based on Network Access Identifier (RFC 2486) enables support for roaming access in public spaces (RFC 2607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ke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user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RADIUS (RFC 2138, 2139) enables centralized authentication, authorization and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/EAP (draft-ietf-radius-ext-07.txt) enables encapsulation of EAP packets within RADI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C2A-BA89-45B2-88F0-DB714C2F0B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EEE 802.1X,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authent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designed to allow additional authentication methods to be deployed with no changes to the access point or client 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2284 includes support for password authentication (EAP-MD5), One-Time Passwords (O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2000 supports smartcard authentication (RFC 2716) and Security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7BE-9238-4C66-8950-22E780802E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General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59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60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77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78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29320" y="35989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102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122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37280" y="2286000"/>
            <a:ext cx="20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0505000">
            <a:off x="1500120" y="3695400"/>
            <a:ext cx="332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350800">
            <a:off x="4952520" y="281916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132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133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439-23C4-40C9-9338-83C8A1E843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549760" y="1706400"/>
            <a:ext cx="1698840" cy="382680"/>
          </a:xfrm>
          <a:custGeom>
            <a:avLst/>
            <a:gdLst/>
            <a:ahLst/>
            <a:rect l="l" t="t" r="r" b="b"/>
            <a:pathLst>
              <a:path w="1070" h="241">
                <a:moveTo>
                  <a:pt x="1070" y="0"/>
                </a:moveTo>
                <a:lnTo>
                  <a:pt x="1070" y="238"/>
                </a:lnTo>
                <a:lnTo>
                  <a:pt x="0" y="24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666880"/>
            <a:ext cx="3733560" cy="33530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2666880"/>
            <a:ext cx="4572000" cy="33530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60760" y="199548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210"/>
                </a:moveTo>
                <a:lnTo>
                  <a:pt x="49" y="207"/>
                </a:lnTo>
                <a:lnTo>
                  <a:pt x="39" y="198"/>
                </a:lnTo>
                <a:lnTo>
                  <a:pt x="31" y="185"/>
                </a:lnTo>
                <a:lnTo>
                  <a:pt x="22" y="167"/>
                </a:lnTo>
                <a:lnTo>
                  <a:pt x="18" y="146"/>
                </a:lnTo>
                <a:lnTo>
                  <a:pt x="14" y="124"/>
                </a:lnTo>
                <a:lnTo>
                  <a:pt x="14" y="100"/>
                </a:lnTo>
                <a:lnTo>
                  <a:pt x="18" y="77"/>
                </a:lnTo>
                <a:lnTo>
                  <a:pt x="22" y="56"/>
                </a:lnTo>
                <a:lnTo>
                  <a:pt x="31" y="39"/>
                </a:lnTo>
                <a:lnTo>
                  <a:pt x="39" y="25"/>
                </a:lnTo>
                <a:lnTo>
                  <a:pt x="49" y="18"/>
                </a:lnTo>
                <a:lnTo>
                  <a:pt x="60" y="15"/>
                </a:lnTo>
                <a:lnTo>
                  <a:pt x="71" y="18"/>
                </a:lnTo>
                <a:lnTo>
                  <a:pt x="81" y="25"/>
                </a:lnTo>
                <a:lnTo>
                  <a:pt x="91" y="39"/>
                </a:lnTo>
                <a:lnTo>
                  <a:pt x="97" y="56"/>
                </a:lnTo>
                <a:lnTo>
                  <a:pt x="104" y="77"/>
                </a:lnTo>
                <a:lnTo>
                  <a:pt x="106" y="100"/>
                </a:lnTo>
                <a:lnTo>
                  <a:pt x="106" y="124"/>
                </a:lnTo>
                <a:lnTo>
                  <a:pt x="104" y="146"/>
                </a:lnTo>
                <a:lnTo>
                  <a:pt x="97" y="167"/>
                </a:lnTo>
                <a:lnTo>
                  <a:pt x="91" y="185"/>
                </a:lnTo>
                <a:lnTo>
                  <a:pt x="81" y="198"/>
                </a:lnTo>
                <a:lnTo>
                  <a:pt x="71" y="207"/>
                </a:lnTo>
                <a:lnTo>
                  <a:pt x="60" y="210"/>
                </a:lnTo>
                <a:close/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2006640"/>
            <a:ext cx="73080" cy="155520"/>
          </a:xfrm>
          <a:custGeom>
            <a:avLst/>
            <a:gdLst/>
            <a:ahLst/>
            <a:rect l="l" t="t" r="r" b="b"/>
            <a:pathLst>
              <a:path w="92" h="195">
                <a:moveTo>
                  <a:pt x="46" y="195"/>
                </a:moveTo>
                <a:lnTo>
                  <a:pt x="35" y="192"/>
                </a:lnTo>
                <a:lnTo>
                  <a:pt x="25" y="183"/>
                </a:lnTo>
                <a:lnTo>
                  <a:pt x="17" y="170"/>
                </a:lnTo>
                <a:lnTo>
                  <a:pt x="8" y="152"/>
                </a:lnTo>
                <a:lnTo>
                  <a:pt x="4" y="131"/>
                </a:lnTo>
                <a:lnTo>
                  <a:pt x="0" y="109"/>
                </a:lnTo>
                <a:lnTo>
                  <a:pt x="0" y="85"/>
                </a:lnTo>
                <a:lnTo>
                  <a:pt x="4" y="62"/>
                </a:lnTo>
                <a:lnTo>
                  <a:pt x="8" y="41"/>
                </a:lnTo>
                <a:lnTo>
                  <a:pt x="17" y="24"/>
                </a:lnTo>
                <a:lnTo>
                  <a:pt x="25" y="10"/>
                </a:lnTo>
                <a:lnTo>
                  <a:pt x="35" y="3"/>
                </a:lnTo>
                <a:lnTo>
                  <a:pt x="46" y="0"/>
                </a:lnTo>
                <a:lnTo>
                  <a:pt x="57" y="3"/>
                </a:lnTo>
                <a:lnTo>
                  <a:pt x="67" y="10"/>
                </a:lnTo>
                <a:lnTo>
                  <a:pt x="77" y="24"/>
                </a:lnTo>
                <a:lnTo>
                  <a:pt x="83" y="41"/>
                </a:lnTo>
                <a:lnTo>
                  <a:pt x="90" y="62"/>
                </a:lnTo>
                <a:lnTo>
                  <a:pt x="92" y="85"/>
                </a:lnTo>
                <a:lnTo>
                  <a:pt x="92" y="109"/>
                </a:lnTo>
                <a:lnTo>
                  <a:pt x="90" y="131"/>
                </a:lnTo>
                <a:lnTo>
                  <a:pt x="83" y="152"/>
                </a:lnTo>
                <a:lnTo>
                  <a:pt x="77" y="170"/>
                </a:lnTo>
                <a:lnTo>
                  <a:pt x="67" y="183"/>
                </a:lnTo>
                <a:lnTo>
                  <a:pt x="57" y="192"/>
                </a:lnTo>
                <a:lnTo>
                  <a:pt x="46" y="1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60760" y="199548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1817640"/>
            <a:ext cx="38916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0" y="0"/>
                </a:moveTo>
                <a:lnTo>
                  <a:pt x="0" y="336"/>
                </a:lnTo>
                <a:lnTo>
                  <a:pt x="490" y="3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49920" y="2084400"/>
            <a:ext cx="193680" cy="26676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0" y="335"/>
                </a:moveTo>
                <a:lnTo>
                  <a:pt x="0" y="0"/>
                </a:lnTo>
                <a:lnTo>
                  <a:pt x="24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3600" y="2084400"/>
            <a:ext cx="193680" cy="26676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245" y="335"/>
                </a:moveTo>
                <a:lnTo>
                  <a:pt x="24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43600" y="1817640"/>
            <a:ext cx="1440" cy="266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30840" y="2084400"/>
            <a:ext cx="2127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43240" y="2084400"/>
            <a:ext cx="968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9000" y="2025720"/>
            <a:ext cx="349200" cy="11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200" y="198108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2440" y="137304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1760" y="1685880"/>
            <a:ext cx="485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2440" y="1862280"/>
            <a:ext cx="584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2440" y="137304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78000" y="1717560"/>
            <a:ext cx="534960" cy="122400"/>
          </a:xfrm>
          <a:custGeom>
            <a:avLst/>
            <a:gdLst/>
            <a:ahLst/>
            <a:rect l="l" t="t" r="r" b="b"/>
            <a:pathLst>
              <a:path w="674" h="153">
                <a:moveTo>
                  <a:pt x="34" y="28"/>
                </a:moveTo>
                <a:lnTo>
                  <a:pt x="42" y="0"/>
                </a:lnTo>
                <a:lnTo>
                  <a:pt x="631" y="0"/>
                </a:lnTo>
                <a:lnTo>
                  <a:pt x="638" y="28"/>
                </a:lnTo>
                <a:lnTo>
                  <a:pt x="34" y="28"/>
                </a:lnTo>
                <a:close/>
                <a:moveTo>
                  <a:pt x="0" y="153"/>
                </a:moveTo>
                <a:lnTo>
                  <a:pt x="31" y="42"/>
                </a:lnTo>
                <a:lnTo>
                  <a:pt x="643" y="42"/>
                </a:lnTo>
                <a:lnTo>
                  <a:pt x="674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41600" y="1606680"/>
            <a:ext cx="171360" cy="288720"/>
          </a:xfrm>
          <a:custGeom>
            <a:avLst/>
            <a:gdLst/>
            <a:ahLst/>
            <a:rect l="l" t="t" r="r" b="b"/>
            <a:pathLst>
              <a:path w="215" h="363">
                <a:moveTo>
                  <a:pt x="93" y="13"/>
                </a:moveTo>
                <a:lnTo>
                  <a:pt x="94" y="6"/>
                </a:lnTo>
                <a:lnTo>
                  <a:pt x="102" y="0"/>
                </a:lnTo>
                <a:lnTo>
                  <a:pt x="112" y="0"/>
                </a:lnTo>
                <a:lnTo>
                  <a:pt x="120" y="6"/>
                </a:lnTo>
                <a:lnTo>
                  <a:pt x="122" y="13"/>
                </a:lnTo>
                <a:lnTo>
                  <a:pt x="120" y="22"/>
                </a:lnTo>
                <a:lnTo>
                  <a:pt x="112" y="26"/>
                </a:lnTo>
                <a:lnTo>
                  <a:pt x="102" y="26"/>
                </a:lnTo>
                <a:lnTo>
                  <a:pt x="94" y="22"/>
                </a:lnTo>
                <a:lnTo>
                  <a:pt x="93" y="13"/>
                </a:lnTo>
                <a:close/>
                <a:moveTo>
                  <a:pt x="0" y="363"/>
                </a:moveTo>
                <a:lnTo>
                  <a:pt x="215" y="363"/>
                </a:lnTo>
                <a:lnTo>
                  <a:pt x="215" y="335"/>
                </a:lnTo>
                <a:lnTo>
                  <a:pt x="0" y="335"/>
                </a:lnTo>
                <a:lnTo>
                  <a:pt x="0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16120" y="1606680"/>
            <a:ext cx="22320" cy="21960"/>
          </a:xfrm>
          <a:custGeom>
            <a:avLst/>
            <a:gdLst/>
            <a:ahLst/>
            <a:rect l="l" t="t" r="r" b="b"/>
            <a:pathLst>
              <a:path w="29" h="26">
                <a:moveTo>
                  <a:pt x="0" y="13"/>
                </a:moveTo>
                <a:lnTo>
                  <a:pt x="1" y="6"/>
                </a:lnTo>
                <a:lnTo>
                  <a:pt x="9" y="0"/>
                </a:lnTo>
                <a:lnTo>
                  <a:pt x="19" y="0"/>
                </a:lnTo>
                <a:lnTo>
                  <a:pt x="27" y="6"/>
                </a:lnTo>
                <a:lnTo>
                  <a:pt x="29" y="13"/>
                </a:lnTo>
                <a:lnTo>
                  <a:pt x="27" y="22"/>
                </a:lnTo>
                <a:lnTo>
                  <a:pt x="19" y="26"/>
                </a:lnTo>
                <a:lnTo>
                  <a:pt x="9" y="26"/>
                </a:lnTo>
                <a:lnTo>
                  <a:pt x="1" y="22"/>
                </a:lnTo>
                <a:lnTo>
                  <a:pt x="0" y="1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03520" y="1596960"/>
            <a:ext cx="48960" cy="4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41600" y="1873080"/>
            <a:ext cx="171360" cy="2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51080" y="1419120"/>
            <a:ext cx="33948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51080" y="1419120"/>
            <a:ext cx="339480" cy="22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25520" y="1397160"/>
            <a:ext cx="438120" cy="264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16120" y="1419120"/>
            <a:ext cx="36360" cy="33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5680" y="1925640"/>
            <a:ext cx="114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1639800"/>
            <a:ext cx="608040" cy="2224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76840" y="1639800"/>
            <a:ext cx="363600" cy="2224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68800" y="1676520"/>
            <a:ext cx="971640" cy="149040"/>
          </a:xfrm>
          <a:custGeom>
            <a:avLst/>
            <a:gdLst/>
            <a:ahLst/>
            <a:rect l="l" t="t" r="r" b="b"/>
            <a:pathLst>
              <a:path w="1224" h="186">
                <a:moveTo>
                  <a:pt x="0" y="186"/>
                </a:moveTo>
                <a:lnTo>
                  <a:pt x="727" y="186"/>
                </a:lnTo>
                <a:lnTo>
                  <a:pt x="727" y="0"/>
                </a:lnTo>
                <a:lnTo>
                  <a:pt x="0" y="0"/>
                </a:lnTo>
                <a:lnTo>
                  <a:pt x="0" y="186"/>
                </a:lnTo>
                <a:close/>
                <a:moveTo>
                  <a:pt x="808" y="186"/>
                </a:moveTo>
                <a:lnTo>
                  <a:pt x="1224" y="186"/>
                </a:lnTo>
                <a:lnTo>
                  <a:pt x="1224" y="0"/>
                </a:lnTo>
                <a:lnTo>
                  <a:pt x="808" y="0"/>
                </a:lnTo>
                <a:lnTo>
                  <a:pt x="808" y="18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9040" y="1649520"/>
            <a:ext cx="925560" cy="19080"/>
          </a:xfrm>
          <a:custGeom>
            <a:avLst/>
            <a:gdLst/>
            <a:ahLst/>
            <a:rect l="l" t="t" r="r" b="b"/>
            <a:pathLst>
              <a:path w="1167" h="24">
                <a:moveTo>
                  <a:pt x="1129" y="24"/>
                </a:moveTo>
                <a:lnTo>
                  <a:pt x="1167" y="24"/>
                </a:lnTo>
                <a:lnTo>
                  <a:pt x="1167" y="0"/>
                </a:lnTo>
                <a:lnTo>
                  <a:pt x="1129" y="0"/>
                </a:lnTo>
                <a:lnTo>
                  <a:pt x="1129" y="24"/>
                </a:lnTo>
                <a:close/>
                <a:moveTo>
                  <a:pt x="114" y="18"/>
                </a:moveTo>
                <a:lnTo>
                  <a:pt x="153" y="18"/>
                </a:lnTo>
                <a:lnTo>
                  <a:pt x="153" y="6"/>
                </a:lnTo>
                <a:lnTo>
                  <a:pt x="114" y="6"/>
                </a:lnTo>
                <a:lnTo>
                  <a:pt x="114" y="18"/>
                </a:lnTo>
                <a:close/>
                <a:moveTo>
                  <a:pt x="57" y="18"/>
                </a:moveTo>
                <a:lnTo>
                  <a:pt x="96" y="18"/>
                </a:lnTo>
                <a:lnTo>
                  <a:pt x="96" y="6"/>
                </a:lnTo>
                <a:lnTo>
                  <a:pt x="57" y="6"/>
                </a:lnTo>
                <a:lnTo>
                  <a:pt x="57" y="18"/>
                </a:lnTo>
                <a:close/>
                <a:moveTo>
                  <a:pt x="0" y="18"/>
                </a:moveTo>
                <a:lnTo>
                  <a:pt x="39" y="18"/>
                </a:lnTo>
                <a:lnTo>
                  <a:pt x="39" y="6"/>
                </a:lnTo>
                <a:lnTo>
                  <a:pt x="0" y="6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45160" y="1639800"/>
            <a:ext cx="1440" cy="22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7080" y="1639800"/>
            <a:ext cx="1440" cy="22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95800" y="1649520"/>
            <a:ext cx="2880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9400" y="165420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5120" y="1654200"/>
            <a:ext cx="298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9040" y="165420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4600" y="144792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66080" y="1041480"/>
            <a:ext cx="909360" cy="664920"/>
          </a:xfrm>
          <a:custGeom>
            <a:avLst/>
            <a:gdLst/>
            <a:ahLst/>
            <a:rect l="l" t="t" r="r" b="b"/>
            <a:pathLst>
              <a:path w="1147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  <a:close/>
                <a:moveTo>
                  <a:pt x="458" y="720"/>
                </a:moveTo>
                <a:lnTo>
                  <a:pt x="566" y="720"/>
                </a:lnTo>
                <a:lnTo>
                  <a:pt x="685" y="750"/>
                </a:lnTo>
                <a:lnTo>
                  <a:pt x="685" y="810"/>
                </a:lnTo>
                <a:lnTo>
                  <a:pt x="566" y="810"/>
                </a:lnTo>
                <a:lnTo>
                  <a:pt x="566" y="838"/>
                </a:lnTo>
                <a:lnTo>
                  <a:pt x="1039" y="838"/>
                </a:lnTo>
                <a:lnTo>
                  <a:pt x="1039" y="810"/>
                </a:lnTo>
                <a:lnTo>
                  <a:pt x="922" y="810"/>
                </a:lnTo>
                <a:lnTo>
                  <a:pt x="922" y="750"/>
                </a:lnTo>
                <a:lnTo>
                  <a:pt x="1039" y="720"/>
                </a:lnTo>
                <a:lnTo>
                  <a:pt x="1147" y="720"/>
                </a:lnTo>
                <a:lnTo>
                  <a:pt x="1147" y="209"/>
                </a:lnTo>
                <a:lnTo>
                  <a:pt x="458" y="209"/>
                </a:lnTo>
                <a:lnTo>
                  <a:pt x="458" y="7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56440" y="165096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9440" y="165096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2760" y="1249200"/>
            <a:ext cx="90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6920" y="1179360"/>
            <a:ext cx="122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88120" y="1068480"/>
            <a:ext cx="181080" cy="3888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66080" y="1041480"/>
            <a:ext cx="431640" cy="664920"/>
          </a:xfrm>
          <a:custGeom>
            <a:avLst/>
            <a:gdLst/>
            <a:ahLst/>
            <a:rect l="l" t="t" r="r" b="b"/>
            <a:pathLst>
              <a:path w="545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1206360"/>
            <a:ext cx="545760" cy="5000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0" y="511"/>
                </a:moveTo>
                <a:lnTo>
                  <a:pt x="108" y="511"/>
                </a:lnTo>
                <a:lnTo>
                  <a:pt x="227" y="541"/>
                </a:lnTo>
                <a:lnTo>
                  <a:pt x="227" y="601"/>
                </a:lnTo>
                <a:lnTo>
                  <a:pt x="108" y="601"/>
                </a:lnTo>
                <a:lnTo>
                  <a:pt x="108" y="629"/>
                </a:lnTo>
                <a:lnTo>
                  <a:pt x="581" y="629"/>
                </a:lnTo>
                <a:lnTo>
                  <a:pt x="581" y="601"/>
                </a:lnTo>
                <a:lnTo>
                  <a:pt x="464" y="601"/>
                </a:lnTo>
                <a:lnTo>
                  <a:pt x="464" y="541"/>
                </a:lnTo>
                <a:lnTo>
                  <a:pt x="581" y="511"/>
                </a:lnTo>
                <a:lnTo>
                  <a:pt x="689" y="511"/>
                </a:lnTo>
                <a:lnTo>
                  <a:pt x="689" y="0"/>
                </a:lnTo>
                <a:lnTo>
                  <a:pt x="0" y="0"/>
                </a:lnTo>
                <a:lnTo>
                  <a:pt x="0" y="51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10400" y="1684440"/>
            <a:ext cx="187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10400" y="1636560"/>
            <a:ext cx="187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15360" y="1612800"/>
            <a:ext cx="376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80200" y="1486080"/>
            <a:ext cx="196920" cy="179280"/>
          </a:xfrm>
          <a:custGeom>
            <a:avLst/>
            <a:gdLst/>
            <a:ahLst/>
            <a:rect l="l" t="t" r="r" b="b"/>
            <a:pathLst>
              <a:path w="248" h="227">
                <a:moveTo>
                  <a:pt x="0" y="140"/>
                </a:moveTo>
                <a:lnTo>
                  <a:pt x="18" y="140"/>
                </a:lnTo>
                <a:lnTo>
                  <a:pt x="18" y="0"/>
                </a:lnTo>
                <a:lnTo>
                  <a:pt x="0" y="0"/>
                </a:lnTo>
                <a:lnTo>
                  <a:pt x="0" y="140"/>
                </a:lnTo>
                <a:close/>
                <a:moveTo>
                  <a:pt x="38" y="140"/>
                </a:moveTo>
                <a:lnTo>
                  <a:pt x="57" y="140"/>
                </a:lnTo>
                <a:lnTo>
                  <a:pt x="57" y="0"/>
                </a:lnTo>
                <a:lnTo>
                  <a:pt x="38" y="0"/>
                </a:lnTo>
                <a:lnTo>
                  <a:pt x="38" y="140"/>
                </a:lnTo>
                <a:close/>
                <a:moveTo>
                  <a:pt x="77" y="140"/>
                </a:moveTo>
                <a:lnTo>
                  <a:pt x="95" y="140"/>
                </a:lnTo>
                <a:lnTo>
                  <a:pt x="95" y="0"/>
                </a:lnTo>
                <a:lnTo>
                  <a:pt x="77" y="0"/>
                </a:lnTo>
                <a:lnTo>
                  <a:pt x="77" y="140"/>
                </a:lnTo>
                <a:close/>
                <a:moveTo>
                  <a:pt x="115" y="140"/>
                </a:moveTo>
                <a:lnTo>
                  <a:pt x="134" y="140"/>
                </a:lnTo>
                <a:lnTo>
                  <a:pt x="134" y="0"/>
                </a:lnTo>
                <a:lnTo>
                  <a:pt x="115" y="0"/>
                </a:lnTo>
                <a:lnTo>
                  <a:pt x="115" y="140"/>
                </a:lnTo>
                <a:close/>
                <a:moveTo>
                  <a:pt x="154" y="140"/>
                </a:moveTo>
                <a:lnTo>
                  <a:pt x="172" y="140"/>
                </a:lnTo>
                <a:lnTo>
                  <a:pt x="172" y="0"/>
                </a:lnTo>
                <a:lnTo>
                  <a:pt x="154" y="0"/>
                </a:lnTo>
                <a:lnTo>
                  <a:pt x="154" y="140"/>
                </a:lnTo>
                <a:close/>
                <a:moveTo>
                  <a:pt x="191" y="140"/>
                </a:moveTo>
                <a:lnTo>
                  <a:pt x="211" y="140"/>
                </a:lnTo>
                <a:lnTo>
                  <a:pt x="211" y="0"/>
                </a:lnTo>
                <a:lnTo>
                  <a:pt x="191" y="0"/>
                </a:lnTo>
                <a:lnTo>
                  <a:pt x="191" y="140"/>
                </a:lnTo>
                <a:close/>
                <a:moveTo>
                  <a:pt x="229" y="140"/>
                </a:moveTo>
                <a:lnTo>
                  <a:pt x="248" y="140"/>
                </a:lnTo>
                <a:lnTo>
                  <a:pt x="248" y="0"/>
                </a:lnTo>
                <a:lnTo>
                  <a:pt x="229" y="0"/>
                </a:lnTo>
                <a:lnTo>
                  <a:pt x="229" y="140"/>
                </a:lnTo>
                <a:close/>
                <a:moveTo>
                  <a:pt x="229" y="227"/>
                </a:moveTo>
                <a:lnTo>
                  <a:pt x="248" y="227"/>
                </a:lnTo>
                <a:lnTo>
                  <a:pt x="248" y="157"/>
                </a:lnTo>
                <a:lnTo>
                  <a:pt x="229" y="157"/>
                </a:lnTo>
                <a:lnTo>
                  <a:pt x="229" y="227"/>
                </a:lnTo>
                <a:close/>
                <a:moveTo>
                  <a:pt x="191" y="227"/>
                </a:moveTo>
                <a:lnTo>
                  <a:pt x="211" y="227"/>
                </a:lnTo>
                <a:lnTo>
                  <a:pt x="211" y="157"/>
                </a:lnTo>
                <a:lnTo>
                  <a:pt x="191" y="157"/>
                </a:lnTo>
                <a:lnTo>
                  <a:pt x="191" y="227"/>
                </a:lnTo>
                <a:close/>
                <a:moveTo>
                  <a:pt x="154" y="227"/>
                </a:moveTo>
                <a:lnTo>
                  <a:pt x="172" y="227"/>
                </a:lnTo>
                <a:lnTo>
                  <a:pt x="172" y="157"/>
                </a:lnTo>
                <a:lnTo>
                  <a:pt x="154" y="157"/>
                </a:lnTo>
                <a:lnTo>
                  <a:pt x="154" y="227"/>
                </a:lnTo>
                <a:close/>
                <a:moveTo>
                  <a:pt x="115" y="227"/>
                </a:moveTo>
                <a:lnTo>
                  <a:pt x="134" y="227"/>
                </a:lnTo>
                <a:lnTo>
                  <a:pt x="134" y="157"/>
                </a:lnTo>
                <a:lnTo>
                  <a:pt x="115" y="157"/>
                </a:lnTo>
                <a:lnTo>
                  <a:pt x="115" y="227"/>
                </a:lnTo>
                <a:close/>
                <a:moveTo>
                  <a:pt x="77" y="227"/>
                </a:moveTo>
                <a:lnTo>
                  <a:pt x="95" y="227"/>
                </a:lnTo>
                <a:lnTo>
                  <a:pt x="95" y="157"/>
                </a:lnTo>
                <a:lnTo>
                  <a:pt x="77" y="157"/>
                </a:lnTo>
                <a:lnTo>
                  <a:pt x="77" y="227"/>
                </a:lnTo>
                <a:close/>
                <a:moveTo>
                  <a:pt x="38" y="227"/>
                </a:moveTo>
                <a:lnTo>
                  <a:pt x="57" y="227"/>
                </a:lnTo>
                <a:lnTo>
                  <a:pt x="57" y="157"/>
                </a:lnTo>
                <a:lnTo>
                  <a:pt x="38" y="157"/>
                </a:lnTo>
                <a:lnTo>
                  <a:pt x="38" y="227"/>
                </a:lnTo>
                <a:close/>
                <a:moveTo>
                  <a:pt x="0" y="227"/>
                </a:moveTo>
                <a:lnTo>
                  <a:pt x="18" y="227"/>
                </a:lnTo>
                <a:lnTo>
                  <a:pt x="18" y="157"/>
                </a:lnTo>
                <a:lnTo>
                  <a:pt x="0" y="157"/>
                </a:lnTo>
                <a:lnTo>
                  <a:pt x="0" y="2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02520" y="1082520"/>
            <a:ext cx="15228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02520" y="1082520"/>
            <a:ext cx="152280" cy="14400"/>
          </a:xfrm>
          <a:custGeom>
            <a:avLst/>
            <a:gdLst/>
            <a:ahLst/>
            <a:rect l="l" t="t" r="r" b="b"/>
            <a:pathLst>
              <a:path w="193" h="18">
                <a:moveTo>
                  <a:pt x="0" y="0"/>
                </a:moveTo>
                <a:lnTo>
                  <a:pt x="20" y="18"/>
                </a:lnTo>
                <a:lnTo>
                  <a:pt x="173" y="18"/>
                </a:lnTo>
                <a:lnTo>
                  <a:pt x="193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02520" y="1152360"/>
            <a:ext cx="152280" cy="5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02520" y="122076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02520" y="129060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02520" y="1359000"/>
            <a:ext cx="152280" cy="5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80200" y="1486080"/>
            <a:ext cx="1440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0900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40680" y="1486080"/>
            <a:ext cx="140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7092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00800" y="1486080"/>
            <a:ext cx="1440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3104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6128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6128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00800" y="1609560"/>
            <a:ext cx="1440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7092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40680" y="1609560"/>
            <a:ext cx="140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0900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80200" y="1609560"/>
            <a:ext cx="1440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202520" y="1096560"/>
            <a:ext cx="14400" cy="4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38960" y="1096920"/>
            <a:ext cx="15840" cy="4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09000" y="133992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9000" y="132876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09000" y="131760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09000" y="130824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09000" y="1298520"/>
            <a:ext cx="98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78840" y="1165320"/>
            <a:ext cx="44280" cy="28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9880" y="1258920"/>
            <a:ext cx="2232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9880" y="1298520"/>
            <a:ext cx="22320" cy="4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19880" y="1312920"/>
            <a:ext cx="2232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54720" y="1243080"/>
            <a:ext cx="704880" cy="353880"/>
          </a:xfrm>
          <a:custGeom>
            <a:avLst/>
            <a:gdLst/>
            <a:ahLst/>
            <a:rect l="l" t="t" r="r" b="b"/>
            <a:pathLst>
              <a:path w="888" h="448">
                <a:moveTo>
                  <a:pt x="0" y="17"/>
                </a:moveTo>
                <a:lnTo>
                  <a:pt x="59" y="17"/>
                </a:lnTo>
                <a:lnTo>
                  <a:pt x="59" y="0"/>
                </a:lnTo>
                <a:lnTo>
                  <a:pt x="0" y="0"/>
                </a:lnTo>
                <a:lnTo>
                  <a:pt x="0" y="17"/>
                </a:lnTo>
                <a:close/>
                <a:moveTo>
                  <a:pt x="855" y="448"/>
                </a:moveTo>
                <a:lnTo>
                  <a:pt x="888" y="448"/>
                </a:lnTo>
                <a:lnTo>
                  <a:pt x="888" y="437"/>
                </a:lnTo>
                <a:lnTo>
                  <a:pt x="855" y="437"/>
                </a:lnTo>
                <a:lnTo>
                  <a:pt x="855" y="448"/>
                </a:lnTo>
                <a:close/>
                <a:moveTo>
                  <a:pt x="328" y="349"/>
                </a:moveTo>
                <a:lnTo>
                  <a:pt x="328" y="54"/>
                </a:lnTo>
                <a:lnTo>
                  <a:pt x="801" y="54"/>
                </a:lnTo>
                <a:lnTo>
                  <a:pt x="801" y="349"/>
                </a:lnTo>
                <a:lnTo>
                  <a:pt x="328" y="349"/>
                </a:lnTo>
                <a:close/>
                <a:moveTo>
                  <a:pt x="307" y="369"/>
                </a:moveTo>
                <a:lnTo>
                  <a:pt x="823" y="369"/>
                </a:lnTo>
                <a:lnTo>
                  <a:pt x="823" y="35"/>
                </a:lnTo>
                <a:lnTo>
                  <a:pt x="845" y="35"/>
                </a:lnTo>
                <a:lnTo>
                  <a:pt x="845" y="15"/>
                </a:lnTo>
                <a:lnTo>
                  <a:pt x="286" y="15"/>
                </a:lnTo>
                <a:lnTo>
                  <a:pt x="286" y="390"/>
                </a:lnTo>
                <a:lnTo>
                  <a:pt x="307" y="390"/>
                </a:lnTo>
                <a:lnTo>
                  <a:pt x="307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54720" y="1243080"/>
            <a:ext cx="46080" cy="1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34400" y="1589040"/>
            <a:ext cx="2520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15360" y="1285920"/>
            <a:ext cx="376200" cy="2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81880" y="1254240"/>
            <a:ext cx="444600" cy="296640"/>
          </a:xfrm>
          <a:custGeom>
            <a:avLst/>
            <a:gdLst/>
            <a:ahLst/>
            <a:rect l="l" t="t" r="r" b="b"/>
            <a:pathLst>
              <a:path w="559" h="375">
                <a:moveTo>
                  <a:pt x="21" y="354"/>
                </a:moveTo>
                <a:lnTo>
                  <a:pt x="537" y="354"/>
                </a:lnTo>
                <a:lnTo>
                  <a:pt x="537" y="20"/>
                </a:lnTo>
                <a:lnTo>
                  <a:pt x="559" y="20"/>
                </a:lnTo>
                <a:lnTo>
                  <a:pt x="559" y="0"/>
                </a:lnTo>
                <a:lnTo>
                  <a:pt x="0" y="0"/>
                </a:lnTo>
                <a:lnTo>
                  <a:pt x="0" y="375"/>
                </a:lnTo>
                <a:lnTo>
                  <a:pt x="21" y="375"/>
                </a:lnTo>
                <a:lnTo>
                  <a:pt x="21" y="35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29680" y="1589040"/>
            <a:ext cx="272880" cy="23760"/>
          </a:xfrm>
          <a:custGeom>
            <a:avLst/>
            <a:gdLst/>
            <a:ahLst/>
            <a:rect l="l" t="t" r="r" b="b"/>
            <a:pathLst>
              <a:path w="345" h="30">
                <a:moveTo>
                  <a:pt x="0" y="0"/>
                </a:moveTo>
                <a:lnTo>
                  <a:pt x="345" y="0"/>
                </a:lnTo>
                <a:lnTo>
                  <a:pt x="345" y="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67560" y="1589040"/>
            <a:ext cx="180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48680" y="178740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X Conver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1760" y="2751120"/>
            <a:ext cx="2438640" cy="398880"/>
            <a:chOff x="761760" y="2751120"/>
            <a:chExt cx="2438640" cy="398880"/>
          </a:xfrm>
        </p:grpSpPr>
        <p:sp>
          <p:nvSpPr>
            <p:cNvPr id="232" name=""/>
            <p:cNvSpPr/>
            <p:nvPr/>
          </p:nvSpPr>
          <p:spPr>
            <a:xfrm>
              <a:off x="838080" y="3124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1760" y="275112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OL-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8520" y="3782880"/>
            <a:ext cx="2586960" cy="407880"/>
            <a:chOff x="758520" y="3782880"/>
            <a:chExt cx="2586960" cy="407880"/>
          </a:xfrm>
        </p:grpSpPr>
        <p:sp>
          <p:nvSpPr>
            <p:cNvPr id="235" name=""/>
            <p:cNvSpPr/>
            <p:nvPr/>
          </p:nvSpPr>
          <p:spPr>
            <a:xfrm>
              <a:off x="762120" y="41907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8520" y="3782880"/>
              <a:ext cx="258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64400" y="4267080"/>
            <a:ext cx="2811240" cy="407880"/>
            <a:chOff x="5864400" y="4267080"/>
            <a:chExt cx="2811240" cy="407880"/>
          </a:xfrm>
        </p:grpSpPr>
        <p:sp>
          <p:nvSpPr>
            <p:cNvPr id="238" name=""/>
            <p:cNvSpPr/>
            <p:nvPr/>
          </p:nvSpPr>
          <p:spPr>
            <a:xfrm flipH="1">
              <a:off x="5943600" y="46749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64400" y="4267080"/>
              <a:ext cx="28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Challe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120" y="4876920"/>
            <a:ext cx="2804040" cy="398880"/>
            <a:chOff x="762120" y="4876920"/>
            <a:chExt cx="2804040" cy="398880"/>
          </a:xfrm>
        </p:grpSpPr>
        <p:sp>
          <p:nvSpPr>
            <p:cNvPr id="241" name=""/>
            <p:cNvSpPr/>
            <p:nvPr/>
          </p:nvSpPr>
          <p:spPr>
            <a:xfrm>
              <a:off x="762120" y="5257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4280" y="4876920"/>
              <a:ext cx="28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credential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940040" y="1981080"/>
            <a:ext cx="4064760" cy="703800"/>
            <a:chOff x="1940040" y="1981080"/>
            <a:chExt cx="4064760" cy="703800"/>
          </a:xfrm>
        </p:grpSpPr>
        <p:sp>
          <p:nvSpPr>
            <p:cNvPr id="244" name=""/>
            <p:cNvSpPr/>
            <p:nvPr/>
          </p:nvSpPr>
          <p:spPr>
            <a:xfrm>
              <a:off x="4190400" y="2286000"/>
              <a:ext cx="18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940040" y="1981080"/>
              <a:ext cx="2361960" cy="407880"/>
              <a:chOff x="1940040" y="1981080"/>
              <a:chExt cx="2361960" cy="407880"/>
            </a:xfrm>
          </p:grpSpPr>
          <p:sp>
            <p:nvSpPr>
              <p:cNvPr id="246" name=""/>
              <p:cNvSpPr/>
              <p:nvPr/>
            </p:nvSpPr>
            <p:spPr>
              <a:xfrm>
                <a:off x="1940040" y="2388960"/>
                <a:ext cx="236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4280" y="198108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ort conn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711440" y="1752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941440" y="5348160"/>
            <a:ext cx="2500200" cy="407880"/>
            <a:chOff x="5941440" y="5348160"/>
            <a:chExt cx="2500200" cy="407880"/>
          </a:xfrm>
        </p:grpSpPr>
        <p:sp>
          <p:nvSpPr>
            <p:cNvPr id="250" name=""/>
            <p:cNvSpPr/>
            <p:nvPr/>
          </p:nvSpPr>
          <p:spPr>
            <a:xfrm flipH="1">
              <a:off x="5962320" y="575604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41440" y="534816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Ac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876920" y="2666880"/>
            <a:ext cx="304560" cy="3353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362320" y="3249720"/>
            <a:ext cx="2666880" cy="407880"/>
            <a:chOff x="2362320" y="3249720"/>
            <a:chExt cx="2666880" cy="407880"/>
          </a:xfrm>
        </p:grpSpPr>
        <p:sp>
          <p:nvSpPr>
            <p:cNvPr id="254" name=""/>
            <p:cNvSpPr/>
            <p:nvPr/>
          </p:nvSpPr>
          <p:spPr>
            <a:xfrm>
              <a:off x="2435400" y="3249720"/>
              <a:ext cx="24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quest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36232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62320" y="4410000"/>
            <a:ext cx="2666880" cy="390600"/>
            <a:chOff x="2362320" y="4410000"/>
            <a:chExt cx="2666880" cy="390600"/>
          </a:xfrm>
        </p:grpSpPr>
        <p:sp>
          <p:nvSpPr>
            <p:cNvPr id="257" name=""/>
            <p:cNvSpPr/>
            <p:nvPr/>
          </p:nvSpPr>
          <p:spPr>
            <a:xfrm>
              <a:off x="2385720" y="441000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P-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362320" y="4800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62320" y="5376960"/>
            <a:ext cx="3582360" cy="965520"/>
            <a:chOff x="2362320" y="5376960"/>
            <a:chExt cx="3582360" cy="965520"/>
          </a:xfrm>
        </p:grpSpPr>
        <p:sp>
          <p:nvSpPr>
            <p:cNvPr id="260" name=""/>
            <p:cNvSpPr/>
            <p:nvPr/>
          </p:nvSpPr>
          <p:spPr>
            <a:xfrm>
              <a:off x="4143960" y="5943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allow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362320" y="5376960"/>
              <a:ext cx="2666880" cy="414000"/>
              <a:chOff x="2362320" y="5376960"/>
              <a:chExt cx="2666880" cy="414000"/>
            </a:xfrm>
          </p:grpSpPr>
          <p:sp>
            <p:nvSpPr>
              <p:cNvPr id="262" name=""/>
              <p:cNvSpPr/>
              <p:nvPr/>
            </p:nvSpPr>
            <p:spPr>
              <a:xfrm>
                <a:off x="2383920" y="5376960"/>
                <a:ext cx="15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AP-Succ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62320" y="579096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5029200" y="3733920"/>
            <a:ext cx="2746080" cy="398880"/>
            <a:chOff x="5029200" y="3733920"/>
            <a:chExt cx="2746080" cy="398880"/>
          </a:xfrm>
        </p:grpSpPr>
        <p:sp>
          <p:nvSpPr>
            <p:cNvPr id="265" name=""/>
            <p:cNvSpPr/>
            <p:nvPr/>
          </p:nvSpPr>
          <p:spPr>
            <a:xfrm>
              <a:off x="5176080" y="373392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4114800"/>
              <a:ext cx="21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029200" y="4822920"/>
            <a:ext cx="2763360" cy="434880"/>
            <a:chOff x="5029200" y="4822920"/>
            <a:chExt cx="2763360" cy="434880"/>
          </a:xfrm>
        </p:grpSpPr>
        <p:sp>
          <p:nvSpPr>
            <p:cNvPr id="268" name=""/>
            <p:cNvSpPr/>
            <p:nvPr/>
          </p:nvSpPr>
          <p:spPr>
            <a:xfrm>
              <a:off x="5193360" y="482292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29200" y="52578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25720" y="2757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5360" y="27432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0E2-792C-4BCD-8E54-31598376A7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for 802.1X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hanges required to 802.1X and 802.11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X protocol same over 802.3 as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both user and machine 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user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 client support on Access 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encryptio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of global/multicast keys from access point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derivation of unicast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m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6F2-99DA-4513-B767-33B1DB6603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5:22:53Z</dcterms:created>
  <dc:creator>Tim Moore</dc:creator>
  <dc:description/>
  <dc:language>en-US</dc:language>
  <cp:lastModifiedBy>bernard aboba</cp:lastModifiedBy>
  <dcterms:modified xsi:type="dcterms:W3CDTF">2000-03-08T02:28:13Z</dcterms:modified>
  <cp:revision>212</cp:revision>
  <dc:subject/>
  <dc:title>Introduction</dc:title>
</cp:coreProperties>
</file>