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0622-343B-4D9C-9A84-9264DC242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E785-D16D-4F17-AC46-1F280665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BAB4-2343-416D-97A8-59F04449B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DF75-68DF-4736-8256-62E356AC4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32E7-F6B3-4252-B5FF-7B7E1A56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5D2D-9EB3-40A7-8E43-C985FFF1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6308-1DE7-41B8-85B6-F8F81C7D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E498-AC29-4261-93C0-362B51C8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492F-258F-444D-91F2-72805194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5061-3B93-4BAD-9D71-574521AD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8EF6-5B04-4FD4-85D4-40E6BF4E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C1A5-F5E9-44F0-9E11-D8A8C164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2193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71FCA65-844A-4653-A3BC-79B132C59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3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less LAN Q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ncan Kitch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l Wireless LAN 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Intel WL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349C-4ED7-4977-A97D-23F9BCEFD0F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, 2000</a:t>
            </a: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have end-to-end signa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ty of service setup has to include whole network, not just the wireless LAN 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nteroperate with all existing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have application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to work with existing protocol stack &amp;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oS features in wireless LAN must be transparent - application should not know or care what the underlying transpor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Intel WL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D247-336B-4F47-B850-AF382A2B6E6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, 2000</a:t>
            </a: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d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 provides statistical prioritization based on 802.1p ta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 time connection setup handled at higher 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SVP in the network layer for end-to-end sign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net bandwidth management (SBM) uses RSVP state to attach 802.1p tags to 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Intel WL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09BD-E009-49A0-8221-2F9A17E80BB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 to end signa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5029200"/>
            <a:ext cx="106668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4648320"/>
            <a:ext cx="106668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5029200"/>
            <a:ext cx="106668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8120" y="4648320"/>
            <a:ext cx="106668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67080" y="5029200"/>
            <a:ext cx="106704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4648320"/>
            <a:ext cx="106704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38880" y="5029200"/>
            <a:ext cx="106704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38880" y="4648320"/>
            <a:ext cx="106704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1600" y="4267080"/>
            <a:ext cx="1066680" cy="3812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W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8120" y="4267080"/>
            <a:ext cx="2286000" cy="3812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W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4267080"/>
            <a:ext cx="1067040" cy="3812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W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5410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5410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5410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772400" y="5410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571500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571500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 layer doesn’t have the end to end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est layer that can have end to end signalling is th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s are established at network layer, with requirements pushed downwards into the MAC using S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4343400"/>
            <a:ext cx="5105520" cy="228600"/>
          </a:xfrm>
          <a:prstGeom prst="rightArrow">
            <a:avLst>
              <a:gd name="adj1" fmla="val 50000"/>
              <a:gd name="adj2" fmla="val 55834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4267080"/>
            <a:ext cx="228600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W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5600" y="4038480"/>
            <a:ext cx="126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 Se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Intel WL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FD66-E635-495F-9B67-A829E134E41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, incremental extension to 802.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s with existing protocol stack (TCP/I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 defined IETF protocol (RSVP) allows access to QoS services transparently, ensures application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Intel WL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A5A5-B5DE-4950-B15E-D06411A3BA0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, 2000</a:t>
            </a: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1T19:26:40Z</dcterms:created>
  <dc:creator>Duncan Kitchin</dc:creator>
  <dc:description/>
  <dc:language>en-US</dc:language>
  <cp:lastModifiedBy>Harry R. Worstell</cp:lastModifiedBy>
  <cp:lastPrinted>1998-02-10T13:28:06Z</cp:lastPrinted>
  <dcterms:modified xsi:type="dcterms:W3CDTF">2000-03-08T15:53:00Z</dcterms:modified>
  <cp:revision>11</cp:revision>
  <dc:subject/>
  <dc:title>End to end and up and down</dc:title>
</cp:coreProperties>
</file>