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9E8E-70C0-41B9-8F16-A3745EB5C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4014-89A6-4378-B02C-6EB31CB2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22DD-C1FD-4A47-B00D-148456150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4899-FE30-4BA0-B65D-9F87A27D1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48F7-E6D1-4898-805D-4A2D0B22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28D3-EC7A-4CF2-B002-C66EA404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72A7-770B-484A-8C33-F73AACCF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2296-5CC5-46DD-BE88-69D9243B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E82F-8E7E-4FB7-AED8-58B56BE9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BD52-2CE1-4B00-AA07-7DB14051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7DA8-55C7-4E9A-B3DB-298CC247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7BC0-1CBC-4DA9-9AFF-478A03F3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BDC08E9-576D-49A9-BF84-100A82EAB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al for Enhanced Encry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ncan Kitch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sse Wal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l Network Infrastructure 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Jesse Walker, Intel NI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711C-7B31-403D-B7CA-7CF4E9BB0B1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rpose of This Propos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0-bit RC4 (WEP) is rapidly becoming inadequ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imple extension can be made (included in this proposal) to extend WEP to 104 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solution will also become inadequate at some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proposal presents a long range solution (starting ~2 years ou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Jesse Walker, Intel NI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53D9-46DE-4D2F-8BA9-BC5F603E87C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wards Compati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nt to avoid an unstructured option space, forcing everybody to implement many 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e ordered list of encaps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is stronger than the one before it in the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 the number of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Jesse Walker, Intel NI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A708-6673-44AB-B7E0-C3ED6D7073A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d Encryption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447920" y="1905120"/>
          <a:ext cx="6227640" cy="406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905120"/>
                    <a:ext cx="6227640" cy="40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Jesse Walker, Intel NI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9B07-B4DF-4137-9EB7-213E9278E11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ice of A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ment for 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not yet sel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one of Rijndael, Serpent or Twof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be 128 bit block cipher, supporting key lengths of 128, 196 and 256 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Jesse Walker, Intel NI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5B1B-221A-4249-BAE1-D979001A619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d Frame Form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P-104 will be identical to WEP-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104 rather than 40 bit RC4 by mutual agreement of pair of s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aining formats use new “AES” data frame sub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Jesse Walker, Intel NI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6A93-A65E-49D9-B030-F10C9D56D06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ES Fram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2514600"/>
            <a:ext cx="129528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10080" y="2514600"/>
            <a:ext cx="1295640" cy="53352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2514600"/>
            <a:ext cx="2057400" cy="53352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yl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514600"/>
            <a:ext cx="685800" cy="53352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514600"/>
            <a:ext cx="990360" cy="53352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MAC-SHA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952880" y="3733920"/>
            <a:ext cx="2438640" cy="732960"/>
            <a:chOff x="4952880" y="3733920"/>
            <a:chExt cx="2438640" cy="732960"/>
          </a:xfrm>
        </p:grpSpPr>
        <p:sp>
          <p:nvSpPr>
            <p:cNvPr id="65" name=""/>
            <p:cNvSpPr/>
            <p:nvPr/>
          </p:nvSpPr>
          <p:spPr>
            <a:xfrm>
              <a:off x="4952880" y="3886200"/>
              <a:ext cx="1828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eat interleaving attac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705720" y="3733920"/>
              <a:ext cx="685800" cy="457200"/>
            </a:xfrm>
            <a:custGeom>
              <a:avLst/>
              <a:gdLst>
                <a:gd name="textAreaLeft" fmla="*/ 228600 w 685800"/>
                <a:gd name="textAreaRight" fmla="*/ 587520 w 685800"/>
                <a:gd name="textAreaTop" fmla="*/ 263520 h 457200"/>
                <a:gd name="textAreaBottom" fmla="*/ 3916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4267080" y="3124080"/>
            <a:ext cx="2133360" cy="837720"/>
            <a:chOff x="4267080" y="3124080"/>
            <a:chExt cx="2133360" cy="837720"/>
          </a:xfrm>
        </p:grpSpPr>
        <p:sp>
          <p:nvSpPr>
            <p:cNvPr id="68" name=""/>
            <p:cNvSpPr/>
            <p:nvPr/>
          </p:nvSpPr>
          <p:spPr>
            <a:xfrm>
              <a:off x="4267080" y="3381120"/>
              <a:ext cx="1523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eat replay attac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14640" y="3124080"/>
              <a:ext cx="685800" cy="609480"/>
            </a:xfrm>
            <a:custGeom>
              <a:avLst/>
              <a:gdLst>
                <a:gd name="textAreaLeft" fmla="*/ 228600 w 685800"/>
                <a:gd name="textAreaRight" fmla="*/ 587520 w 685800"/>
                <a:gd name="textAreaTop" fmla="*/ 351000 h 609480"/>
                <a:gd name="textAreaBottom" fmla="*/ 52200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990720" y="3352680"/>
            <a:ext cx="2666520" cy="534240"/>
            <a:chOff x="990720" y="3352680"/>
            <a:chExt cx="2666520" cy="534240"/>
          </a:xfrm>
        </p:grpSpPr>
        <p:sp>
          <p:nvSpPr>
            <p:cNvPr id="71" name=""/>
            <p:cNvSpPr/>
            <p:nvPr/>
          </p:nvSpPr>
          <p:spPr>
            <a:xfrm>
              <a:off x="990720" y="3549600"/>
              <a:ext cx="20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eat eavesdro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971800" y="3352680"/>
              <a:ext cx="685440" cy="457200"/>
            </a:xfrm>
            <a:custGeom>
              <a:avLst/>
              <a:gdLst>
                <a:gd name="textAreaLeft" fmla="*/ 228600 w 685440"/>
                <a:gd name="textAreaRight" fmla="*/ 587160 w 685440"/>
                <a:gd name="textAreaTop" fmla="*/ 263520 h 457200"/>
                <a:gd name="textAreaBottom" fmla="*/ 3916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Jesse Walker, Intel NI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63A1-91D7-434A-BA04-99F7325E95B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yption algorithms should form an ordered list, each implementation required to support a contiguous r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e WEP-104 &amp; AES algorithm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e format for AES as describ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Jesse Walker, Intel NI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5762-D4D0-4E05-B8D9-6539E4A379D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9T17:20:15Z</dcterms:created>
  <dc:creator>Duncan Kitchin</dc:creator>
  <dc:description/>
  <dc:language>en-US</dc:language>
  <cp:lastModifiedBy>Harry R. Worstell</cp:lastModifiedBy>
  <cp:lastPrinted>2000-02-29T20:01:58Z</cp:lastPrinted>
  <dcterms:modified xsi:type="dcterms:W3CDTF">2000-03-08T22:52:13Z</dcterms:modified>
  <cp:revision>7</cp:revision>
  <dc:subject/>
  <dc:title>Proposal for Enhanced Encryption</dc:title>
</cp:coreProperties>
</file>