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76320"/>
            <a:ext cx="906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2000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ts val="2999"/>
              </a:lnSpc>
              <a:buClr>
                <a:srgbClr val="0066ff"/>
              </a:buClr>
              <a:buFont typeface="Arial"/>
              <a:buChar char="~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ts val="2999"/>
              </a:lnSpc>
              <a:buClr>
                <a:srgbClr val="0066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8839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ss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47039FA-619E-4651-82BF-39DD8184F4C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Rajugopal Gubbi (Sharewa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981080"/>
            <a:ext cx="883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ff"/>
                </a:solidFill>
                <a:latin typeface="Arial"/>
              </a:rPr>
              <a:t>Tutorial on Achieving End-to-end Q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260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Rajugopal Gub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harewav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DB200-D06F-4EAF-8844-6F612FC585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preserve QoS semantics explicitly carried by a stream from/to the outside connection to/from any device in the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s i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guarantee the QoS needs of a stream without having to guess at what those need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be able to analyze/pass the QoS request from wired connections between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EA679-D009-4493-8C29-99F88CA9AE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160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xample-A, Home/Enterprise enviro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556080" y="3686040"/>
            <a:ext cx="598680" cy="596520"/>
            <a:chOff x="3556080" y="3686040"/>
            <a:chExt cx="598680" cy="596520"/>
          </a:xfrm>
        </p:grpSpPr>
        <p:sp>
          <p:nvSpPr>
            <p:cNvPr id="51" name=""/>
            <p:cNvSpPr/>
            <p:nvPr/>
          </p:nvSpPr>
          <p:spPr>
            <a:xfrm>
              <a:off x="3613680" y="3686040"/>
              <a:ext cx="289080" cy="29736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56080" y="4047120"/>
              <a:ext cx="5158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14400" y="409032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60480" y="3744720"/>
              <a:ext cx="188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17720" y="3789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802480" y="2979720"/>
            <a:ext cx="288720" cy="29700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43440" y="3340080"/>
            <a:ext cx="15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124080"/>
            <a:ext cx="128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50000" y="3038400"/>
            <a:ext cx="181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9760" y="3081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80320" y="3916440"/>
            <a:ext cx="28872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21640" y="4278240"/>
            <a:ext cx="1407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80320" y="4282920"/>
            <a:ext cx="104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EB browser 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27840" y="3975120"/>
            <a:ext cx="185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84720" y="40179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35400" y="4684680"/>
            <a:ext cx="1198080" cy="600120"/>
            <a:chOff x="5135400" y="4684680"/>
            <a:chExt cx="1198080" cy="600120"/>
          </a:xfrm>
        </p:grpSpPr>
        <p:sp>
          <p:nvSpPr>
            <p:cNvPr id="67" name=""/>
            <p:cNvSpPr/>
            <p:nvPr/>
          </p:nvSpPr>
          <p:spPr>
            <a:xfrm>
              <a:off x="5193000" y="4684680"/>
              <a:ext cx="291240" cy="29808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35400" y="5046840"/>
              <a:ext cx="8064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95880" y="509292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41240" y="4743360"/>
              <a:ext cx="1828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99920" y="4787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644920" y="3803760"/>
            <a:ext cx="3952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50200" y="366408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95680" y="3809880"/>
            <a:ext cx="9144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408480" y="2743200"/>
            <a:ext cx="4075920" cy="2590560"/>
            <a:chOff x="3408480" y="2743200"/>
            <a:chExt cx="4075920" cy="2590560"/>
          </a:xfrm>
        </p:grpSpPr>
        <p:grpSp>
          <p:nvGrpSpPr>
            <p:cNvPr id="76" name=""/>
            <p:cNvGrpSpPr/>
            <p:nvPr/>
          </p:nvGrpSpPr>
          <p:grpSpPr>
            <a:xfrm>
              <a:off x="3416400" y="2743200"/>
              <a:ext cx="2032560" cy="1180800"/>
              <a:chOff x="3416400" y="2743200"/>
              <a:chExt cx="2032560" cy="1180800"/>
            </a:xfrm>
          </p:grpSpPr>
          <p:sp>
            <p:nvSpPr>
              <p:cNvPr id="77" name=""/>
              <p:cNvSpPr/>
              <p:nvPr/>
            </p:nvSpPr>
            <p:spPr>
              <a:xfrm>
                <a:off x="5443560" y="2743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43168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980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0756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9568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8380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73000" y="2743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6112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4924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3700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32512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12880" y="2745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01000" y="2745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88760" y="2745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76880" y="2745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65000" y="274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52760" y="274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40880" y="274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28640" y="2747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16760" y="2750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204520" y="2750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9264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8076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6852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56640" y="2754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44400" y="2754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32520" y="2757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20640" y="2757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08400" y="2759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96520" y="2759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84280" y="2762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72400" y="2762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60160" y="2764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048280" y="27676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36400" y="2767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24160" y="276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12280" y="276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0400" y="2772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8160" y="2774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75920" y="277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64040" y="277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52160" y="2779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39920" y="2782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28040" y="2782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16160" y="2784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03920" y="2787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91680" y="2789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82320" y="2792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70080" y="2794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58200" y="2797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46320" y="2799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4080" y="2801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22200" y="2804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10320" y="2806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98080" y="2808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85840" y="2811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73960" y="2813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2816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49840" y="2818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39760" y="28216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7520" y="2823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15280" y="2826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03400" y="2831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91520" y="28335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79280" y="2836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67400" y="2838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55520" y="2841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43280" y="2846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33560" y="2848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21680" y="2851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09440" y="2856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97560" y="2858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85680" y="286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73440" y="2865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63000" y="2868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51120" y="2872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38880" y="2876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27000" y="2880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15120" y="2882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05400" y="2887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93160" y="289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81280" y="2895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69040" y="2897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57160" y="2902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46720" y="2907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4840" y="291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22600" y="29152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10720" y="29203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01000" y="29253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88760" y="29271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76880" y="29318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66440" y="2936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54560" y="2941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42680" y="2946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30440" y="2951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21080" y="2956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08840" y="2961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96600" y="2966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86520" y="2971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74280" y="2976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64560" y="2981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52680" y="2986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40800" y="2991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30000" y="29959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18120" y="3000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06240" y="3008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96520" y="3013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84640" y="3018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74200" y="3023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61960" y="30304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52600" y="30351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40360" y="3040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29920" y="3048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8040" y="3053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08320" y="3060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96440" y="3065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86000" y="3069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73760" y="3077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64400" y="3084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53600" y="3089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41720" y="3097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32000" y="3104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20120" y="3109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09680" y="3116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999960" y="31240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88080" y="3128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77640" y="3137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67920" y="3143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57480" y="3151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45600" y="3158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35880" y="3166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25440" y="3173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5720" y="3180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05280" y="3188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93400" y="3195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83680" y="3202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73240" y="3210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63520" y="3217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53440" y="3227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43720" y="32353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33280" y="3242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23560" y="3252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13120" y="32598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03400" y="3266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92960" y="327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83600" y="3284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75320" y="3294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65240" y="3304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55520" y="3310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44720" y="3321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36800" y="3330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27080" y="333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17000" y="3348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08720" y="3358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699360" y="336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88920" y="337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681000" y="3387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72720" y="3397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63360" y="340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55080" y="3417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44640" y="34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636720" y="34372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28800" y="3449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20520" y="3458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11160" y="3468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02880" y="3478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594960" y="349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88480" y="35031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80560" y="35128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72280" y="3525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64360" y="3535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56440" y="3547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50680" y="3560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42760" y="3570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34840" y="3582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28360" y="3594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20440" y="3606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14680" y="3619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508560" y="3630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02800" y="3643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96320" y="3655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90920" y="3670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84080" y="36831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78680" y="3695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72200" y="3707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66440" y="3722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62480" y="37342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58520" y="3749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52400" y="3762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448080" y="3776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44120" y="3788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40160" y="3803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36200" y="3818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32240" y="3830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28280" y="3845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26480" y="3860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22520" y="3875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20360" y="388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18560" y="3904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6400" y="3916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408480" y="3931200"/>
              <a:ext cx="1862640" cy="1397880"/>
              <a:chOff x="3408480" y="3931200"/>
              <a:chExt cx="1862640" cy="1397880"/>
            </a:xfrm>
          </p:grpSpPr>
          <p:sp>
            <p:nvSpPr>
              <p:cNvPr id="278" name=""/>
              <p:cNvSpPr/>
              <p:nvPr/>
            </p:nvSpPr>
            <p:spPr>
              <a:xfrm>
                <a:off x="3414960" y="3931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12440" y="39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11000" y="3960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11000" y="3975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08480" y="3990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08480" y="4005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08480" y="4019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8480" y="4034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08480" y="404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08480" y="4064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08480" y="4078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11000" y="4093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11000" y="4108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12440" y="4123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4960" y="41378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16400" y="4152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18920" y="4167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20360" y="4182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24320" y="4196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6840" y="420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30800" y="4224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32600" y="4239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36560" y="4254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40520" y="4266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44480" y="4280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48440" y="429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54920" y="4308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58880" y="4322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2840" y="4334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68600" y="4349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74720" y="436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9040" y="4374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84440" y="43869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90920" y="440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96680" y="4413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3160" y="4426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08560" y="4438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16840" y="4451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22960" y="4462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28720" y="4475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36640" y="4487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43120" y="4500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51040" y="4511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58960" y="4521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64720" y="4534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7264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80560" y="4556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88840" y="4569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96760" y="4578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605040" y="4590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612960" y="4600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20880" y="4610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31320" y="4623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39240" y="4632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47520" y="46429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55440" y="46526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65160" y="4662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73080" y="4672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83520" y="4684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91440" y="4694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701160" y="4703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09080" y="4711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19520" y="4721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240" y="4731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37160" y="4741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47600" y="4748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57320" y="4758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65240" y="4767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75680" y="4775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85400" y="4785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5840" y="4792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05200" y="4802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16000" y="4810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25360" y="4820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35800" y="4826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45520" y="4834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55960" y="4844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65680" y="4851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75760" y="4859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85480" y="4866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96280" y="4874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05640" y="4881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16080" y="4889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27960" y="4896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937680" y="4903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948120" y="4910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57840" y="4918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969720" y="492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80160" y="4933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89880" y="494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000320" y="4948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12200" y="4953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021920" y="495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32360" y="4967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44240" y="4972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53960" y="4979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065840" y="49874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076640" y="499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6000" y="4999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98240" y="5004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08680" y="5011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20560" y="5016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30280" y="5023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42160" y="5028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52600" y="503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64840" y="5041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74200" y="5046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186440" y="5051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98320" y="5056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08760" y="5063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220640" y="5068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30360" y="5073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242600" y="5078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54480" y="5082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64920" y="5087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76800" y="5092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86520" y="5097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98760" y="5105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10640" y="5110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1080" y="5112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33320" y="5117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45200" y="5122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57080" y="5127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66800" y="5132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78680" y="513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90920" y="5141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01360" y="5144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413240" y="51501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25480" y="51548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37360" y="5159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47080" y="5161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58960" y="5166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71200" y="5171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8308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93520" y="5179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05760" y="5181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17640" y="5186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9520" y="5189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41760" y="5194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51120" y="5196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63360" y="5201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75600" y="5204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87480" y="5208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599360" y="5211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611600" y="5213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621680" y="521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33920" y="5220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46160" y="5225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58040" y="522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69920" y="5230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82160" y="5233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694040" y="5235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05920" y="5240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15640" y="5243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27520" y="524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39760" y="5248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2000" y="5250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63880" y="5253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75760" y="5255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88000" y="525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99880" y="525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11760" y="5263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824000" y="5265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34440" y="527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46320" y="527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858560" y="5272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70440" y="5275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82320" y="5277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94560" y="5279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06800" y="5283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918680" y="5284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30560" y="5287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42800" y="5287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54680" y="5289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66560" y="5292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78800" y="5294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90680" y="5294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002920" y="529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014800" y="5299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026680" y="5299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38920" y="5302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051160" y="530460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063040" y="5304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72760" y="5307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84640" y="5307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96520" y="5309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08760" y="5309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20640" y="5312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32880" y="53121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44760" y="5314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57000" y="5314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68880" y="531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80760" y="531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93000" y="531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04880" y="5319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16760" y="5319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229000" y="53222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41240" y="5322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53120" y="5322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65000" y="5322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5277240" y="4344480"/>
              <a:ext cx="2148840" cy="989280"/>
              <a:chOff x="5277240" y="4344480"/>
              <a:chExt cx="2148840" cy="989280"/>
            </a:xfrm>
          </p:grpSpPr>
          <p:sp>
            <p:nvSpPr>
              <p:cNvPr id="479" name=""/>
              <p:cNvSpPr/>
              <p:nvPr/>
            </p:nvSpPr>
            <p:spPr>
              <a:xfrm>
                <a:off x="527724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8912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01000" y="5324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13240" y="5324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251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736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4924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611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7336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8524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748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936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160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348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4536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5760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6948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817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9360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0584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177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52960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4184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5372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596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7784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8972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0196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1384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25720" y="5321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37960" y="5321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50200" y="5321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62080" y="531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73960" y="531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686200" y="531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98080" y="5316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09960" y="5316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22200" y="5316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34440" y="5313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46320" y="5313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58200" y="5312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70440" y="5312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82320" y="5309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94200" y="5309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06440" y="5307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18320" y="5307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30560" y="5304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42440" y="5302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54680" y="5302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66560" y="529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78440" y="529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90680" y="529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02560" y="5294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14800" y="5292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26680" y="5292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38560" y="528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50800" y="52876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61240" y="5284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973120" y="5284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85360" y="5282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97240" y="5279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09120" y="5277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21360" y="5274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33240" y="5272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45480" y="527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57360" y="5267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69600" y="52646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81480" y="5262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93360" y="5259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105600" y="52581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114960" y="52549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200" y="525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39440" y="5249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51320" y="5248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63200" y="5245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175440" y="5243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87320" y="5238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199200" y="5235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211440" y="52333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21880" y="5230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33760" y="5228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46000" y="5223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57880" y="5220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69760" y="5215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82000" y="5213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94240" y="5210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03600" y="5205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15840" y="5203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327720" y="5200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39600" y="5195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51840" y="5194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62280" y="5189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74160" y="5184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86400" y="5181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98280" y="5176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410160" y="5174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41988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432120" y="5166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44000" y="5161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55880" y="5156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66680" y="51516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78560" y="51498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490440" y="5144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502680" y="5139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12040" y="5134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24280" y="5130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536160" y="5127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46600" y="5122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58840" y="5117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70720" y="5112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82600" y="5107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92320" y="5102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604200" y="5097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14640" y="5092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626880" y="5087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638760" y="5082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48480" y="5077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60720" y="5073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72600" y="5065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683040" y="5061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94920" y="5056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704640" y="5051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716880" y="5043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726960" y="5038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739200" y="503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48920" y="5026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760800" y="5021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771240" y="5013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83480" y="5009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92840" y="5001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05080" y="4997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5520" y="4989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27400" y="4984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37120" y="4977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47200" y="4972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9440" y="4964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69160" y="495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79600" y="4952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91480" y="4944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01200" y="4937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11640" y="4930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923520" y="4923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33240" y="4915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943680" y="4908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953040" y="4903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65280" y="4893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975720" y="4885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85440" y="4879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95880" y="4871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05240" y="4864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15680" y="4856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025400" y="484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35840" y="483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45560" y="48315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56000" y="4824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65720" y="4816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75800" y="4807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085520" y="4800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95960" y="4790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105680" y="4782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116120" y="4772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25480" y="4765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33760" y="4755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44200" y="4746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53920" y="4736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61840" y="4728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72280" y="4718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81640" y="4708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89920" y="4698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00360" y="4689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08280" y="4679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18000" y="466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25920" y="4659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33840" y="4649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244280" y="46396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252560" y="4627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260480" y="4618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268400" y="4608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78120" y="4598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286040" y="45856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94320" y="4575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00440" y="4564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308720" y="4554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316640" y="4541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324560" y="4529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32480" y="4519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38240" y="4506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346160" y="4494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54080" y="4482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360920" y="4470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366320" y="445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74240" y="444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380720" y="4433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6480" y="4421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92960" y="4408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98360" y="4396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404840" y="4383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410600" y="4368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416720" y="4357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20680" y="4344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5786280" y="2759760"/>
              <a:ext cx="1698120" cy="1577880"/>
              <a:chOff x="5786280" y="2759760"/>
              <a:chExt cx="1698120" cy="1577880"/>
            </a:xfrm>
          </p:grpSpPr>
          <p:sp>
            <p:nvSpPr>
              <p:cNvPr id="680" name=""/>
              <p:cNvSpPr/>
              <p:nvPr/>
            </p:nvSpPr>
            <p:spPr>
              <a:xfrm>
                <a:off x="7424640" y="43297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430040" y="4317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434360" y="4303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440480" y="4290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44800" y="4275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448760" y="4260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450200" y="424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54160" y="42339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58480" y="4219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60640" y="4204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64600" y="4189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66400" y="4177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468920" y="4162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70360" y="41475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472880" y="4132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474320" y="4118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476840" y="4103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476840" y="4088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478280" y="4073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478280" y="405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78280" y="4043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478280" y="40294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478280" y="4014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478280" y="3999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478280" y="3985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476840" y="3970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76840" y="3955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74320" y="39405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72880" y="3925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470360" y="3911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468920" y="3896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464600" y="3884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462440" y="3870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60640" y="3855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56680" y="38404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452720" y="3825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48760" y="3812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44800" y="3798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40480" y="3783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36520" y="3771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432560" y="3756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428600" y="37436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422120" y="3729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18160" y="3717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412400" y="3702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406280" y="3689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400520" y="3678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94040" y="3665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388640" y="3650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382160" y="3638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76400" y="36255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69920" y="3614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362000" y="3601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356240" y="3589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348320" y="3576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5"/>
                    </a:move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341840" y="3566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33920" y="3555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328520" y="3542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0240" y="35305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12320" y="352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04400" y="3507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96480" y="3497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288200" y="3485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80280" y="3476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272000" y="3463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264080" y="3453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56160" y="3443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45720" y="3433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37800" y="342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229880" y="3412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20160" y="3402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12240" y="3392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01440" y="3382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93520" y="3372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185600" y="3363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175880" y="3353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165440" y="3345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157520" y="3335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147800" y="3325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137720" y="3315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128000" y="3308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20080" y="3299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109280" y="3291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099920" y="3281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089480" y="327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079760" y="3264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69320" y="3256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59600" y="3246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049520" y="3240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39800" y="32320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29000" y="322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19640" y="3215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009200" y="3207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99480" y="3200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89040" y="3192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979680" y="3185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969240" y="3178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57000" y="3170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947640" y="3163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936840" y="3156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27480" y="3148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15240" y="3141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04800" y="3133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895440" y="31269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885000" y="3118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872760" y="3114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63040" y="3106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851160" y="3099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840720" y="3094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831000" y="3087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819120" y="3079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808680" y="3074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796440" y="3067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787080" y="3062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774840" y="3054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64400" y="3049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752520" y="3045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742800" y="3038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30920" y="30333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20480" y="30283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08240" y="302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698880" y="30153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686640" y="3010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676200" y="3005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664320" y="2998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652440" y="2993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42720" y="2988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630840" y="2984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620040" y="2979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08160" y="2973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596280" y="29692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586560" y="2964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74680" y="2959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62440" y="2954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552000" y="2949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40120" y="29448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527880" y="29397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518160" y="2934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06280" y="29300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94400" y="2926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482160" y="2921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72080" y="2917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59840" y="2914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47600" y="2909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35720" y="2905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426000" y="2900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14120" y="2897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02240" y="2892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390000" y="289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378120" y="2885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367680" y="2882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355440" y="2877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43560" y="2872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31680" y="287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319440" y="2865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309720" y="2863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297840" y="2860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285600" y="2855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273720" y="2853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61840" y="2851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49600" y="2846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39160" y="2843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227280" y="2841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215040" y="283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203160" y="283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191280" y="2831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179040" y="2828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167160" y="28267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155280" y="28234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43040" y="2818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133320" y="2816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21440" y="2813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09200" y="2811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097320" y="2808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085440" y="2806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073200" y="2803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061320" y="2801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49440" y="2799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037200" y="2796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024960" y="2793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013080" y="2791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01200" y="2791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990760" y="2788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978520" y="2787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966640" y="2784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954400" y="27820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42520" y="277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930640" y="277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918400" y="2777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06520" y="2774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894640" y="2774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882400" y="27723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70160" y="27694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58280" y="2767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46400" y="2767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34160" y="2764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22280" y="2764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10400" y="2762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798160" y="2762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786280" y="2759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774400" y="2757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2520" y="2757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50280" y="275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8400" y="275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26520" y="275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14280" y="2752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02040" y="2752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90160" y="2750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78280" y="2750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66040" y="2750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54160" y="2747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41920" y="274788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630040" y="274788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17800" y="2747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0592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9404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8180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6992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5768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4580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3356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2168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50980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9756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48568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7344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6156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4968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5854680" y="2860560"/>
            <a:ext cx="13064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77240" y="3216240"/>
            <a:ext cx="13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3933720" y="3215880"/>
            <a:ext cx="1828800" cy="590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ADADC-E0E8-4948-8E46-8C0AFE454FF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Scena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xample-B, SoHo and Enterprise environ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627280" y="381636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71840" y="4178160"/>
            <a:ext cx="4842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15600" y="422280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70120" y="3875040"/>
            <a:ext cx="17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2376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887640" y="3106800"/>
            <a:ext cx="271440" cy="29988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833640" y="3470400"/>
            <a:ext cx="1465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327560" y="2911320"/>
            <a:ext cx="1343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32280" y="3166920"/>
            <a:ext cx="169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88800" y="32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641920" y="393696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33960" y="4411800"/>
            <a:ext cx="13222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791320" y="434484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88000" y="3995640"/>
            <a:ext cx="174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41640" y="4038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4057560" y="4818240"/>
            <a:ext cx="1196640" cy="602640"/>
            <a:chOff x="4057560" y="4818240"/>
            <a:chExt cx="1196640" cy="602640"/>
          </a:xfrm>
        </p:grpSpPr>
        <p:sp>
          <p:nvSpPr>
            <p:cNvPr id="929" name=""/>
            <p:cNvSpPr/>
            <p:nvPr/>
          </p:nvSpPr>
          <p:spPr>
            <a:xfrm>
              <a:off x="4111560" y="4818240"/>
              <a:ext cx="273600" cy="29952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057560" y="5181840"/>
              <a:ext cx="757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16600" y="522648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56920" y="4877280"/>
              <a:ext cx="17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215600" y="4919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1716120" y="3933720"/>
            <a:ext cx="371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1200" y="381636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905120" y="3962520"/>
            <a:ext cx="7128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2441520" y="2870280"/>
            <a:ext cx="1910880" cy="1185480"/>
            <a:chOff x="2441520" y="2870280"/>
            <a:chExt cx="1910880" cy="1185480"/>
          </a:xfrm>
        </p:grpSpPr>
        <p:sp>
          <p:nvSpPr>
            <p:cNvPr id="938" name=""/>
            <p:cNvSpPr/>
            <p:nvPr/>
          </p:nvSpPr>
          <p:spPr>
            <a:xfrm>
              <a:off x="4347360" y="2870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3620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2504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1352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0236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9120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81120" y="2870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6996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5844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4728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3612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24600" y="2872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13080" y="2872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201920" y="2872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90760" y="2872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179240" y="2874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68080" y="2874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56920" y="2874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145400" y="2874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34240" y="2877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122720" y="2877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11560" y="2880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00040" y="2880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88880" y="2880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77720" y="2881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66200" y="2881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5040" y="2885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43520" y="2885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32360" y="288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21200" y="288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09680" y="2889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98520" y="2889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87000" y="28918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75840" y="2894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964320" y="2894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953160" y="2896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942000" y="2896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930480" y="2899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19320" y="2901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907800" y="2904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96640" y="2904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885120" y="2906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73960" y="2909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62800" y="2909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51280" y="2911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40120" y="2914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28600" y="2916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19600" y="2919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08440" y="2921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96920" y="2924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85760" y="2926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74600" y="2929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63080" y="2931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51920" y="2934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40400" y="2936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29240" y="2939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17720" y="2941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706560" y="2944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95400" y="2946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85680" y="29491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74160" y="29509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62640" y="2954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51480" y="29592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40320" y="2961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28800" y="296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617640" y="2965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06480" y="2968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94960" y="2973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85960" y="2975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74440" y="2978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63280" y="2983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52120" y="2985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540600" y="2988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529440" y="2993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19360" y="29955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508200" y="30006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97040" y="3003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85520" y="3008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474360" y="3010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65360" y="3015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453840" y="3018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442680" y="3023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431160" y="3025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420000" y="3030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410280" y="3035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398760" y="30398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87600" y="3043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376440" y="30481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367440" y="30531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355920" y="3054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4400" y="30596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34680" y="3064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23520" y="3069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12360" y="3074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00840" y="3079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291840" y="3084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80680" y="3089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69160" y="3094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59440" y="3099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8280" y="3104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38920" y="3109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27760" y="3114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16600" y="3119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06520" y="3124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195360" y="3129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183840" y="313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174840" y="3141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163680" y="3146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153960" y="3151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142440" y="3158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133440" y="3163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121920" y="3168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112200" y="317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101040" y="3181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092040" y="3188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080880" y="3193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70800" y="3198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59640" y="32061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050640" y="3213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040560" y="3218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029400" y="3225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020400" y="3232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008880" y="3237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999160" y="3245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90160" y="32526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79000" y="3257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68920" y="3265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59920" y="3272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950200" y="3280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939040" y="3287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30040" y="3295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919960" y="3301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910960" y="3309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901240" y="3316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889720" y="3324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80720" y="3331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71000" y="3339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62000" y="3346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52280" y="3356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43280" y="3364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33560" y="33710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24200" y="3381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14480" y="3389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05480" y="3395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95760" y="3405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786760" y="3413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9200" y="3423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69480" y="3433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760120" y="3440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50400" y="34502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42840" y="34599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33840" y="3468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24120" y="3477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16560" y="3487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707560" y="3497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97840" y="3507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90280" y="3517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682720" y="3527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73720" y="3537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66160" y="3547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56080" y="3557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48520" y="35668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40960" y="3578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33400" y="3588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24400" y="3598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16840" y="3608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09280" y="3621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03520" y="3633120"/>
              <a:ext cx="5760" cy="4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5"/>
                  </a:moveTo>
                  <a:lnTo>
                    <a:pt x="5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95600" y="3642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88400" y="3655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80840" y="366588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73280" y="3677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67880" y="3690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60320" y="3700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52760" y="3712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47000" y="3724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39440" y="3736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34040" y="3749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27920" y="3761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22880" y="3774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16400" y="37864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11360" y="380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505240" y="38138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499840" y="382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494080" y="3838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488680" y="3853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485080" y="3865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481120" y="38800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75360" y="3893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71400" y="3907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67800" y="3919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63840" y="393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60240" y="3949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56280" y="3962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52680" y="3977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51240" y="3992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47280" y="4006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445120" y="4021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43680" y="4036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41520" y="4048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2435400" y="4062240"/>
            <a:ext cx="1750320" cy="1403640"/>
            <a:chOff x="2435400" y="4062240"/>
            <a:chExt cx="1750320" cy="1403640"/>
          </a:xfrm>
        </p:grpSpPr>
        <p:sp>
          <p:nvSpPr>
            <p:cNvPr id="1139" name=""/>
            <p:cNvSpPr/>
            <p:nvPr/>
          </p:nvSpPr>
          <p:spPr>
            <a:xfrm>
              <a:off x="2441520" y="4062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439000" y="40770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437560" y="409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437560" y="4106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435400" y="4121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435400" y="4136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435400" y="41511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35400" y="41659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35400" y="41806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35400" y="4195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435400" y="42105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37560" y="4225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37560" y="4240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439000" y="4254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441520" y="42696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42960" y="4284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445120" y="4299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446560" y="4314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50520" y="4329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452680" y="434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456280" y="4356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458080" y="43714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461680" y="4386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65640" y="4398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69240" y="4413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472840" y="4428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478960" y="4440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482560" y="4455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486520" y="4467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491920" y="4482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497680" y="4495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01640" y="4507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506680" y="4519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513160" y="4534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518200" y="4546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24320" y="4559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529720" y="4571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536920" y="45842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543040" y="4596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548440" y="4608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556000" y="4620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61760" y="4633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569320" y="4645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76880" y="4655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582280" y="4668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589840" y="46800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97400" y="46897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04960" y="4702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12520" y="471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620080" y="4724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627640" y="4734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635200" y="4744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644920" y="4757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52120" y="4766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660040" y="4776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667600" y="47869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76600" y="479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84160" y="4806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93880" y="4818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01440" y="4828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710440" y="4838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718000" y="4845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27720" y="4855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736720" y="4865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744280" y="4875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754000" y="4882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63360" y="4892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770560" y="4902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780640" y="4910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789640" y="4920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99360" y="4927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808360" y="4937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818080" y="4944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827080" y="49546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837160" y="4961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46160" y="4969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55880" y="49795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864880" y="4986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74600" y="4994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3600" y="5001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893680" y="5009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02680" y="5016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12400" y="5024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923560" y="5031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932920" y="5038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42640" y="5045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51640" y="5053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62800" y="5060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72880" y="5068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1520" y="50752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991600" y="50835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002760" y="50882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011760" y="50950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021480" y="510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33000" y="5108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042000" y="51148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053160" y="5122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063240" y="5127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072240" y="5134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083400" y="5139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093120" y="5147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104640" y="5152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113640" y="5159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124800" y="5164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134880" y="5169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146040" y="5177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155040" y="51822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166560" y="51872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177720" y="51922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187440" y="51987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198600" y="5204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207600" y="5208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219120" y="5213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30640" y="5218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240360" y="5223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251520" y="5228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260520" y="5233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71680" y="5241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283200" y="5246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292920" y="5248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304440" y="5253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315600" y="5258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326760" y="5263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36120" y="5268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47280" y="5272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58440" y="52779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368520" y="5280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379680" y="5285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390840" y="52909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402360" y="52959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411360" y="52977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22520" y="53028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434040" y="5307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445200" y="5310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54920" y="5315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466440" y="531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477600" y="5322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488760" y="5325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00280" y="5330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509280" y="5332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520440" y="5337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531960" y="5340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543120" y="5345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554640" y="5347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65800" y="5350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575520" y="5355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586680" y="5357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98200" y="536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609720" y="5365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620880" y="5366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632040" y="5369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643560" y="5371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654720" y="5376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663720" y="53798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674880" y="53816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686400" y="5384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697920" y="5386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09080" y="53899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720240" y="53917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31760" y="53946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742920" y="53964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754080" y="5399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765600" y="54014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75320" y="5406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86480" y="5406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798000" y="5409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809160" y="5411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820320" y="5414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831840" y="5416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43360" y="5419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54520" y="5421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65680" y="5424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77200" y="5424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88360" y="5426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99520" y="5429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911040" y="5431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22200" y="5431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933720" y="5434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944880" y="5436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956040" y="5436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67560" y="5439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79080" y="5441040"/>
              <a:ext cx="3600" cy="7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90240" y="5441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99240" y="544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10400" y="544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21920" y="5446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33080" y="5446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044240" y="5448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55760" y="5448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066920" y="5451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78440" y="5451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89600" y="5454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101120" y="5454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112280" y="5454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2344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134960" y="5455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46120" y="5459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7640" y="5459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68800" y="5459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79960" y="5459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4191120" y="4478400"/>
            <a:ext cx="2020320" cy="992160"/>
            <a:chOff x="4191120" y="4478400"/>
            <a:chExt cx="2020320" cy="992160"/>
          </a:xfrm>
        </p:grpSpPr>
        <p:sp>
          <p:nvSpPr>
            <p:cNvPr id="1340" name=""/>
            <p:cNvSpPr/>
            <p:nvPr/>
          </p:nvSpPr>
          <p:spPr>
            <a:xfrm>
              <a:off x="419112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20228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13440" y="5460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224960" y="5460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3612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24764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25880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2699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8148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29264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041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1532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2684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3800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491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6068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7184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3833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39452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40604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41720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4283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43988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45104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46256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7372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48488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49640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50756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519080" y="54586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530240" y="54586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41760" y="5458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5292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6408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57560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586760" y="5453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97920" y="5453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609440" y="5453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620960" y="5450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32120" y="5450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43280" y="5448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54800" y="5448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665960" y="5445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677120" y="5445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688640" y="5443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00160" y="544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11320" y="5441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722480" y="543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734000" y="543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745160" y="5436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56320" y="5434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767840" y="5434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779000" y="543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90520" y="542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1680" y="542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13200" y="5426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24360" y="5424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34080" y="542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845600" y="542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856760" y="541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67920" y="5416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79440" y="5414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890600" y="5411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02120" y="5409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13280" y="5406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924800" y="5404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935960" y="54014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947120" y="539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958640" y="53964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969800" y="53946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978800" y="5391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990320" y="53895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001480" y="5386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13000" y="5384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24160" y="5381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35680" y="5379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46840" y="5374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58000" y="5371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069520" y="5369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079240" y="5366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090400" y="5364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101920" y="5360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113080" y="5357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124600" y="5352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135760" y="5349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47280" y="5347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156280" y="5342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167440" y="5340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78960" y="5337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190120" y="533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201280" y="5330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211000" y="5325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222520" y="5320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234040" y="531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45200" y="5312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56360" y="5310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265360" y="5305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276880" y="53024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288040" y="52977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299200" y="52927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309280" y="5287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320440" y="5285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31960" y="5280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43120" y="5275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352120" y="5271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363640" y="5266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74800" y="5263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84520" y="5258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396040" y="5253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407200" y="5248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18720" y="5243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427720" y="5238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438880" y="5233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448600" y="5228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460120" y="5223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471280" y="5218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80280" y="5213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491800" y="5208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502960" y="5202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512680" y="5197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524200" y="51922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533200" y="51872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544720" y="5179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554440" y="5174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65600" y="5169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574600" y="5162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586120" y="5157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595840" y="5149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607000" y="5144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616000" y="5137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627520" y="5132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37240" y="5124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648400" y="5120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57760" y="5113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67480" y="5108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78640" y="51001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87640" y="50936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7720" y="50886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708880" y="5080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17880" y="5073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7600" y="5065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739120" y="5058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748120" y="5050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757840" y="5043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766840" y="5038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78360" y="5029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788080" y="5021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797080" y="5014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806800" y="5006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15800" y="4999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25520" y="49917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834880" y="49849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844600" y="4974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853600" y="4966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863320" y="4960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872680" y="4952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882400" y="4942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891400" y="4935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901120" y="4925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910120" y="49176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920200" y="4907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928840" y="4901040"/>
              <a:ext cx="3600" cy="68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936760" y="4890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946480" y="48812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55480" y="4871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963040" y="4863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72760" y="4853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81760" y="4843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989320" y="4833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99400" y="4824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006960" y="4813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015960" y="4804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023520" y="47941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030720" y="4784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040800" y="4774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48000" y="4762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055560" y="4752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063120" y="474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072120" y="4732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079680" y="4720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087600" y="4710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93360" y="469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100920" y="4688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108480" y="4675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16040" y="4663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23600" y="4654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129000" y="4641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136560" y="4629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143760" y="4616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150240" y="4604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155280" y="45918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62840" y="45799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168960" y="4566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174360" y="4555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180120" y="4542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185520" y="4530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191640" y="4518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196680" y="4503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202800" y="4491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06400" y="44784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4670280" y="2887560"/>
            <a:ext cx="1595160" cy="1582560"/>
            <a:chOff x="4670280" y="2887560"/>
            <a:chExt cx="1595160" cy="1582560"/>
          </a:xfrm>
        </p:grpSpPr>
        <p:sp>
          <p:nvSpPr>
            <p:cNvPr id="1541" name=""/>
            <p:cNvSpPr/>
            <p:nvPr/>
          </p:nvSpPr>
          <p:spPr>
            <a:xfrm>
              <a:off x="6209280" y="4462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214680" y="4450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218280" y="4435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224400" y="4422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228360" y="4408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31960" y="4393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233400" y="43815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37000" y="4366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240960" y="4351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243120" y="4336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247080" y="4322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248520" y="4309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250680" y="4294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252480" y="4279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254640" y="4264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256080" y="4250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258240" y="4235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258240" y="4220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259680" y="4205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259680" y="4191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259680" y="4176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259680" y="4161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259680" y="4146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259680" y="4131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259680" y="4116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58240" y="410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258240" y="4087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56080" y="4072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254640" y="4057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252480" y="4042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250680" y="4028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247080" y="4016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44920" y="4001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43120" y="3986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239520" y="3971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35920" y="3956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31960" y="3943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228360" y="3929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224400" y="3914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20440" y="3902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216840" y="3887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12880" y="3874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207120" y="38599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203160" y="3848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198120" y="3833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192000" y="3820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186600" y="3808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180840" y="3795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75440" y="3781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69320" y="37692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64280" y="3756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158160" y="3744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150600" y="3731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45200" y="3719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137640" y="3706920"/>
              <a:ext cx="720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5"/>
                  </a:moveTo>
                  <a:lnTo>
                    <a:pt x="5" y="8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31520" y="3697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24320" y="3685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118920" y="3672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111360" y="3660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103800" y="3650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96240" y="3637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088680" y="3628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081120" y="3616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73920" y="3606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66000" y="3593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58440" y="3583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50880" y="35737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041160" y="3563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033960" y="3551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26400" y="3542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017400" y="353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009840" y="352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999760" y="3512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992200" y="3502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984640" y="3492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975640" y="348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965920" y="3475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958360" y="3465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49360" y="3454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939640" y="3445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930640" y="343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23080" y="3428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913360" y="3420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904000" y="3410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94280" y="3403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885280" y="3394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875560" y="3386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66560" y="3376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856840" y="3369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847840" y="3361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837760" y="33512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28760" y="3344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819040" y="3336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810040" y="332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800320" y="3321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791320" y="3314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781600" y="3306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770080" y="3300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761080" y="329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51360" y="3285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742000" y="3277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730840" y="3270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21120" y="3262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12120" y="3255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02400" y="32475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90880" y="32428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681880" y="3235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670720" y="3228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61000" y="3223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51640" y="3216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640480" y="3208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630760" y="3203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619240" y="3196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610600" y="3191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99080" y="3183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89360" y="3178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577840" y="3173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568840" y="3166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57680" y="3161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47960" y="31568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536440" y="31489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27440" y="3143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516280" y="3139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06560" y="3134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95040" y="312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83880" y="3122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474880" y="3117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463360" y="3112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453640" y="3107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42480" y="3102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30960" y="3097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421960" y="3092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10800" y="3087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399280" y="3083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89560" y="3078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78400" y="3072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366880" y="3068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357880" y="3063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46720" y="3058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35200" y="3054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324040" y="3050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14320" y="304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02800" y="3043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291640" y="3038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280480" y="3033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71480" y="3028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259960" y="3025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248800" y="302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237640" y="3018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226120" y="3013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216400" y="3010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204880" y="3006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193720" y="300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82560" y="2998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71040" y="2994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62040" y="299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50880" y="298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39360" y="2984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128200" y="2981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117040" y="2979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105520" y="2974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095800" y="2971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84640" y="2969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073120" y="29660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061960" y="29613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050440" y="295956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039280" y="2956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028120" y="29545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016600" y="2951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005440" y="2946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996440" y="2944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984920" y="2941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73760" y="2939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962240" y="2936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951080" y="2934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939920" y="2931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28760" y="2929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7240" y="2926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05720" y="2924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894560" y="292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883400" y="2919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871880" y="2919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862160" y="2917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51000" y="2914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9480" y="2912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28320" y="2909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17160" y="2907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05640" y="2907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794480" y="2905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783320" y="290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771800" y="290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760640" y="29001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749120" y="28972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737960" y="2895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726800" y="2895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715280" y="2892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704120" y="2892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692960" y="2890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81440" y="2890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670280" y="28875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4659480" y="2884320"/>
            <a:ext cx="4680" cy="828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646520" y="2884320"/>
            <a:ext cx="6480" cy="828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635360" y="2882880"/>
            <a:ext cx="64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624560" y="2882880"/>
            <a:ext cx="612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613400" y="2882880"/>
            <a:ext cx="612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602240" y="287964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591080" y="287964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579920" y="287820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568760" y="287820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556160" y="2878200"/>
            <a:ext cx="64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54500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53384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52268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51152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500720" y="287352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489560" y="287352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478400" y="287352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465800" y="2873520"/>
            <a:ext cx="612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454640" y="28702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443480" y="28702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43232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42116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10000" y="287028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398840" y="28702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387680" y="28702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37508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36392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35276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734000" y="2989440"/>
            <a:ext cx="122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897200" y="5359320"/>
            <a:ext cx="37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554880" y="3968640"/>
            <a:ext cx="1733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wired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913360" y="4100400"/>
            <a:ext cx="6336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970360" y="4056120"/>
            <a:ext cx="2622240" cy="117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332160" y="3719520"/>
            <a:ext cx="2079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 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ass the requirements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C4CF7-C1A3-414E-87CB-8544B746DD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t can be achie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analyzes and converts the semantics of an outside QoS connection into similar semantics on the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negotiates the 802.11- WLAN QoS based on requests from an outside connection using the already discussed mechanism withi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reject an outside connection or renegotiate the Qos, if the requested QoS cannot be achieved o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passes on the QoS requests from an outside connection through the 802.11-WLAN to the rx device for furth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1D3F2-3C2B-468E-8C2E-A3B8C6C367C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533160" y="1584000"/>
            <a:ext cx="8458200" cy="352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VP type of Layer-3 messages for Q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to 802.11-MAC (at Layer-3) must handle the RSVP type of bandwidth requests and inform the MAC through an interface. 802.11-MAC must not handle/alter RSVP type of Layer-3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C must use the mechanism in our proposal to control the bandwidth usage and achieve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MAC can not achieve the required QoS, it should inform the application and also signal the achievable Q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C2884-0D31-4947-9043-B48107ED6A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533160" y="1584000"/>
            <a:ext cx="8458200" cy="352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VP type of Layer-3 messages for QoS (cntd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ication must either disconnect the stream or generate RSVP response type of Layer-3 messages to inform the peer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tains the advantages of layering as defined and mandated by 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QoS Interfaces between the Layer-3 and MAC must be made generic so that similar QoS can be achieved on all QoS-aware M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70DD3-313F-44E5-90B4-0063615E663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1:29:48Z</dcterms:created>
  <dc:creator>Dr. Rajugopal Gubbi, Wim Diepstraten and Jin-Meng Ho</dc:creator>
  <dc:description/>
  <cp:keywords>wireless networks architecture whitecap home networks isochronous streams network services</cp:keywords>
  <dc:language>en-US</dc:language>
  <cp:lastModifiedBy>Harry R. Worstell</cp:lastModifiedBy>
  <cp:lastPrinted>2000-03-02T01:29:59Z</cp:lastPrinted>
  <dcterms:modified xsi:type="dcterms:W3CDTF">2000-03-07T17:52:52Z</dcterms:modified>
  <cp:revision>849</cp:revision>
  <dc:subject>Joint proposal by Sharewave, Lucent and AT&amp;T</dc:subject>
  <dc:title>QoS extensions to 802.11 MAC</dc:title>
</cp:coreProperties>
</file>