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76320"/>
            <a:ext cx="906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. 2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ts val="2999"/>
              </a:lnSpc>
              <a:buClr>
                <a:srgbClr val="0066ff"/>
              </a:buClr>
              <a:buFont typeface="Arial"/>
              <a:buChar char="~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ts val="2999"/>
              </a:lnSpc>
              <a:buClr>
                <a:srgbClr val="0066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miss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F4A5409-D50B-47E2-8A93-D78D4871CD4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jugopal Gubbi (Sharewa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1981080"/>
            <a:ext cx="883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ff"/>
                </a:solidFill>
                <a:latin typeface="Arial"/>
              </a:rPr>
              <a:t>Tutorial on Achieving End-to-end Q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260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Rajugopal Gub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harewave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A5B53-38D0-4C95-A1B6-AB36C03F1B9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xample Scenario-2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04920" y="4571640"/>
            <a:ext cx="86104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otiate WLAN-QoS when RSVP-rsv-req is received from a wired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nnect the stream and release the bandwidth when RSVP-error or tear-down message i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627280" y="2470320"/>
            <a:ext cx="27144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571840" y="2832120"/>
            <a:ext cx="484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415600" y="287640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670120" y="2529000"/>
            <a:ext cx="17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723760" y="2571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87640" y="1760400"/>
            <a:ext cx="271440" cy="3002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33640" y="2124000"/>
            <a:ext cx="1465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27560" y="1565280"/>
            <a:ext cx="1343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323 Video Conferencing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932280" y="1820880"/>
            <a:ext cx="16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88800" y="1862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641920" y="2590920"/>
            <a:ext cx="27144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133960" y="3065400"/>
            <a:ext cx="13222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688000" y="2649600"/>
            <a:ext cx="174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41640" y="26924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057560" y="3471840"/>
            <a:ext cx="1196640" cy="603000"/>
            <a:chOff x="4057560" y="3471840"/>
            <a:chExt cx="1196640" cy="603000"/>
          </a:xfrm>
        </p:grpSpPr>
        <p:sp>
          <p:nvSpPr>
            <p:cNvPr id="994" name=""/>
            <p:cNvSpPr/>
            <p:nvPr/>
          </p:nvSpPr>
          <p:spPr>
            <a:xfrm>
              <a:off x="4111560" y="3471840"/>
              <a:ext cx="273600" cy="29952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7560" y="3835800"/>
              <a:ext cx="7570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116600" y="3880080"/>
              <a:ext cx="113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sonal 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56920" y="3530880"/>
              <a:ext cx="17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15600" y="3573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716120" y="2587680"/>
            <a:ext cx="371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31200" y="2470320"/>
            <a:ext cx="1544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lik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L and Cable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905120" y="2616120"/>
            <a:ext cx="7128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2441520" y="1523880"/>
            <a:ext cx="1910880" cy="1185480"/>
            <a:chOff x="2441520" y="1523880"/>
            <a:chExt cx="1910880" cy="1185480"/>
          </a:xfrm>
        </p:grpSpPr>
        <p:sp>
          <p:nvSpPr>
            <p:cNvPr id="1003" name=""/>
            <p:cNvSpPr/>
            <p:nvPr/>
          </p:nvSpPr>
          <p:spPr>
            <a:xfrm>
              <a:off x="4347360" y="1523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336200" y="15238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325040" y="15238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313520" y="15238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302360" y="15238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91200" y="15238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81120" y="1523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69960" y="1523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58440" y="1523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47280" y="1523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36120" y="1523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24600" y="15256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213080" y="15256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201920" y="1525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190760" y="1525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79240" y="1528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168080" y="1528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156920" y="1528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145400" y="15285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34240" y="1530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22720" y="1530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111560" y="1533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100040" y="1533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88880" y="1533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77720" y="1535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66200" y="15354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5040" y="1538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43520" y="1538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32360" y="1540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21200" y="1540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09680" y="1543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998520" y="1543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987000" y="15454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975840" y="15483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964320" y="1548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953160" y="1550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942000" y="1550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930480" y="1553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919320" y="1555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07800" y="15580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896640" y="15580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885120" y="1560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873960" y="1563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862800" y="1563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851280" y="1565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40120" y="1568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28600" y="15699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19600" y="1572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08440" y="1575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796920" y="1577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785760" y="1580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774600" y="1582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763080" y="1584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51920" y="1587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740400" y="1589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729240" y="1592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717720" y="15948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706560" y="1597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695400" y="15998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85680" y="16027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674160" y="16045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662640" y="16077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651480" y="16128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640320" y="16146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628800" y="1617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617640" y="1619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606480" y="1622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94960" y="16275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585960" y="1629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74440" y="1632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63280" y="1637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52120" y="1639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40600" y="1642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29440" y="1647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519360" y="16491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08200" y="16542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97040" y="1657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485520" y="1662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474360" y="1663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465360" y="1668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453840" y="1671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42680" y="1676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431160" y="16786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20000" y="1683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10280" y="1688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98760" y="16934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7600" y="1696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76440" y="17017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7440" y="17067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55920" y="1708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44400" y="1713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34680" y="1718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23520" y="1723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12360" y="1728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00840" y="1733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291840" y="1738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280680" y="1743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269160" y="1748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59440" y="1752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248280" y="17578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38920" y="1762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227760" y="1767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216600" y="1772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206520" y="17776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195360" y="1782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183840" y="1790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174840" y="1795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163680" y="1800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153960" y="18054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42440" y="1812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33440" y="1817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1920" y="18219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112200" y="1830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101040" y="1834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092040" y="1842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080880" y="1846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070800" y="1851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059640" y="18597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050640" y="1866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040560" y="18716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029400" y="1879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020400" y="1886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008880" y="1891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999160" y="1899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990160" y="1906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979000" y="19108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968920" y="19191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959920" y="1926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950200" y="1933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939040" y="1940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930040" y="1948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919960" y="1955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910960" y="1963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901240" y="19702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889720" y="1978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880720" y="1985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71000" y="1992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62000" y="20001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52280" y="20098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43280" y="20178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833560" y="20246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824200" y="2034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14480" y="2042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805480" y="2049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795760" y="2059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86760" y="20671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779200" y="2077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769480" y="2086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760120" y="2093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750400" y="21038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42840" y="21135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33840" y="2121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724120" y="2131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716560" y="2141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707560" y="2151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97840" y="2161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90280" y="2171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82720" y="2180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73720" y="2190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66160" y="2200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56080" y="22107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648520" y="22204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40960" y="2232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633400" y="2242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624400" y="2252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616840" y="2261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609280" y="2274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603520" y="2286720"/>
              <a:ext cx="5760" cy="4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5"/>
                  </a:moveTo>
                  <a:lnTo>
                    <a:pt x="5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595600" y="2296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588400" y="2309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580840" y="231948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73280" y="2331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567880" y="2343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560320" y="2354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552760" y="2365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547000" y="2378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539440" y="2390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534040" y="2403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527920" y="2415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522880" y="2428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516400" y="24400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511360" y="2454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505240" y="2467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499840" y="2479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494080" y="2492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488680" y="2507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485080" y="2518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481120" y="2533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475360" y="2546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471400" y="2561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467800" y="2573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463840" y="2588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460240" y="2603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456280" y="2615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52680" y="2630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451240" y="2645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47280" y="2660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45120" y="2675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443680" y="2689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41520" y="2701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2435400" y="2716200"/>
            <a:ext cx="1750320" cy="1403280"/>
            <a:chOff x="2435400" y="2716200"/>
            <a:chExt cx="1750320" cy="1403280"/>
          </a:xfrm>
        </p:grpSpPr>
        <p:sp>
          <p:nvSpPr>
            <p:cNvPr id="1204" name=""/>
            <p:cNvSpPr/>
            <p:nvPr/>
          </p:nvSpPr>
          <p:spPr>
            <a:xfrm>
              <a:off x="2441520" y="2716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439000" y="27309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437560" y="2745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437560" y="2760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435400" y="27752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435400" y="27903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35400" y="28051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435400" y="28198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435400" y="28346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5400" y="28497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35400" y="28645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437560" y="2879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437560" y="2894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439000" y="29088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441520" y="2923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442960" y="2938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445120" y="2953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446560" y="2968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450520" y="2982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452680" y="2995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456280" y="3010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458080" y="30254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461680" y="3040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465640" y="3052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469240" y="3066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472840" y="30816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478960" y="3094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482560" y="3109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486520" y="3121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491920" y="31359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497680" y="3148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501640" y="3160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506680" y="31737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513160" y="3188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518200" y="32004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524320" y="3213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529720" y="32248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536920" y="32378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543040" y="3249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548440" y="3262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556000" y="3274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561760" y="3287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569320" y="3299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576880" y="3309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82280" y="3321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589840" y="33336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597400" y="33436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604960" y="3356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612520" y="3366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20080" y="3378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627640" y="3388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635200" y="3398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644920" y="3410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52120" y="3420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660040" y="34308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667600" y="344052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676600" y="3450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684160" y="3460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693880" y="3472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701440" y="3481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710440" y="3492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718000" y="3499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727720" y="3509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736720" y="35193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744280" y="3529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754000" y="3536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63360" y="3546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770560" y="3556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80640" y="3564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789640" y="3574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799360" y="3580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808360" y="35906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818080" y="3598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827080" y="3608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837160" y="3615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846160" y="3623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855880" y="36334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64880" y="36399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74600" y="3648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883600" y="3655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893680" y="3663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902680" y="3669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912400" y="3677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923560" y="3684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932920" y="3692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942640" y="3699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951640" y="3707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962800" y="3714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972880" y="3722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981520" y="37288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991600" y="37371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002760" y="37422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011760" y="3748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021480" y="3756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033000" y="3761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042000" y="3768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053160" y="3776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063240" y="3781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072240" y="3788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083400" y="3793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093120" y="3801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104640" y="3806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113640" y="3813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124800" y="38181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134880" y="3822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146040" y="3830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55040" y="38358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166560" y="38408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177720" y="38458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187440" y="38523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198600" y="3857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07600" y="3862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219120" y="3867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230640" y="3872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240360" y="3877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51520" y="3882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60520" y="3887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71680" y="3895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83200" y="3899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92920" y="3902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304440" y="3907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315600" y="3911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326760" y="3916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336120" y="3921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347280" y="3926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358440" y="39315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368520" y="3934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379680" y="39398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390840" y="394452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402360" y="39495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411360" y="39513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422520" y="39564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434040" y="3961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445200" y="3964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454920" y="3969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466440" y="3971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77600" y="3976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488760" y="3979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500280" y="39841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509280" y="39859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520440" y="39909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531960" y="39938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543120" y="3998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554640" y="4001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565800" y="4003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575520" y="4008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586680" y="4010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598200" y="4015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09720" y="4018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620880" y="4020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632040" y="4023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643560" y="4025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654720" y="4030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663720" y="4033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674880" y="40352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686400" y="4038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697920" y="4040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9080" y="40435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20240" y="4045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31760" y="404856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42920" y="40503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54080" y="40532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765600" y="40550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775320" y="4060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786480" y="4060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798000" y="4063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09160" y="4065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20320" y="4068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831840" y="4070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843360" y="4073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854520" y="4075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865680" y="4078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877200" y="4078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88360" y="4079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899520" y="4082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911040" y="4084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922200" y="4084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933720" y="4087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944880" y="4089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956040" y="4089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967560" y="4092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979080" y="4094640"/>
              <a:ext cx="3600" cy="75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990240" y="4094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999240" y="4097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010400" y="4097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021920" y="4099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33080" y="4099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44240" y="4102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055760" y="41025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66920" y="4104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78440" y="4104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89600" y="4107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101120" y="4107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112280" y="4107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123440" y="4109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134960" y="41094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46120" y="4112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57640" y="4112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168800" y="4112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79960" y="4112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4191120" y="3132000"/>
            <a:ext cx="2020320" cy="992160"/>
            <a:chOff x="4191120" y="3132000"/>
            <a:chExt cx="2020320" cy="992160"/>
          </a:xfrm>
        </p:grpSpPr>
        <p:sp>
          <p:nvSpPr>
            <p:cNvPr id="1405" name=""/>
            <p:cNvSpPr/>
            <p:nvPr/>
          </p:nvSpPr>
          <p:spPr>
            <a:xfrm>
              <a:off x="419112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20228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213440" y="4114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224960" y="4114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23612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24764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25880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26996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28148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29264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0416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31532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2684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33800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34916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6068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37184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8336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9452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40604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41720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42836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43988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45104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256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7372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8488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9640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50756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519080" y="4112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530240" y="4112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541760" y="4112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552920" y="4109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564080" y="4109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575600" y="4109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586760" y="4107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597920" y="41072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609440" y="41072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620960" y="4104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32120" y="4104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43280" y="4102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54800" y="4102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665960" y="4099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677120" y="40993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688640" y="4097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700160" y="4097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711320" y="40946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722480" y="4092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734000" y="4092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745160" y="40896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756320" y="40878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767840" y="40878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779000" y="4084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790520" y="4082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01680" y="4082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813200" y="40798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824360" y="4077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834080" y="4074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845600" y="4074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856760" y="4072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867920" y="4069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879440" y="4068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890600" y="4065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902120" y="4062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913280" y="4060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924800" y="4057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935960" y="40550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947120" y="4053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958640" y="40500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969800" y="40482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978800" y="40449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990320" y="40431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001480" y="4040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013000" y="4038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024160" y="4035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035680" y="4033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046840" y="4028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058000" y="40255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069520" y="40233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079240" y="4020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090400" y="4018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101920" y="4013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113080" y="4010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124600" y="4005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135760" y="4003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147280" y="40006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156280" y="3996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167440" y="39938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178960" y="3990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190120" y="3985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201280" y="3984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211000" y="3979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222520" y="3974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234040" y="3971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245200" y="3966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256360" y="3964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265360" y="3959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76880" y="39560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288040" y="39513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299200" y="39463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309280" y="3941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320440" y="39394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331960" y="3934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3120" y="3929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352120" y="3924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363640" y="3919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374800" y="39168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384520" y="3911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396040" y="3907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407200" y="3902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418720" y="3897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27720" y="3892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438880" y="3887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448600" y="3882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460120" y="3877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471280" y="3872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480280" y="3867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491800" y="3862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502960" y="3855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512680" y="3850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524200" y="38458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533200" y="384084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544720" y="38329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554440" y="38278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565600" y="3822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574600" y="3816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586120" y="3810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595840" y="3803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607000" y="3798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616000" y="3791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627520" y="3786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637240" y="3778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648400" y="3773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657760" y="3766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667480" y="3762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78640" y="37537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687640" y="374724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697720" y="37422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708880" y="3733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717880" y="3727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727600" y="3719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739120" y="3712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748120" y="3704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757840" y="3697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766840" y="3692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778360" y="3682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788080" y="3674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797080" y="3668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806800" y="3660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815800" y="3653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825520" y="36453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834880" y="363852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844600" y="3628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53600" y="36205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863320" y="3613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872680" y="3605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882400" y="3596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891400" y="35888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901120" y="35791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910120" y="35712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920200" y="3561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928840" y="3554640"/>
              <a:ext cx="3600" cy="68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936760" y="3544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946480" y="35348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955480" y="3524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63040" y="3516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972760" y="3507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81760" y="3497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989320" y="34873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999400" y="3477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006960" y="3467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015960" y="3457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023520" y="34477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030720" y="3438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40800" y="3427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048000" y="3416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55560" y="3406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063120" y="3396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072120" y="3386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079680" y="33739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087600" y="3363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093360" y="3351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100920" y="3342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108480" y="3329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116040" y="3317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123600" y="3307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129000" y="3294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136560" y="32828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143760" y="32702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150240" y="3258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155280" y="32454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162840" y="323352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168960" y="3220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174360" y="3208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180120" y="3196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185520" y="3184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191640" y="3171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196680" y="3156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202800" y="3144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206400" y="31320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4670280" y="1541520"/>
            <a:ext cx="1595160" cy="1582200"/>
            <a:chOff x="4670280" y="1541520"/>
            <a:chExt cx="1595160" cy="1582200"/>
          </a:xfrm>
        </p:grpSpPr>
        <p:sp>
          <p:nvSpPr>
            <p:cNvPr id="1606" name=""/>
            <p:cNvSpPr/>
            <p:nvPr/>
          </p:nvSpPr>
          <p:spPr>
            <a:xfrm>
              <a:off x="6209280" y="31158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214680" y="3104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218280" y="3089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224400" y="3076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228360" y="3061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231960" y="3047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233400" y="30351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237000" y="30200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240960" y="3005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243120" y="2990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247080" y="2975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248520" y="2963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250680" y="2948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252480" y="2933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254640" y="29185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56080" y="2903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258240" y="2889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258240" y="2874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259680" y="2859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9680" y="2844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259680" y="28296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259680" y="28148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259680" y="2800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259680" y="2785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259680" y="2770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258240" y="2755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258240" y="2741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256080" y="27259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254640" y="27111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252480" y="2696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250680" y="2681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47080" y="2669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244920" y="2655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243120" y="2640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39520" y="26254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235920" y="2610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231960" y="2597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228360" y="2583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224400" y="2568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220440" y="2556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216840" y="2541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212880" y="25286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207120" y="25138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203160" y="2502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198120" y="2487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192000" y="2474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186600" y="2462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80840" y="2449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75440" y="2435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69320" y="242316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64280" y="2410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158160" y="2398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150600" y="23853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145200" y="23734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137640" y="2360880"/>
              <a:ext cx="7200" cy="75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5"/>
                  </a:moveTo>
                  <a:lnTo>
                    <a:pt x="5" y="8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31520" y="2350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124320" y="2338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118920" y="23259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111360" y="23144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103800" y="2304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096240" y="2291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088680" y="22816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081120" y="2269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073920" y="2260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066000" y="2247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058440" y="2237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050880" y="22273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041160" y="22176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33960" y="2205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026400" y="2195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017400" y="2185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09840" y="2176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999760" y="21661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992200" y="2156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984640" y="2146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75640" y="2136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965920" y="2128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958360" y="21186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949360" y="21088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939640" y="2099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930640" y="2091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923080" y="2082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913360" y="20743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904000" y="2064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894280" y="2057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885280" y="2047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875560" y="2040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866560" y="2030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856840" y="2023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47840" y="2014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837760" y="20052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828760" y="1998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19040" y="1990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810040" y="1983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800320" y="1975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791320" y="1968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781600" y="1960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770080" y="19540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761080" y="1946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751360" y="1939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742000" y="1931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730840" y="1924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721120" y="1916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712120" y="19098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702400" y="19015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690880" y="18964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681880" y="1889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670720" y="1881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661000" y="1877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651640" y="1869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640480" y="1862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630760" y="1857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619240" y="1850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610600" y="1845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599080" y="1837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589360" y="1832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577840" y="1827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68840" y="1820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557680" y="18158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547960" y="18108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536440" y="18028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527440" y="17978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516280" y="1793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506560" y="1788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495040" y="1781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483880" y="1776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474880" y="1771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463360" y="1766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453640" y="17614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442480" y="17564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430960" y="1751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421960" y="1746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410800" y="1741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399280" y="1736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389560" y="1731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378400" y="1726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366880" y="1721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357880" y="1717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346720" y="17121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335200" y="1708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324040" y="1704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314320" y="16992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302800" y="16970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291640" y="16923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280480" y="168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271480" y="1682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259960" y="1679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248800" y="1674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237640" y="1672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26120" y="1667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216400" y="16646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204880" y="16596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193720" y="1654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182560" y="1652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171040" y="1648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162040" y="1644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150880" y="1643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139360" y="1638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128200" y="1635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117040" y="1632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105520" y="1628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095800" y="1625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084640" y="1623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73120" y="16200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061960" y="16153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050440" y="16135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039280" y="1610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028120" y="16084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016600" y="1605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005440" y="16005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996440" y="1598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984920" y="15955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973760" y="1593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962240" y="1590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951080" y="1588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939920" y="1585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928760" y="1583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917240" y="1580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905720" y="1578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894560" y="1575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883400" y="1573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871880" y="1573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862160" y="1571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851000" y="1568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839480" y="15660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828320" y="15638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817160" y="1560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805640" y="1560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794480" y="1559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783320" y="1556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771800" y="1556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760640" y="15541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749120" y="15512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737960" y="1549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726800" y="1549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715280" y="1546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704120" y="1546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692960" y="1544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681440" y="1544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670280" y="15415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6" name=""/>
          <p:cNvSpPr/>
          <p:nvPr/>
        </p:nvSpPr>
        <p:spPr>
          <a:xfrm>
            <a:off x="4659480" y="1538280"/>
            <a:ext cx="46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4646520" y="1538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635360" y="1536840"/>
            <a:ext cx="64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624560" y="1536840"/>
            <a:ext cx="612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613400" y="1536840"/>
            <a:ext cx="612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602240" y="153360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591080" y="1533600"/>
            <a:ext cx="46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579920" y="1531800"/>
            <a:ext cx="46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568760" y="1531800"/>
            <a:ext cx="46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556160" y="1531800"/>
            <a:ext cx="64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545000" y="152892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533840" y="152892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522680" y="152892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511520" y="152892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00720" y="1527120"/>
            <a:ext cx="46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489560" y="1527120"/>
            <a:ext cx="46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478400" y="1527120"/>
            <a:ext cx="46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4465800" y="1527120"/>
            <a:ext cx="612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454640" y="152388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443480" y="152388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432320" y="15238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21160" y="15238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0000" y="1523880"/>
            <a:ext cx="46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398840" y="1523880"/>
            <a:ext cx="504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387680" y="1523880"/>
            <a:ext cx="504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375080" y="15238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363920" y="15238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352760" y="15238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734000" y="1643040"/>
            <a:ext cx="1227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554880" y="2622600"/>
            <a:ext cx="1733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of wired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913360" y="2754360"/>
            <a:ext cx="6336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970360" y="2709720"/>
            <a:ext cx="2622240" cy="117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332160" y="2373480"/>
            <a:ext cx="2079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Qos within 802.11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ass the requirements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47EDB-CB7E-4637-B3F4-05D9A0F564D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utline of presentation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6160" y="1295280"/>
            <a:ext cx="7265880" cy="40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54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4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t can be achie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4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Scenario-1 (RSV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 and thei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 as i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negoti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4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Scenario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B72C2-6559-43BE-9180-AF118447BEF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390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preserve QoS semantics explicitly as carried by a stream from/to the outside connection to/from any device in the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is i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guarantee the QoS needs of a stream without having to guess at what those need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be able to analyze/pass the QoS request from wired connections between 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8F3EA-67E8-4830-96C5-28ABF89BA4F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How it can be achieved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6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analyzes and converts the semantics of an outside QoS connection into similar semantics on the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negotiates the QoS over 802.11-WLAN based on requests from an outside connection using the already discussed mechanism within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reject the outside connection (or renegotiates the Qos) if the requested QoS cannot be achieved on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passes on the QoS requests from an outside connection through the 802.11-WLAN to the rx device for furth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EA5CA-698E-4E48-AD39-50BFC260DC7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xample Scenario-1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556080" y="3533760"/>
            <a:ext cx="598680" cy="596520"/>
            <a:chOff x="3556080" y="3533760"/>
            <a:chExt cx="598680" cy="596520"/>
          </a:xfrm>
        </p:grpSpPr>
        <p:sp>
          <p:nvSpPr>
            <p:cNvPr id="54" name=""/>
            <p:cNvSpPr/>
            <p:nvPr/>
          </p:nvSpPr>
          <p:spPr>
            <a:xfrm>
              <a:off x="3613680" y="3533760"/>
              <a:ext cx="289080" cy="29736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56080" y="3894840"/>
              <a:ext cx="5158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4400" y="3938040"/>
              <a:ext cx="54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t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60480" y="3592440"/>
              <a:ext cx="188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17720" y="363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802480" y="2827440"/>
            <a:ext cx="288720" cy="2966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43440" y="3187800"/>
            <a:ext cx="156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971800"/>
            <a:ext cx="128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323 Video Conferencing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50000" y="2886120"/>
            <a:ext cx="181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09760" y="29289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80320" y="3763800"/>
            <a:ext cx="28872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21640" y="4125960"/>
            <a:ext cx="14079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80320" y="4130640"/>
            <a:ext cx="104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EB browser pa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27840" y="3822840"/>
            <a:ext cx="185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84720" y="3865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135400" y="4532400"/>
            <a:ext cx="1198080" cy="600120"/>
            <a:chOff x="5135400" y="4532400"/>
            <a:chExt cx="1198080" cy="600120"/>
          </a:xfrm>
        </p:grpSpPr>
        <p:sp>
          <p:nvSpPr>
            <p:cNvPr id="70" name=""/>
            <p:cNvSpPr/>
            <p:nvPr/>
          </p:nvSpPr>
          <p:spPr>
            <a:xfrm>
              <a:off x="5193000" y="4532400"/>
              <a:ext cx="291240" cy="29808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35400" y="4894560"/>
              <a:ext cx="8064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95880" y="4940640"/>
              <a:ext cx="113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sonal 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41240" y="4591080"/>
              <a:ext cx="1828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99920" y="4635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44920" y="3651120"/>
            <a:ext cx="3952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50200" y="3511440"/>
            <a:ext cx="1544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lik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L and Cable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95680" y="3657600"/>
            <a:ext cx="9144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408480" y="2590920"/>
            <a:ext cx="4075920" cy="2590560"/>
            <a:chOff x="3408480" y="2590920"/>
            <a:chExt cx="4075920" cy="2590560"/>
          </a:xfrm>
        </p:grpSpPr>
        <p:grpSp>
          <p:nvGrpSpPr>
            <p:cNvPr id="79" name=""/>
            <p:cNvGrpSpPr/>
            <p:nvPr/>
          </p:nvGrpSpPr>
          <p:grpSpPr>
            <a:xfrm>
              <a:off x="3416400" y="2590920"/>
              <a:ext cx="2032560" cy="1180440"/>
              <a:chOff x="3416400" y="2590920"/>
              <a:chExt cx="2032560" cy="1180440"/>
            </a:xfrm>
          </p:grpSpPr>
          <p:sp>
            <p:nvSpPr>
              <p:cNvPr id="80" name=""/>
              <p:cNvSpPr/>
              <p:nvPr/>
            </p:nvSpPr>
            <p:spPr>
              <a:xfrm>
                <a:off x="5443560" y="2590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431680" y="25909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419800" y="25909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07560" y="25909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95680" y="25909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83800" y="25909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73000" y="2590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361120" y="2590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349240" y="2590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37000" y="2590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325120" y="2590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312880" y="2592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301000" y="2592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88760" y="2592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76880" y="2592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65000" y="2595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52760" y="2595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240880" y="2595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228640" y="2595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16760" y="2597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204520" y="2597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92640" y="2600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80760" y="2600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68520" y="2600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56640" y="2602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44400" y="26024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32520" y="26053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120640" y="2605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108400" y="2607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96520" y="2607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084280" y="2610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72400" y="2610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60160" y="2612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48280" y="2615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36400" y="26154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24160" y="2617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12280" y="2617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000400" y="2620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988160" y="2622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75920" y="26251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64040" y="26251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52160" y="2627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39920" y="2630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28040" y="2630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16160" y="2631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3920" y="2634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91680" y="2637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82320" y="2639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70080" y="2641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58200" y="2644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46320" y="2646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834080" y="2649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822200" y="2651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10320" y="2654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98080" y="2656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85840" y="2659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73960" y="26614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62080" y="2664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49840" y="2666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39760" y="26694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27520" y="2671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715280" y="2674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703400" y="26794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91520" y="26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79280" y="2684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67400" y="2685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55520" y="2689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43280" y="26942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33560" y="2696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621680" y="2698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09440" y="2703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97560" y="2705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85680" y="2708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3440" y="2713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63000" y="2715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51120" y="2720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38880" y="27234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27000" y="2728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15120" y="2730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05400" y="2735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93160" y="2738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81280" y="2743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69040" y="2745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7160" y="2750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46720" y="2755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34840" y="27597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22600" y="2763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10720" y="2768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01000" y="27727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8760" y="2774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76880" y="27795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66440" y="27846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54560" y="2789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42680" y="2794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330440" y="2799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321080" y="2804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308840" y="2809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96600" y="2814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86520" y="2819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274280" y="2823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64560" y="2828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52680" y="2833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40800" y="2838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30000" y="28436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218120" y="28486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206240" y="2856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96520" y="2861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84640" y="2866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74200" y="28713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61960" y="28778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52600" y="28828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40360" y="28879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129920" y="2895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118040" y="2900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08320" y="2907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96440" y="2912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86000" y="2917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73760" y="29253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064400" y="2932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053600" y="2937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041720" y="2944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032000" y="2952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020120" y="2956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009680" y="2964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99960" y="29714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988080" y="29764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77640" y="2984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67920" y="2991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57480" y="2999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45600" y="3006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35880" y="3013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25440" y="3020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15720" y="3028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05280" y="3035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93400" y="30434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83680" y="3050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73240" y="3058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63520" y="3065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53440" y="30747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43720" y="30830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33280" y="30895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23560" y="3099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13120" y="31075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03400" y="3114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92960" y="3124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83600" y="3132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75320" y="3141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65240" y="3151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55520" y="3158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44720" y="3168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36800" y="3178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727080" y="3186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717000" y="3196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08720" y="3205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99360" y="3215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88920" y="3225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681000" y="3235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72720" y="3245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663360" y="3255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655080" y="3264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4464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636720" y="3284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28800" y="3296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620520" y="3306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11160" y="3315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02880" y="3326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94960" y="3338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588480" y="33505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80560" y="3360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572280" y="3373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64360" y="3382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56440" y="3394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550680" y="3407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542760" y="3417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34840" y="3429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528360" y="3441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520440" y="3453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514680" y="3466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508560" y="3478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02800" y="3491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96320" y="3503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90920" y="3517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84080" y="35305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478680" y="3542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72200" y="3555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66440" y="3569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462480" y="35816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58520" y="35964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52400" y="3609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448080" y="3624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44120" y="3636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440160" y="3650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36200" y="3665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32240" y="3678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28280" y="3693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26480" y="3708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22520" y="3722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420360" y="3737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418560" y="3751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16400" y="3763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408480" y="3778560"/>
              <a:ext cx="1862640" cy="1397520"/>
              <a:chOff x="3408480" y="3778560"/>
              <a:chExt cx="1862640" cy="1397520"/>
            </a:xfrm>
          </p:grpSpPr>
          <p:sp>
            <p:nvSpPr>
              <p:cNvPr id="281" name=""/>
              <p:cNvSpPr/>
              <p:nvPr/>
            </p:nvSpPr>
            <p:spPr>
              <a:xfrm>
                <a:off x="3414960" y="37785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12440" y="379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11000" y="3808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11000" y="3822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08480" y="3837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08480" y="38523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08480" y="3867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08480" y="3881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08480" y="3896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08480" y="39114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08480" y="3926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1000" y="3940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11000" y="3955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12440" y="39704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14960" y="3985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6400" y="3999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18920" y="4014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20360" y="4029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24320" y="4044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26840" y="4056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30800" y="4071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32600" y="40867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36560" y="4101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40520" y="4113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44480" y="4127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48440" y="4142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54920" y="4155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58880" y="4170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62840" y="4181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68600" y="41965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74720" y="4209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9040" y="4221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484440" y="42343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90920" y="4248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496680" y="4260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03160" y="4273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508560" y="4285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16840" y="4298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22960" y="4309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28720" y="4322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536640" y="4334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43120" y="4347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51040" y="4359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58960" y="4368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64720" y="4381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72640" y="439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80560" y="4403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88840" y="4416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96760" y="4426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05040" y="4438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12960" y="4447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20880" y="4457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631320" y="4470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39240" y="4480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647520" y="44902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55440" y="45000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65160" y="4509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73080" y="4519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683520" y="4531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91440" y="4541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01160" y="4551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09080" y="4559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19520" y="4568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29240" y="45784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37160" y="4588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47600" y="45954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57320" y="4605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65240" y="4615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775680" y="4623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785400" y="4632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95840" y="4639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805200" y="4649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16000" y="4657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825360" y="46670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35800" y="4674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45520" y="4681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55960" y="4691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65680" y="4698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75760" y="4706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85480" y="4713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96280" y="4721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905640" y="4728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916080" y="4736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27960" y="4743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937680" y="4750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48120" y="4757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957840" y="4765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969720" y="4772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980160" y="4780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989880" y="478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00320" y="47952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012200" y="48002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021920" y="4806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032360" y="4815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044240" y="4819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53960" y="48268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65840" y="48344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076640" y="4839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86000" y="4846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98240" y="4851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08680" y="4858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0560" y="4863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130280" y="4870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42160" y="4875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152600" y="4880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64840" y="4888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74200" y="4893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186440" y="4898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198320" y="4903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208760" y="4910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220640" y="4915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230360" y="4920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2600" y="4925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254480" y="4930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64920" y="4934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76800" y="4939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86520" y="4944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298760" y="4952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10640" y="4957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21080" y="4959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33320" y="4964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45200" y="4969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57080" y="4974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66800" y="4979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78680" y="4984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90920" y="498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01360" y="4991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413240" y="49971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25480" y="50018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37360" y="5006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47080" y="5008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58960" y="5013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471200" y="5018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483080" y="5021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493520" y="5026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05760" y="5028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17640" y="5033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529520" y="5036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41760" y="5041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51120" y="5043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563360" y="5048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575600" y="5051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87480" y="5055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99360" y="5058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611600" y="5060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621680" y="5065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633920" y="5067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646160" y="5072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658040" y="5075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669920" y="5077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682160" y="5080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694040" y="5082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05920" y="5087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15640" y="5090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27520" y="509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39760" y="5095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2000" y="5097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63880" y="51004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75760" y="5102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88000" y="5105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99880" y="5106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811760" y="5110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824000" y="51120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34440" y="5117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846320" y="5117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58560" y="5119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70440" y="5122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82320" y="5124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94560" y="5126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06800" y="5130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18680" y="51318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30560" y="5134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942800" y="5134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54680" y="5136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66560" y="5139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78800" y="5141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90680" y="5141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02920" y="5144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014800" y="5146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026680" y="5146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38920" y="5149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51160" y="515160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63040" y="5151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72760" y="5154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84640" y="5154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96520" y="5156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08760" y="5156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20640" y="5159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32880" y="51591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44760" y="51613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57000" y="5161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68880" y="5164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80760" y="5164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93000" y="5164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04880" y="5166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6760" y="51663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9000" y="51692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1240" y="5169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120" y="5169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5000" y="5169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5277240" y="4192200"/>
              <a:ext cx="2148840" cy="989280"/>
              <a:chOff x="5277240" y="4192200"/>
              <a:chExt cx="2148840" cy="989280"/>
            </a:xfrm>
          </p:grpSpPr>
          <p:sp>
            <p:nvSpPr>
              <p:cNvPr id="482" name=""/>
              <p:cNvSpPr/>
              <p:nvPr/>
            </p:nvSpPr>
            <p:spPr>
              <a:xfrm>
                <a:off x="527724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28912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01000" y="5171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13240" y="5171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2512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3736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4924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6112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37336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8524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39748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0936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2160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3348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4536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45760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46948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48172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360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0584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1772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2960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4184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5372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6596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7784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58972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0196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1384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625720" y="5169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37960" y="5169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650200" y="5169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662080" y="5166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673960" y="5166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686200" y="5166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698080" y="51645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09960" y="5164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22200" y="5164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734440" y="5161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46320" y="5161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758200" y="5159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770440" y="5159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782320" y="5157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94200" y="5157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06440" y="5154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18320" y="5154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30560" y="5151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42440" y="5149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54680" y="5149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866560" y="5146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78440" y="51451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90680" y="51451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902560" y="5142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14800" y="5140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926680" y="5140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938560" y="5137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950800" y="5135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961240" y="5132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973120" y="5132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985360" y="5130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997240" y="5127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09120" y="5125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21360" y="5122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33240" y="5120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45480" y="5117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57360" y="5115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069600" y="51123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81480" y="5110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93360" y="51076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05600" y="5105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14960" y="51026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127200" y="510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139440" y="50976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151320" y="5095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163200" y="50929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175440" y="5090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87320" y="5085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199200" y="5082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11440" y="50810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21880" y="5078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33760" y="5076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246000" y="5071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57880" y="5068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69760" y="5063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282000" y="5061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294240" y="5058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03600" y="5053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315840" y="5051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27720" y="5048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39600" y="5043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51840" y="5041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362280" y="5036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74160" y="5031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386400" y="5028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398280" y="5024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410160" y="5022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419880" y="5016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32120" y="5014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444000" y="50090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455880" y="5004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66680" y="4999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78560" y="49975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90440" y="4992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502680" y="4987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12040" y="49824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524280" y="4977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36160" y="4974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46600" y="49698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58840" y="4964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570720" y="4960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582600" y="4955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592320" y="4950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604200" y="4945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614640" y="4940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6880" y="4935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638760" y="4930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648480" y="4925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660720" y="4920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672600" y="4913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683040" y="4908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694920" y="49039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704640" y="489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716880" y="4890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726960" y="48859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739200" y="4881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48920" y="48744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760800" y="4869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771240" y="4861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783480" y="4856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792840" y="4849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805080" y="4844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15520" y="4836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27400" y="4831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37120" y="4825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47200" y="4820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859440" y="48121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869160" y="480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879600" y="48006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91480" y="47926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901200" y="4785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911640" y="4777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923520" y="4770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33240" y="4763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943680" y="4756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53040" y="47512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965280" y="47415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975720" y="4733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85440" y="4726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995880" y="4718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05240" y="4712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15680" y="4703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25400" y="4697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35840" y="4687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45560" y="4679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056000" y="4672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065720" y="4664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075800" y="46548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085520" y="4647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95960" y="4638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05680" y="46303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16120" y="4620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25480" y="4613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33760" y="4603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44200" y="45939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53920" y="4583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61840" y="4575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172280" y="4566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81640" y="4556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89920" y="45464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00360" y="4536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208280" y="4527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218000" y="4516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225920" y="45068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233840" y="4497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244280" y="44874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52560" y="4475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260480" y="4465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268400" y="4455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278120" y="4446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286040" y="44334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294320" y="4423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300440" y="4411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308720" y="4401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316640" y="4388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324560" y="4377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332480" y="4367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338240" y="4354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346160" y="4342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354080" y="43300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360920" y="4318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66320" y="4305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74240" y="4293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380720" y="4280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86480" y="4268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392960" y="4255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398360" y="42444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04840" y="4231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410600" y="4216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416720" y="4204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420680" y="4192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786280" y="2607480"/>
              <a:ext cx="1698120" cy="1577880"/>
              <a:chOff x="5786280" y="2607480"/>
              <a:chExt cx="1698120" cy="1577880"/>
            </a:xfrm>
          </p:grpSpPr>
          <p:sp>
            <p:nvSpPr>
              <p:cNvPr id="683" name=""/>
              <p:cNvSpPr/>
              <p:nvPr/>
            </p:nvSpPr>
            <p:spPr>
              <a:xfrm>
                <a:off x="7424640" y="41774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30040" y="41655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434360" y="4150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440480" y="4137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44800" y="4123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448760" y="4108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450200" y="4096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54160" y="40816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58480" y="406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460640" y="4052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4600" y="4037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466400" y="4024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468920" y="4010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470360" y="3995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472880" y="3980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474320" y="3965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476840" y="3951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476840" y="3936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478280" y="3921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478280" y="3906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478280" y="38916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478280" y="38772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478280" y="3862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78280" y="3847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78280" y="3832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76840" y="3818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476840" y="3803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474320" y="3788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472880" y="3773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470360" y="3759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468920" y="3744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64600" y="3732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462440" y="3717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60640" y="3702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56680" y="36882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52720" y="3673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48760" y="3660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444800" y="3645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440480" y="3630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436520" y="3619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32560" y="3604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428600" y="35913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422120" y="3576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418160" y="3565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412400" y="3550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406280" y="3537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400520" y="3525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394040" y="3512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388640" y="3498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382160" y="3486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376400" y="34732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369920" y="34617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362000" y="3448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356240" y="3436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348320" y="34243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5"/>
                    </a:moveTo>
                    <a:lnTo>
                      <a:pt x="5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41840" y="3414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33920" y="3402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28520" y="3389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20240" y="33782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12320" y="3368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304400" y="3355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296480" y="3345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288200" y="3333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280280" y="3323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272000" y="3311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264080" y="3301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256160" y="32911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45720" y="3281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37800" y="3269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229880" y="3259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220160" y="3250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212240" y="3240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201440" y="32302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193520" y="3220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185600" y="3210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175880" y="3200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165440" y="3193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157520" y="3183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47800" y="3173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137720" y="3163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128000" y="3156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120080" y="3146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09280" y="3138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99920" y="3129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089480" y="3121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079760" y="3112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069320" y="3104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059600" y="3094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049520" y="3087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039800" y="30798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029000" y="306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019640" y="3062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09200" y="3054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999480" y="3048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89040" y="3040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979680" y="3033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969240" y="3025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57000" y="3018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947640" y="3011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936840" y="3003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927480" y="2996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915240" y="2989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904800" y="2981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895440" y="29746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885000" y="2966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872760" y="2961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863040" y="2954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851160" y="2946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840720" y="2941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831000" y="2935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819120" y="2927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08680" y="2922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796440" y="29152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787080" y="2910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774840" y="2902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64400" y="2897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752520" y="2892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42800" y="2885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730920" y="28810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720480" y="2876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708240" y="286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698880" y="28630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686640" y="2858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676200" y="2853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664320" y="2846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652440" y="2841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642720" y="2836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630840" y="2831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620040" y="2826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608160" y="2821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596280" y="2817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586560" y="2811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74680" y="2806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562440" y="2802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552000" y="2797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540120" y="27925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527880" y="27874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518160" y="2782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506280" y="27777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94400" y="2774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82160" y="27694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72080" y="2764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459840" y="2762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47600" y="2757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35720" y="2752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26000" y="2747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14120" y="2745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402240" y="2739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390000" y="2738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78120" y="2733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367680" y="2730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355440" y="2725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343560" y="2720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331680" y="2718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319440" y="2713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309720" y="27108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297840" y="2708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85600" y="2703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273720" y="2700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261840" y="2698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249600" y="2693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239160" y="2691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227280" y="2688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215040" y="268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203160" y="268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191280" y="26791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79040" y="2675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167160" y="26744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155280" y="26712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143040" y="2666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133320" y="2664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121440" y="26614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109200" y="2659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097320" y="2656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85440" y="2654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073200" y="2651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061320" y="2649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049440" y="2646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37200" y="2644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024960" y="2641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013080" y="2639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001200" y="2639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990760" y="2636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78520" y="2634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966640" y="26319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954400" y="26298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942520" y="2626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930640" y="2626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18400" y="2624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906520" y="2621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94640" y="2621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882400" y="26200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70160" y="26172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58280" y="2615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846400" y="2615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834160" y="2612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822280" y="2612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810400" y="2610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798160" y="26103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786280" y="26074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5774400" y="2605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62520" y="2605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50280" y="2602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38400" y="2602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26520" y="2602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714280" y="260064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02040" y="2600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90160" y="25977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78280" y="25977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666040" y="25977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54160" y="25956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641920" y="25956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630040" y="25956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17800" y="25956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605920" y="2592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594040" y="2592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581800" y="2592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569920" y="2592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557680" y="259092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545800" y="259092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53356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52168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50980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49756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48568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473440" y="259092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461560" y="259092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4968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854680" y="2708280"/>
            <a:ext cx="1306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377240" y="3063960"/>
            <a:ext cx="130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802.11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3933720" y="3063960"/>
            <a:ext cx="1828800" cy="59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350360" y="403848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V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95280" y="4038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12D3D-7532-4B1A-AED8-76CB1063BDE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533520" y="3809880"/>
            <a:ext cx="27432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3520" y="2895480"/>
            <a:ext cx="2743200" cy="838440"/>
          </a:xfrm>
          <a:custGeom>
            <a:avLst/>
            <a:gdLst>
              <a:gd name="textAreaLeft" fmla="*/ 0 w 2743200"/>
              <a:gd name="textAreaRight" fmla="*/ 2743560 w 27432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33520" y="1828800"/>
            <a:ext cx="274320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ayers and their functions (RSVP - send host)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838080" y="41148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oS aware 802.11 enhanced MAC with Admission control and 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38080" y="220968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yer-3, handling RSV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62120" y="3124080"/>
            <a:ext cx="225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QoS semantics conversion (Interface between Layer-3 and MA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352680" y="182880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52680" y="281952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352680" y="3809880"/>
            <a:ext cx="533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52680" y="4800600"/>
            <a:ext cx="533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29000" y="380988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quests from QoS semantics convers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429000" y="1936800"/>
            <a:ext cx="2666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SVP (rsv-req)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s the RSVP packe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the QoS Symantics conversion interface with the request for M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429000" y="2820960"/>
            <a:ext cx="2514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quests from Layer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s the request into MAC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the MAC with the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019920" y="441972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back to QoS semantics convers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190512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sponse from QoS semantics conversion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s out RSVP (rsv-ack or error)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s using the service for the stream, if admission is allo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19920" y="2928960"/>
            <a:ext cx="2666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sponse from 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s the response into semantics of Layer-3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Layer-3 interface with th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0" y="419112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s admission control/DBM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43600" y="1523880"/>
            <a:ext cx="0" cy="358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A4DD7-9E4D-435D-B988-874E89475E5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533520" y="3809880"/>
            <a:ext cx="27432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895480"/>
            <a:ext cx="2743200" cy="838440"/>
          </a:xfrm>
          <a:custGeom>
            <a:avLst/>
            <a:gdLst>
              <a:gd name="textAreaLeft" fmla="*/ 0 w 2743200"/>
              <a:gd name="textAreaRight" fmla="*/ 2743560 w 27432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33520" y="1828800"/>
            <a:ext cx="274320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ayers and their functions (RSVP - Recv host)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838080" y="41148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oS aware 802.11 enhanced MAC with Admission control and 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38080" y="220968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yer-3, handling RSV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62120" y="3124080"/>
            <a:ext cx="225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Semantics conversion (Interface between Layer-3 and MA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352680" y="182880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352680" y="281952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352680" y="3809880"/>
            <a:ext cx="533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352680" y="4800600"/>
            <a:ext cx="533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429000" y="380988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quests from QoS semantics convers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429000" y="1936800"/>
            <a:ext cx="2666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RSVP (rsv-req)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RSVP (rsv-req-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the QoS Semantics conversion interface with the request for M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29000" y="2820960"/>
            <a:ext cx="2514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quests from Layer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s the request into MAC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the MAC with the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019920" y="441972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back to Semantics convers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19920" y="1800360"/>
            <a:ext cx="28191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sponse from Semantics conversion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s out RSVP (rsv-error) packet if not admitted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s using the service for the stream, if ad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019920" y="2928960"/>
            <a:ext cx="2666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sponse from 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s the response into Layer-3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Layer-3 interface with th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0" y="419112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s admission control/DBM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943600" y="1523880"/>
            <a:ext cx="0" cy="358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38F82-2B41-4467-98DA-A2BA9C5947E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219320" y="3809880"/>
            <a:ext cx="27432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219320" y="2895480"/>
            <a:ext cx="2743200" cy="838440"/>
          </a:xfrm>
          <a:custGeom>
            <a:avLst/>
            <a:gdLst>
              <a:gd name="textAreaLeft" fmla="*/ 0 w 2743200"/>
              <a:gd name="textAreaRight" fmla="*/ 2743560 w 27432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219320" y="1828800"/>
            <a:ext cx="274320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ayering - As applicable to s/w stack in window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523880" y="41148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oS aware 802.11 enhanced MAC with Admission control and 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523880" y="2133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ocol drivers (including RSVP hand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47920" y="3124080"/>
            <a:ext cx="225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Semantics conversion (NDIS wrapp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358128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DIS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6320" y="3809880"/>
            <a:ext cx="2743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523880" y="5303880"/>
            <a:ext cx="205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Ideal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876920" y="3809880"/>
            <a:ext cx="27432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876920" y="2895480"/>
            <a:ext cx="2743200" cy="838440"/>
          </a:xfrm>
          <a:custGeom>
            <a:avLst/>
            <a:gdLst>
              <a:gd name="textAreaLeft" fmla="*/ 0 w 2743200"/>
              <a:gd name="textAreaRight" fmla="*/ 2743560 w 27432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876920" y="1828800"/>
            <a:ext cx="274320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181480" y="41148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oS aware 802.11 enhanced MAC with Admission control and 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105520" y="3124080"/>
            <a:ext cx="225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Semantics conversion (Interface between Layer-3 and MA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876920" y="2819520"/>
            <a:ext cx="27432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DIS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876920" y="3124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181480" y="53038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One currently possible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-152280" y="259092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DIS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tocol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2819520"/>
            <a:ext cx="2743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181480" y="2133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ocol drivers (including RSVP hand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BD72D-3F9A-438D-BEA6-9B6DBAD49F8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ummary of overall negotiation proces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33160" y="1355760"/>
            <a:ext cx="8458200" cy="46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 (Device A) receives an RSVP packet from an outside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yer-3 at device A requests layer-2 (802.11-MAC) for the stream specifying the required QoS using the interfaces described earlier (e.g. NDIS  interf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802.11-MAC at device A requests a tx-stream initiation using the admission control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of the BSS accepts or rejects the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-MAC at Device A (and C) conveys the received decision to the layer-3 using the interfaces described earlier (e.g. NDIS  interf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C starts using the stream service in the B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73E43-B990-4D7F-BC1C-CDA24B980F0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2T01:29:48Z</dcterms:created>
  <dc:creator>Dr. Rajugopal Gubbi, Network Architecture Manager</dc:creator>
  <dc:description/>
  <cp:keywords>wireless networks architecture whitecap home networks isochronous streams network services</cp:keywords>
  <dc:language>en-US</dc:language>
  <cp:lastModifiedBy>Bob Bennett</cp:lastModifiedBy>
  <cp:lastPrinted>2000-03-02T01:29:59Z</cp:lastPrinted>
  <dcterms:modified xsi:type="dcterms:W3CDTF">2000-03-09T06:34:52Z</dcterms:modified>
  <cp:revision>879</cp:revision>
  <dc:subject>End to end QoS</dc:subject>
  <dc:title>Achieving End-to-end QoS using MAC enhancements</dc:title>
</cp:coreProperties>
</file>