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2EA-F720-45BE-B999-1EAEB193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4C7-8AEC-4963-B3E5-A24EC14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B33-7B49-449D-BF94-FF594189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59E-60C3-4792-A049-18A47938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137-43F1-48DD-95F9-6B4DB12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8A1-F105-40BB-A278-737AACC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515-9253-47A7-B320-6CF7DD54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5B0-31C4-4AE0-B6F7-D0182F93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DD5-A98B-4A34-9A0F-45B03A34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F3A-F307-47AE-B38D-4CB4F3A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578-46DB-4582-A25E-F3AD299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111-FBF2-45FA-8921-65D918C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521A4F-8618-4346-9618-B3D623E6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56720" y="396000"/>
            <a:ext cx="23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quirements Consideration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ith Amann, SpectraLink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340-89B3-4B7F-BFF6-D504FEC714E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ariations in packet rates/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Bit Rate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stream content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A1D-1209-4F7A-9763-41B92B6F78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f Latency Limitations among different STAs, as well as different streams for a 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less stream data consumes valuabl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fulness of delayed stream data will vary from application to application and depend upon the size of the jitter buffer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different QoS requirements from the same STA on a per stream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323 session concurrently with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 Cl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05B-A2D0-49C0-87D9-9C17799C76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with Wireless Bridge/Repeate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can be communicating with other STAs as well as remot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introduce additional complexity into the latency and load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CFF-F493-4FFB-8F97-DBFDEF329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to minimize the “Hidden Nod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BSSes intersect in the problem space with the “Hidden Node” problem, but it is not the same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AF-E390-4B1B-8DE2-D5453B2C6D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issing rates from 16-32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aximum Delay requirements although admirable, seem un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articular technique more efficient than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 particular solution scale well?  As required bandwidth increases does it help or hi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17-13B4-498C-BB4B-8DB9182415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termined Us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lu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A11-8C00-46CC-A147-6ED4A6727D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5:54:37Z</dcterms:created>
  <dc:creator>SpectraLink Corporation</dc:creator>
  <dc:description/>
  <dc:language>en-US</dc:language>
  <cp:lastModifiedBy>Engineering</cp:lastModifiedBy>
  <cp:lastPrinted>2000-03-02T21:11:48Z</cp:lastPrinted>
  <dcterms:modified xsi:type="dcterms:W3CDTF">2000-03-08T21:32:28Z</dcterms:modified>
  <cp:revision>7</cp:revision>
  <dc:subject/>
  <dc:title>802.11 MAC Enhancements: Additional Requirements</dc:title>
</cp:coreProperties>
</file>