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FF0-EF69-4DE3-A035-06D0A806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D0A-50E0-489B-9BF4-B971094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3CD-F19F-485D-99EF-95C712D6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53C-7C74-4BA1-8D2E-60209EC6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585-F3AD-461F-9DC6-B6ED1FDD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9AD-714F-415E-99F4-E6C65C6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439-3AAD-44CB-9CD8-B2DE26E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B3D-ACFA-482C-A631-C87DF707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A9B-E433-439A-B6C4-45DD72B5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64C-7328-4B51-B183-8FB1BBB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ACB-05B8-4240-B575-4AF8CC1C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1E7-CF3B-411F-A1A4-735ED69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4DEC87-6547-4EC9-ACE0-1500F5A58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Letter to FC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1/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M Rel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of Comment Peri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/4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of Reply Com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1/19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parte Com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Band Frequency Hopping (WBF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Processing Gai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BB3-A624-4765-8655-12C6B53E4AA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Proposed Ru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retain current CW jamme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impose separate calculation for systems having less than 10 chips/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 has reviewed and indicated support for thi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use Gaussian noise test as an alternative to CW jamme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 has indicated that the proposal is un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of test must be clarified or abuse will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1FC-03D7-4E17-BC71-DA75A817D9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371600"/>
          <a:ext cx="7753320" cy="510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53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402-AF2D-450C-B2E8-FB0A49D178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dak “ETSI”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523880"/>
          <a:ext cx="775332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53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F2C-E103-400E-96EE-7979BE0E84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for Unlicensed Broadband Enab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 indicates flexibility on hop rate issue (10/19/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 explicitly opposes adoption of ETSI rules for non-overlapping channels (2/23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Kodak’s intention that ETSI rules would apply to FHSS systems only, or both FHSS and DS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different interpretations of Kodak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Kodak clar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B3A-E421-4EC7-9149-270B21F775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13:50:57Z</dcterms:created>
  <dc:creator>James Zyren</dc:creator>
  <dc:description/>
  <dc:language>en-US</dc:language>
  <cp:lastModifiedBy>James Zyren</cp:lastModifiedBy>
  <cp:lastPrinted>1998-02-10T13:28:06Z</cp:lastPrinted>
  <dcterms:modified xsi:type="dcterms:W3CDTF">2000-03-09T06:21:16Z</dcterms:modified>
  <cp:revision>13</cp:revision>
  <dc:subject/>
  <dc:title>No Slide Title</dc:title>
</cp:coreProperties>
</file>