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5FFB-8166-4321-88FA-46A02592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72C7-64F5-46EE-9958-82030BF6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D64C-4F51-4E8E-81F4-9220C1C9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2473-849C-42CE-8872-5F173392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898-7968-4007-8969-B9548B4F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D95B-63A9-46CB-8FEB-A0971F9B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6ADC-F4C9-4ED4-B607-B1B915B4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5A2B-9A80-48F9-9DE1-61F598A3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0A9E-C9B3-4871-B6BF-02084D30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7501-607C-4B26-B811-EEB60D20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140B-91CA-4BC1-8ACB-77F10332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E914-4E82-48D6-A9B8-938ADEB1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3FE794C-5DED-4B2E-B9AE-71BBB5C5B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immoore@microsoft.co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Quality of Servic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un Ayyagari, Yoram Bernet, Tim Mo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una@microsoft.com, yoramb@microsoft.com,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oore@microsof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Ayyagari, et. al., Microsoft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40BC-2CF5-4917-A1B9-6097B0910AE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oS guarantees for real-time application data traffic is currently not available in IEEE 802.1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width guarantees at MAC level is not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 using prioritised data with resource based admission control as the means to provide QoS guarantee for IEEE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Ayyagari, et. al., Microsoft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533-9BCF-4A3D-9B1B-9628C5F2213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p supports prioritization of traffic on 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rnet tag containing 0-7 levels of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queues at points of conges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queues is implementation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arantee bandwidth by using admission control to limit traffic sent on each priority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F defines how to use SBM with 802.1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Ayyagari, et. al., Microsoft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0D99-5AE1-4777-ADE2-41DDF169C0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Based Ad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net bandwidth manager does admission control so priority levels not over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M extends RSVP to level 2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ated SBM (DSBM) acts as the admission contro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be located at the point that knows most about the resources avail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reservation protocol (RSVP) signalling goes end-to-end in case any part of the network is interes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M and 802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BM functionality should be co-located with the Access Point for optimal admission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ewal of request every 30 sec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allowed to send a renewal if it believes it is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19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Re-asso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m to an access point with no resources lef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ew of request fa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y of requests suppo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Ayyagari, et. al., Microsoft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62F9-0B94-4DA3-B8BF-B24A4D98BC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p and 802.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point should support 802.1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ing onto the w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ing onto the 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s should support 802.1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DCF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the minimum and maximum values of the Contention Window parameter to ensure that higher priority frames have statistically a greater probability of transmission over lower priority fra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Ayyagari, et. al., Microsoft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995-7458-45A2-884B-86709A88EB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-h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p priority works station to 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tation needs to implement admission control for the wireless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Ayyagari, et. al., Microsoft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D1CE-B833-45FF-8790-6F24C99608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17:46:23Z</dcterms:created>
  <dc:creator>aruna</dc:creator>
  <dc:description/>
  <dc:language>en-US</dc:language>
  <cp:lastModifiedBy>Harry R. Worstell</cp:lastModifiedBy>
  <cp:lastPrinted>1998-02-10T13:28:06Z</cp:lastPrinted>
  <dcterms:modified xsi:type="dcterms:W3CDTF">2000-03-09T17:56:39Z</dcterms:modified>
  <cp:revision>40</cp:revision>
  <dc:subject/>
  <dc:title>PowerPoint Presentation</dc:title>
</cp:coreProperties>
</file>