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471-9149-4A44-A5AC-2515821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E39-78A3-403B-9032-593579A1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D61-E3D6-4871-846B-AF78CB26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EE0-6500-4085-8E61-53107211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227-7025-45C1-8662-FCB82B0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DED-BAC2-46F7-97A6-EC8A7E91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2DA-E777-4117-A63A-968EB067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FC2-F64A-46AC-9770-BEC8705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755-2EE8-4A0F-9E9C-64CC97D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3CD-7F77-4D69-8DD3-2000DF1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01F-66C2-4267-AEE5-6C74741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BC0-1701-4A2A-9718-CD180DF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AAD816-707F-45EC-A28C-693A727D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mmoore@microsof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Quality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 Ayyagari, Yoram Bernet, Tim Mo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a@microsoft.com, yoramb@microsoft.com,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oore@microsof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F35-7846-438A-AED5-4E277BD86A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guarantees for real-time application data traffic is currently not available in IEEE 802.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guarantees at MAC level is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using prioritised data with resource based admission control as the means to provide QoS guarantee for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461-727E-44F1-B620-5E21578C19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supports prioritization of traffic o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tag containing 0-7 levels of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queues at points of con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queues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 bandwidth by using admission control to limit traffic sent on each priorit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defines how to use SBM with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845-0C5F-4144-B7D4-8FE2261FBE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Based Ad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bandwidth manager does admission control so priority levels not over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extends RSVP to level 2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d SBM (DSBM) acts as the admission contro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located at the point that knows most about the resources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reservation protocol (RSVP) signalling goes end-to-end in case any part of the network is interes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and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BM functionality should be co-located with the Access Point for optimal admis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al of request every 3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llowed to send a renewal if it believes i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Re-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 to an access point with no resources lef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 of request f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of requests sup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512-FCDE-478F-9D92-F26CF504DD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p and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DC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minimum and maximum values of the Contention Window parameter to ensure that higher priority frames have statistically a greater probability of transmission over lower priority fr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CB1-7102-486D-A40E-1DA78CB6F8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priority works station to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ion needs to implement admission control for the wireless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F9C-919A-4617-94C9-2A6BD483D0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7:46:23Z</dcterms:created>
  <dc:creator>aruna</dc:creator>
  <dc:description/>
  <dc:language>en-US</dc:language>
  <cp:lastModifiedBy>Harry R. Worstell</cp:lastModifiedBy>
  <cp:lastPrinted>1998-02-10T13:28:06Z</cp:lastPrinted>
  <dcterms:modified xsi:type="dcterms:W3CDTF">2000-03-09T17:56:39Z</dcterms:modified>
  <cp:revision>40</cp:revision>
  <dc:subject/>
  <dc:title>PowerPoint Presentation</dc:title>
</cp:coreProperties>
</file>