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3D6-AECA-4189-AB8C-BF64F19F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CD8-CE3F-42C4-A398-78DF9FC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9B0-5275-4C6F-A2B8-F77088DB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D83-9D7D-422D-AEB6-DAFD3CE5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5AA-77BE-4384-9E6E-87EABA6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21F-39E3-47B7-A935-67F7287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EE7-DB17-4222-B68B-FE3275C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09C-8A56-4090-A365-469FC9F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A7F-4BC3-41A3-ACA6-E25D661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5C3-A650-4B1D-BB8D-AC6662A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F4F-9C8C-401E-A2CE-6042FD3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8EC-7DED-4B0B-9FDF-773736A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6B7857-BB96-4E46-9E64-35CE8DBD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uquerque,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756-D728-4CC7-A459-F553454FE0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642-69BA-4819-83B6-6BB578E29B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revised draft for WG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FB0-5B65-49EC-AB95-D98BAF189B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00D-8C58-41BE-96DE-63D97EE49C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899-D55F-457E-9375-0B8E26D95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Koloa, HI (doc 99/2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Tel Aviv, Israel (doc 00/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DF3-7BDD-40D3-B5B1-AFBCD6136C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72E-CA4B-4209-A70F-8A79F11BE7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resolutions are in 00/002r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comments appear to remain to be addressed in the text of th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opening plenary meeting: example usage added to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564-3FBA-475B-A350-4CDD1DF1D6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afternoon, 1:00pm – 5:30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 morning, 10:30am -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 morning, 10:30am –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for TGd activities: 7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A8E-708E-4532-824E-7A737E2772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BE6-FD54-446B-AC61-EC5368D3E5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one or more small groups to draft text to complete comment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vene Wednesday morning at 10:3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2D6-BA5F-48FC-B27A-C4C5B7F09B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3-09T18:25:25Z</dcterms:modified>
  <cp:revision>2</cp:revision>
  <dc:subject/>
  <dc:title>TGd Agenda, March 2000</dc:title>
</cp:coreProperties>
</file>