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356B-B306-47FF-8329-250315A0B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A711-B3A6-4F07-82CB-1F243D86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F9E0-8DA5-44F3-BDDB-4D426FB0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1367-9B1E-445A-BF6E-5754B353C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D458-B2B2-422F-B0EE-5C3D73F1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B108-8EF0-4986-9C13-EF2D0762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8EA7-1BD6-4CE2-AE4C-6B74FA66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2A42-4802-4CBE-B911-ACB93DAE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7A8B-746D-44FC-AB79-D770AB05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21AF-EDE2-475F-8DDE-8DB10F98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A711-01DD-4637-A8B1-1D24F9EF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1836-D3BA-45F3-B209-105B5CAC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rch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 O’Hara, Chair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6527A95-6C50-4630-B4C2-1869B622E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4000" y="6446880"/>
            <a:ext cx="916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Gd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Gd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ch 2000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buquerque, N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C228-BB2D-4E17-B29A-7E9206220E8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val of the Min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utes of meeting in Koloa, HI (doc 99/2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utes of meeting in Tel Aviv, Israel (doc 00/00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E1FE-41A2-4542-B960-E74BE7B08D6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of Comment Re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 comments remain to be addressed in the text of the d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jor item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opening plenary meeting: example usage to be added to draft (to be left as an editorial comment on the new draf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43D9-67DE-446E-92D8-C51734E54CF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mach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2F4E-39CE-4755-9DAC-E10E72AA890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option of proposed text for the draft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ext proposed by each subgroup was incorporated into Draft 1.6, unanimous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pted the Draft 1.6, unanim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FD63-4F24-46E9-889D-CD1F9FF417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issue 802.11d/D1.6 to a 15-day working group recirculation ballot and to request conditional approval from 802 SEC for sponsor bal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ed unanimously in TG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A43C-713C-4C9D-AA70-96E759CC2F3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 for Next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comments received from recirculation ballot, if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 802.11d to sponsor bal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EC10-C508-4F1C-AA14-3D45E76C99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3:03:53Z</dcterms:created>
  <dc:creator>Bob O'Hara</dc:creator>
  <dc:description/>
  <dc:language>en-US</dc:language>
  <cp:lastModifiedBy>Bob O'Hara</cp:lastModifiedBy>
  <cp:lastPrinted>1998-02-10T13:28:06Z</cp:lastPrinted>
  <dcterms:modified xsi:type="dcterms:W3CDTF">2000-03-09T18:25:51Z</dcterms:modified>
  <cp:revision>22</cp:revision>
  <dc:subject/>
  <dc:title>TGd Agenda, March 2000</dc:title>
</cp:coreProperties>
</file>