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C7CD-3553-48B0-8F78-1C233227E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952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76C9-CD5F-48A1-BB8D-2726E49E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97D8-76BD-4951-909D-FCBE7CE50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95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95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95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6B83-793C-4CEC-B84E-B1B0CAFD6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3AC0-1B2F-4D15-9707-0E08A036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B534-87B7-48A7-9DA0-237C3760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1F5E-CC7C-4C66-9DEA-6C34EFF0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839E-E9CC-4117-9C17-F1E0C5DC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1FB6-E815-4011-809F-99EB5042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590F-8A74-4F0C-B41E-47CA86E6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DDCD-14C2-4C04-81CE-78E1A167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952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DB7F-00A1-45A1-970E-5017787F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428840" indent="-22860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771560" indent="-22860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77156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77156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3F3193E-9AE1-4447-AB14-8F97BEE74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06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1219320"/>
            <a:ext cx="7696080" cy="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2320" y="1680840"/>
            <a:ext cx="78393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olling-based PCF for Strong QoS Guarante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19320" y="3047760"/>
            <a:ext cx="6384960" cy="17478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marL="357120" indent="0" algn="ctr">
              <a:spcBef>
                <a:spcPts val="45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Jim Mollenau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57120" indent="0" algn="ctr">
              <a:spcBef>
                <a:spcPts val="45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Technical Strategy Associat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57120" indent="0" algn="ctr">
              <a:spcBef>
                <a:spcPts val="45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d Enrichnet Inc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57120" indent="0" algn="ctr">
              <a:spcBef>
                <a:spcPts val="45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57120" indent="0" algn="ctr">
              <a:spcBef>
                <a:spcPts val="45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Zvi Ganz and Bob Pisacan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57120" indent="0" algn="ctr">
              <a:spcBef>
                <a:spcPts val="45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Enrichnet Inc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57120" indent="0" algn="ctr">
              <a:spcBef>
                <a:spcPts val="45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57120" indent="0" algn="ctr">
              <a:spcBef>
                <a:spcPts val="45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IEEE 802.11e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57120" indent="0" algn="ctr">
              <a:spcBef>
                <a:spcPts val="45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May 200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57120" indent="0" algn="ctr">
              <a:spcBef>
                <a:spcPts val="45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rich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EF1E-3547-4159-A6E6-38F4998F594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mplement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traffic cop, saying who can go whe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be implemented as a software shim lay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tercepts transmission call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ke remote file system intercepting disk call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 this case, independent of PHY or original MAC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ireless, twisted pair, fiber, power lin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S delays, but some compensation possib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art transmission early by amount of best-case OS dela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mbedded implementation: faster response possib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 ASIC, but again above normal (DCF) MAC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r in control microprocesso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rich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8443-B3B4-4CF2-A64F-18C3C5013BD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84600" y="3865680"/>
            <a:ext cx="0" cy="717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oftware Implement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11360" y="2084400"/>
            <a:ext cx="2321280" cy="3128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11360" y="2389320"/>
            <a:ext cx="2321280" cy="660240"/>
          </a:xfrm>
          <a:prstGeom prst="rect">
            <a:avLst/>
          </a:prstGeom>
          <a:solidFill>
            <a:srgbClr val="f6f6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PERATING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11360" y="3017880"/>
            <a:ext cx="2321280" cy="312840"/>
          </a:xfrm>
          <a:prstGeom prst="rect">
            <a:avLst/>
          </a:prstGeom>
          <a:solidFill>
            <a:srgbClr val="c6d0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AYER 3 AND 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11360" y="3324240"/>
            <a:ext cx="2321280" cy="312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AN QOS SOFTWA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11360" y="3629160"/>
            <a:ext cx="2321280" cy="312840"/>
          </a:xfrm>
          <a:prstGeom prst="rect">
            <a:avLst/>
          </a:prstGeom>
          <a:solidFill>
            <a:srgbClr val="c6d0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11360" y="4494240"/>
            <a:ext cx="2321280" cy="312840"/>
          </a:xfrm>
          <a:prstGeom prst="rect">
            <a:avLst/>
          </a:prstGeom>
          <a:solidFill>
            <a:srgbClr val="c6d0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IC CAR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40160" y="3429000"/>
            <a:ext cx="7254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rich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4329-8E2D-4123-94DA-00BEDA531BA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438800" y="3641760"/>
            <a:ext cx="0" cy="717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ardware/Firmware Implement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65560" y="2173320"/>
            <a:ext cx="2322360" cy="3128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65560" y="2479680"/>
            <a:ext cx="2322360" cy="660240"/>
          </a:xfrm>
          <a:prstGeom prst="rect">
            <a:avLst/>
          </a:prstGeom>
          <a:solidFill>
            <a:srgbClr val="f6f6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PERATING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65560" y="3108240"/>
            <a:ext cx="2322360" cy="312840"/>
          </a:xfrm>
          <a:prstGeom prst="rect">
            <a:avLst/>
          </a:prstGeom>
          <a:solidFill>
            <a:srgbClr val="c6d0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AYER 3 AND 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65560" y="3413160"/>
            <a:ext cx="2322360" cy="312840"/>
          </a:xfrm>
          <a:prstGeom prst="rect">
            <a:avLst/>
          </a:prstGeom>
          <a:solidFill>
            <a:srgbClr val="c6d0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65560" y="4494240"/>
            <a:ext cx="2322360" cy="312840"/>
          </a:xfrm>
          <a:prstGeom prst="rect">
            <a:avLst/>
          </a:prstGeom>
          <a:solidFill>
            <a:srgbClr val="c6d0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IC CAR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95440" y="4324320"/>
            <a:ext cx="725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65560" y="4494240"/>
            <a:ext cx="2322360" cy="312840"/>
          </a:xfrm>
          <a:prstGeom prst="rect">
            <a:avLst/>
          </a:prstGeom>
          <a:solidFill>
            <a:srgbClr val="c6d0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A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65560" y="4189320"/>
            <a:ext cx="2322360" cy="312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QOS COORD/CLI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05360" y="4324320"/>
            <a:ext cx="18878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AN NIC CAR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87920" y="4073400"/>
            <a:ext cx="36360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rich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8EF4-43BD-4A73-8756-97C50033FFB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uper-Poll Op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10573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rmAutofit fontScale="19000"/>
          </a:bodyPr>
          <a:p>
            <a:pPr marL="65160" indent="-6516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ttacking the hidden-station proble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65160" indent="-6516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ach station appends remaining polls to its transmiss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65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65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65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65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65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65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65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65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65160" indent="-6516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f D is the coordinator, A is blocked by terrain and cannot hear poll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65160" indent="-6516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hears poll from B, can transmit to B or C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65160" indent="-6516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can’t transmit directly to D, E, or F, nor B to E and F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141120" indent="-5400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e can’t repeal the laws of physics!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141120" indent="-5400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lay via B or C could be an op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14400" y="2959200"/>
            <a:ext cx="144720" cy="1332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04920" y="3967200"/>
            <a:ext cx="144720" cy="135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38640" y="4437000"/>
            <a:ext cx="144360" cy="135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54560" y="4102200"/>
            <a:ext cx="144360" cy="1332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70480" y="2622600"/>
            <a:ext cx="144360" cy="1332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79960" y="3495600"/>
            <a:ext cx="144360" cy="135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40160" y="2286000"/>
            <a:ext cx="1379520" cy="1747800"/>
          </a:xfrm>
          <a:custGeom>
            <a:avLst/>
            <a:gdLst/>
            <a:ahLst/>
            <a:rect l="l" t="t" r="r" b="b"/>
            <a:pathLst>
              <a:path w="912" h="1248">
                <a:moveTo>
                  <a:pt x="192" y="384"/>
                </a:moveTo>
                <a:lnTo>
                  <a:pt x="144" y="432"/>
                </a:lnTo>
                <a:lnTo>
                  <a:pt x="96" y="480"/>
                </a:lnTo>
                <a:lnTo>
                  <a:pt x="144" y="576"/>
                </a:lnTo>
                <a:lnTo>
                  <a:pt x="96" y="672"/>
                </a:lnTo>
                <a:lnTo>
                  <a:pt x="0" y="912"/>
                </a:lnTo>
                <a:lnTo>
                  <a:pt x="144" y="912"/>
                </a:lnTo>
                <a:lnTo>
                  <a:pt x="192" y="1056"/>
                </a:lnTo>
                <a:lnTo>
                  <a:pt x="342" y="1104"/>
                </a:lnTo>
                <a:lnTo>
                  <a:pt x="528" y="1248"/>
                </a:lnTo>
                <a:lnTo>
                  <a:pt x="624" y="1248"/>
                </a:lnTo>
                <a:lnTo>
                  <a:pt x="768" y="1152"/>
                </a:lnTo>
                <a:lnTo>
                  <a:pt x="912" y="1056"/>
                </a:lnTo>
                <a:lnTo>
                  <a:pt x="912" y="1008"/>
                </a:lnTo>
                <a:lnTo>
                  <a:pt x="810" y="906"/>
                </a:lnTo>
                <a:lnTo>
                  <a:pt x="816" y="816"/>
                </a:lnTo>
                <a:lnTo>
                  <a:pt x="912" y="768"/>
                </a:lnTo>
                <a:lnTo>
                  <a:pt x="912" y="720"/>
                </a:lnTo>
                <a:lnTo>
                  <a:pt x="786" y="570"/>
                </a:lnTo>
                <a:lnTo>
                  <a:pt x="864" y="480"/>
                </a:lnTo>
                <a:lnTo>
                  <a:pt x="864" y="432"/>
                </a:lnTo>
                <a:lnTo>
                  <a:pt x="768" y="336"/>
                </a:lnTo>
                <a:lnTo>
                  <a:pt x="768" y="288"/>
                </a:lnTo>
                <a:lnTo>
                  <a:pt x="720" y="192"/>
                </a:lnTo>
                <a:lnTo>
                  <a:pt x="768" y="48"/>
                </a:lnTo>
                <a:lnTo>
                  <a:pt x="720" y="0"/>
                </a:lnTo>
                <a:lnTo>
                  <a:pt x="624" y="0"/>
                </a:lnTo>
                <a:lnTo>
                  <a:pt x="408" y="18"/>
                </a:lnTo>
                <a:lnTo>
                  <a:pt x="384" y="144"/>
                </a:lnTo>
                <a:lnTo>
                  <a:pt x="366" y="252"/>
                </a:lnTo>
                <a:lnTo>
                  <a:pt x="288" y="288"/>
                </a:lnTo>
                <a:lnTo>
                  <a:pt x="240" y="336"/>
                </a:lnTo>
                <a:lnTo>
                  <a:pt x="96" y="480"/>
                </a:lnTo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03400" y="3160800"/>
            <a:ext cx="7257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IL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9520" y="2890800"/>
            <a:ext cx="434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96960" y="3898800"/>
            <a:ext cx="434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03400" y="4370400"/>
            <a:ext cx="435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4033800"/>
            <a:ext cx="1814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 (coordinator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87920" y="2487600"/>
            <a:ext cx="434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97400" y="3429000"/>
            <a:ext cx="435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rich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E337-6397-477A-8703-A9D43DFDBA8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uper-Poll Structur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09640" y="1546200"/>
            <a:ext cx="1378080" cy="31284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187720" y="1546200"/>
            <a:ext cx="2239560" cy="276120"/>
            <a:chOff x="2187720" y="1546200"/>
            <a:chExt cx="2239560" cy="276120"/>
          </a:xfrm>
        </p:grpSpPr>
        <p:sp>
          <p:nvSpPr>
            <p:cNvPr id="130" name=""/>
            <p:cNvSpPr/>
            <p:nvPr/>
          </p:nvSpPr>
          <p:spPr>
            <a:xfrm>
              <a:off x="2187720" y="1546200"/>
              <a:ext cx="320760" cy="27612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23760" bIns="2376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08480" y="1546200"/>
              <a:ext cx="318960" cy="27612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23760" bIns="2376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827440" y="1546200"/>
              <a:ext cx="320040" cy="27612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23760" bIns="2376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194280" y="1546200"/>
              <a:ext cx="318960" cy="27612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23760" bIns="2376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87560" y="1546200"/>
              <a:ext cx="318960" cy="27612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23760" bIns="2376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106520" y="1546200"/>
              <a:ext cx="320760" cy="27612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23760" bIns="2376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47480" y="1546200"/>
              <a:ext cx="319680" cy="27612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23760" bIns="2376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67520" y="1546200"/>
              <a:ext cx="320040" cy="27612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23760" bIns="2376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2913120" y="1949400"/>
            <a:ext cx="312084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olling list: station address, transmit interv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25560" y="2824200"/>
            <a:ext cx="1378080" cy="31284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03640" y="2824200"/>
            <a:ext cx="2031840" cy="3128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5235480" y="2824200"/>
            <a:ext cx="1523880" cy="279720"/>
            <a:chOff x="5235480" y="2824200"/>
            <a:chExt cx="1523880" cy="279720"/>
          </a:xfrm>
        </p:grpSpPr>
        <p:sp>
          <p:nvSpPr>
            <p:cNvPr id="142" name=""/>
            <p:cNvSpPr/>
            <p:nvPr/>
          </p:nvSpPr>
          <p:spPr>
            <a:xfrm>
              <a:off x="5235480" y="2824200"/>
              <a:ext cx="253800" cy="27972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89280" y="2824200"/>
              <a:ext cx="253800" cy="27972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79800" y="2824200"/>
              <a:ext cx="253800" cy="27972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251400" y="2824200"/>
              <a:ext cx="253800" cy="27972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505560" y="2824200"/>
              <a:ext cx="253800" cy="27972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43440" y="2824200"/>
              <a:ext cx="253800" cy="27972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97600" y="2824200"/>
              <a:ext cx="253800" cy="27972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624040" y="3967200"/>
            <a:ext cx="1378080" cy="31284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002120" y="3967200"/>
            <a:ext cx="2685960" cy="3128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6688080" y="3967200"/>
            <a:ext cx="1450800" cy="284760"/>
            <a:chOff x="6688080" y="3967200"/>
            <a:chExt cx="1450800" cy="284760"/>
          </a:xfrm>
        </p:grpSpPr>
        <p:sp>
          <p:nvSpPr>
            <p:cNvPr id="152" name=""/>
            <p:cNvSpPr/>
            <p:nvPr/>
          </p:nvSpPr>
          <p:spPr>
            <a:xfrm>
              <a:off x="6688080" y="3967200"/>
              <a:ext cx="289800" cy="28476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5800" rIns="55800" tIns="28080" bIns="2808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019640" y="3967200"/>
              <a:ext cx="290880" cy="28476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5800" rIns="55800" tIns="28080" bIns="2808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57840" y="3967200"/>
              <a:ext cx="290880" cy="28476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5800" rIns="55800" tIns="28080" bIns="2808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48720" y="3967200"/>
              <a:ext cx="290160" cy="28476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5800" rIns="55800" tIns="28080" bIns="2808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977880" y="3967200"/>
              <a:ext cx="290880" cy="28476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5800" rIns="55800" tIns="28080" bIns="2808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69120" y="3967200"/>
              <a:ext cx="288360" cy="28476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5800" rIns="55800" tIns="28080" bIns="2808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3494160" y="5110200"/>
            <a:ext cx="1379520" cy="31284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73680" y="5110200"/>
            <a:ext cx="2684520" cy="3128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7558200" y="5110200"/>
            <a:ext cx="871560" cy="289080"/>
            <a:chOff x="7558200" y="5110200"/>
            <a:chExt cx="871560" cy="289080"/>
          </a:xfrm>
        </p:grpSpPr>
        <p:sp>
          <p:nvSpPr>
            <p:cNvPr id="161" name=""/>
            <p:cNvSpPr/>
            <p:nvPr/>
          </p:nvSpPr>
          <p:spPr>
            <a:xfrm>
              <a:off x="7589880" y="5110200"/>
              <a:ext cx="217080" cy="28908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994520" y="5110200"/>
              <a:ext cx="217800" cy="28908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212680" y="5110200"/>
              <a:ext cx="217080" cy="28908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558200" y="5110200"/>
              <a:ext cx="217080" cy="28908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75280" y="5110200"/>
              <a:ext cx="218880" cy="28908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5091120" y="3227400"/>
            <a:ext cx="2467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emaining polling li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1949400"/>
            <a:ext cx="19591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 u="sng">
                <a:solidFill>
                  <a:srgbClr val="000099"/>
                </a:solidFill>
                <a:uFillTx/>
                <a:latin typeface="Arial"/>
              </a:rPr>
              <a:t>Coordinator sends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27080" y="3294000"/>
            <a:ext cx="19591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 sends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25560" y="4505400"/>
            <a:ext cx="19591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 sends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695680" y="5648400"/>
            <a:ext cx="1960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 sends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5520" y="2421000"/>
            <a:ext cx="2178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 u="sng">
                <a:solidFill>
                  <a:srgbClr val="000099"/>
                </a:solidFill>
                <a:uFillTx/>
                <a:latin typeface="Arial"/>
              </a:rPr>
              <a:t>Stations Respond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816520" y="4370400"/>
            <a:ext cx="2467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emaining polling li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180120" y="5513400"/>
            <a:ext cx="2467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emaining polling li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5400" y="5826240"/>
            <a:ext cx="1960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1040" y="2946240"/>
            <a:ext cx="863640" cy="939960"/>
          </a:xfrm>
          <a:custGeom>
            <a:avLst/>
            <a:gdLst>
              <a:gd name="textAreaLeft" fmla="*/ 115560 w 863640"/>
              <a:gd name="textAreaRight" fmla="*/ 748080 w 863640"/>
              <a:gd name="textAreaTop" fmla="*/ 164520 h 939960"/>
              <a:gd name="textAreaBottom" fmla="*/ 681480 h 93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65360" y="3505320"/>
            <a:ext cx="4368960" cy="425160"/>
          </a:xfrm>
          <a:prstGeom prst="leftArrow">
            <a:avLst>
              <a:gd name="adj1" fmla="val 46509"/>
              <a:gd name="adj2" fmla="val 107518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498680" y="3683160"/>
            <a:ext cx="914400" cy="609480"/>
          </a:xfrm>
          <a:custGeom>
            <a:avLst/>
            <a:gdLst>
              <a:gd name="textAreaLeft" fmla="*/ 122400 w 914400"/>
              <a:gd name="textAreaRight" fmla="*/ 792000 w 914400"/>
              <a:gd name="textAreaTop" fmla="*/ 93960 h 609480"/>
              <a:gd name="textAreaBottom" fmla="*/ 4546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671" stAng="-5400000" swAng="5400000"/>
                <a:lnTo>
                  <a:pt x="21600" y="12769"/>
                </a:lnTo>
                <a:arcTo wR="21600" hR="6671" stAng="0" swAng="2468308"/>
                <a:lnTo>
                  <a:pt x="7200" y="21218"/>
                </a:lnTo>
                <a:lnTo>
                  <a:pt x="0" y="16391"/>
                </a:lnTo>
                <a:lnTo>
                  <a:pt x="7200" y="10800"/>
                </a:lnTo>
                <a:lnTo>
                  <a:pt x="7200" y="12960"/>
                </a:lnTo>
                <a:arcTo wR="21600" hR="6671" stAng="2468308" swAng="-1927237"/>
                <a:lnTo>
                  <a:pt x="19212" y="9720"/>
                </a:lnTo>
                <a:arcTo wR="21600" hR="6671" stAng="-541071" swAng="-4858929"/>
                <a:close/>
              </a:path>
              <a:path fill="darkenLess" w="21600" h="21600">
                <a:moveTo>
                  <a:pt x="0" y="0"/>
                </a:moveTo>
                <a:arcTo wR="21600" hR="6671" stAng="-5400000" swAng="5400000"/>
                <a:lnTo>
                  <a:pt x="21600" y="12769"/>
                </a:lnTo>
                <a:arcTo wR="21600" hR="6671" stAng="0" swAng="-541071"/>
                <a:lnTo>
                  <a:pt x="19212" y="9720"/>
                </a:lnTo>
                <a:arcTo wR="21600" hR="6671" stAng="-541071" swAng="-4858929"/>
                <a:close/>
              </a:path>
            </a:pathLst>
          </a:cu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05920" y="4064040"/>
            <a:ext cx="558720" cy="965160"/>
          </a:xfrm>
          <a:custGeom>
            <a:avLst/>
            <a:gdLst>
              <a:gd name="textAreaLeft" fmla="*/ 74880 w 558720"/>
              <a:gd name="textAreaRight" fmla="*/ 483840 w 558720"/>
              <a:gd name="textAreaTop" fmla="*/ 168840 h 965160"/>
              <a:gd name="textAreaBottom" fmla="*/ 699840 h 96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54560" y="4699080"/>
            <a:ext cx="4647960" cy="272880"/>
          </a:xfrm>
          <a:prstGeom prst="leftArrow">
            <a:avLst>
              <a:gd name="adj1" fmla="val 65120"/>
              <a:gd name="adj2" fmla="val 116944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2413080" y="4826160"/>
            <a:ext cx="914400" cy="609480"/>
          </a:xfrm>
          <a:custGeom>
            <a:avLst/>
            <a:gdLst>
              <a:gd name="textAreaLeft" fmla="*/ 122400 w 914400"/>
              <a:gd name="textAreaRight" fmla="*/ 792000 w 914400"/>
              <a:gd name="textAreaTop" fmla="*/ 93960 h 609480"/>
              <a:gd name="textAreaBottom" fmla="*/ 4546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671" stAng="-5400000" swAng="5400000"/>
                <a:lnTo>
                  <a:pt x="21600" y="12769"/>
                </a:lnTo>
                <a:arcTo wR="21600" hR="6671" stAng="0" swAng="2468308"/>
                <a:lnTo>
                  <a:pt x="7200" y="21218"/>
                </a:lnTo>
                <a:lnTo>
                  <a:pt x="0" y="16391"/>
                </a:lnTo>
                <a:lnTo>
                  <a:pt x="7200" y="10800"/>
                </a:lnTo>
                <a:lnTo>
                  <a:pt x="7200" y="12960"/>
                </a:lnTo>
                <a:arcTo wR="21600" hR="6671" stAng="2468308" swAng="-1927237"/>
                <a:lnTo>
                  <a:pt x="19212" y="9720"/>
                </a:lnTo>
                <a:arcTo wR="21600" hR="6671" stAng="-541071" swAng="-4858929"/>
                <a:close/>
              </a:path>
              <a:path fill="darkenLess" w="21600" h="21600">
                <a:moveTo>
                  <a:pt x="0" y="0"/>
                </a:moveTo>
                <a:arcTo wR="21600" hR="6671" stAng="-5400000" swAng="5400000"/>
                <a:lnTo>
                  <a:pt x="21600" y="12769"/>
                </a:lnTo>
                <a:arcTo wR="21600" hR="6671" stAng="0" swAng="-541071"/>
                <a:lnTo>
                  <a:pt x="19212" y="9720"/>
                </a:lnTo>
                <a:arcTo wR="21600" hR="6671" stAng="-541071" swAng="-4858929"/>
                <a:close/>
              </a:path>
            </a:pathLst>
          </a:cu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rich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7F0C-597B-431A-B165-131A3D121C8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airnes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ations later in list have more chances to receive the pol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herefore coordinator varies the list from one poll to the nex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andom, o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yclic: A,B,C,D then D,A,B,C…C,D,A,B…etc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hen a station repeats the poll, it removes itself and repeats the list in the same order as receiv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verage probability of receiving poll is the same for all stations with the same traffic clas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Bu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if coordinator recognizes that some stations are in hard-to-reach locations, it puts them late in the list to increase the probability of poll being receiv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rich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9EEA-6028-4E7B-8D0A-9913C2A4106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mproving the Polling Proces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6000"/>
          </a:bodyPr>
          <a:p>
            <a:pPr marL="191880" indent="-191880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With Super-Poll, probability of not receiving a poll goes down dramatically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91880" indent="-191880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imulation shown for various group sizes and values of the probability P, the probability that a single poll is not received due to noise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31800" y="2583000"/>
            <a:ext cx="5035680" cy="38304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994360" y="2768760"/>
            <a:ext cx="274320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. Ganz, A. Phonphoem, Z. Ganz, "Robust SuperPoll with Chaining Protocol for IEEE 802.11 Wireless LANs in support of Multimedia Applications",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Wireless Networks Journa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to appear in 200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. Ganz, A. Phonphoem, Z. Ganz, ``Robust SuperPoll Protocol for IEEE802-11 Wireless LANs,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IEEE Military Communications Conference, October 199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rich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B05F-2CF0-4ED1-9844-D17D9DB1595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Net Efficiency Improvemen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87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hannel utilization  U = user transmission time / total time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If poll is not received, channel is idle and utilization suffer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fficiency gain  E = (U</a:t>
            </a:r>
            <a:r>
              <a:rPr b="1" lang="en-US" sz="1600" spc="-1" strike="noStrike" baseline="-25000">
                <a:solidFill>
                  <a:srgbClr val="000099"/>
                </a:solidFill>
                <a:latin typeface="Arial"/>
              </a:rPr>
              <a:t>super-poll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-U </a:t>
            </a:r>
            <a:r>
              <a:rPr b="1" lang="en-US" sz="1600" spc="-1" strike="noStrike" baseline="-25000">
                <a:solidFill>
                  <a:srgbClr val="000099"/>
                </a:solidFill>
                <a:latin typeface="Arial"/>
              </a:rPr>
              <a:t>single poll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)/U</a:t>
            </a:r>
            <a:r>
              <a:rPr b="1" lang="en-US" sz="1600" spc="-1" strike="noStrike" baseline="-25000">
                <a:solidFill>
                  <a:srgbClr val="000099"/>
                </a:solidFill>
                <a:latin typeface="Arial"/>
              </a:rPr>
              <a:t>single poll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 as a function of G, the group size, for various values of P: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816200" y="3070080"/>
            <a:ext cx="5181480" cy="338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rich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68AF-E98C-4C82-8F8D-FC14729E28A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Overlapping BS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2895480"/>
            <a:ext cx="2286000" cy="2286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000680" y="2882880"/>
            <a:ext cx="2286000" cy="2286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962520"/>
            <a:ext cx="152640" cy="15228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05520" y="3962520"/>
            <a:ext cx="152280" cy="15228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3967920" y="2900520"/>
            <a:ext cx="2387160" cy="231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312" y="1513"/>
                </a:moveTo>
                <a:arcTo wR="10800" hR="10800" stAng="-3558582" swAng="7104718"/>
                <a:lnTo>
                  <a:pt x="10800" y="10800"/>
                </a:lnTo>
                <a:close/>
              </a:path>
              <a:path fill="none" w="21600" h="21600">
                <a:moveTo>
                  <a:pt x="16312" y="1513"/>
                </a:moveTo>
                <a:arcTo wR="10800" hR="10800" stAng="-3558582" swAng="7104718"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762280" y="2900520"/>
            <a:ext cx="2387160" cy="231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312" y="1513"/>
                </a:moveTo>
                <a:arcTo wR="10800" hR="10800" stAng="-3558582" swAng="7104718"/>
                <a:lnTo>
                  <a:pt x="10800" y="10800"/>
                </a:lnTo>
                <a:close/>
              </a:path>
              <a:path fill="none" w="21600" h="21600">
                <a:moveTo>
                  <a:pt x="16312" y="1513"/>
                </a:moveTo>
                <a:arcTo wR="10800" hR="10800" stAng="-3558582" swAng="7104718"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ations may be in range of either or both BS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eed to avoid interference, allow both systems to operat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78240" y="340344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52680" y="37591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59120" y="4216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95680" y="459756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01920" y="431784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343400" y="373392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105520" y="322596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664240" y="37591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943600" y="42670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257800" y="477504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4280" y="424188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013280" y="309888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rich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33A8-8D1A-4580-AB3F-64D14A706F3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ull Overlap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l stations are in range of both coordinato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327480" y="2108160"/>
            <a:ext cx="2286000" cy="22860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94160" y="3174840"/>
            <a:ext cx="152280" cy="15264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60240" y="4851360"/>
            <a:ext cx="7772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41000"/>
          </a:bodyPr>
          <a:p>
            <a:pPr marL="140400" indent="-1404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ehaves like single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560" indent="-1170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e coordinator is cho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560" indent="-1170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l stations work with this 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86200" y="27432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60640" y="309888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67080" y="355608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003640" y="393696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9880" y="36576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851360" y="3073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32240" y="3581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21240" y="2438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19720" y="226044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78440" y="279396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57800" y="33019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38098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rich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E748-5549-42F3-A24A-0A94446E98E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 Polling Proposal for Qo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oal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patibility with existing equipme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echanism for dynamic bandwidth manageme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fficienc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perience with Ethernet and home phonelin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oftware/firmware implement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aling with hidden sta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ail-saf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acket classification issu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rich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22A7-6B3E-4BAF-8D92-ED41FC8A8DE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rtial Overlap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he more general cas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ome stations hear both coordinators, some hear only on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927680"/>
            <a:ext cx="7772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olution: one coordinator takes over fu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ther coordinator relinquishes, sends registration list to fir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uper-poll mechanism polls all stations from one 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19520" y="2362320"/>
            <a:ext cx="2286000" cy="2286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000680" y="2349360"/>
            <a:ext cx="2286000" cy="2286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3429000"/>
            <a:ext cx="152640" cy="15228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05520" y="3429000"/>
            <a:ext cx="152280" cy="15228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967920" y="2367360"/>
            <a:ext cx="2387160" cy="2311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312" y="1513"/>
                </a:moveTo>
                <a:arcTo wR="10800" hR="10800" stAng="-3558582" swAng="7104718"/>
                <a:lnTo>
                  <a:pt x="10800" y="10800"/>
                </a:lnTo>
                <a:close/>
              </a:path>
              <a:path fill="none" w="21600" h="21600">
                <a:moveTo>
                  <a:pt x="16312" y="1513"/>
                </a:moveTo>
                <a:arcTo wR="10800" hR="10800" stAng="-3558582" swAng="7104718"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762280" y="2367360"/>
            <a:ext cx="2387160" cy="2311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312" y="1513"/>
                </a:moveTo>
                <a:arcTo wR="10800" hR="10800" stAng="-3558582" swAng="7104718"/>
                <a:lnTo>
                  <a:pt x="10800" y="10800"/>
                </a:lnTo>
                <a:close/>
              </a:path>
              <a:path fill="none" w="21600" h="21600">
                <a:moveTo>
                  <a:pt x="16312" y="1513"/>
                </a:moveTo>
                <a:arcTo wR="10800" hR="10800" stAng="-3558582" swAng="7104718"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378240" y="287028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352680" y="322596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59120" y="368316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95680" y="406404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301920" y="378468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343400" y="32004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05520" y="269244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664240" y="322596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943600" y="373392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57800" y="424188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24280" y="370836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013280" y="256536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4393800" y="326340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 flipV="1">
            <a:off x="4088880" y="265392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3428640" y="2908080"/>
            <a:ext cx="96516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3377880" y="2908440"/>
            <a:ext cx="50760" cy="330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3835080" y="3289320"/>
            <a:ext cx="507960" cy="406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3378240" y="3746520"/>
            <a:ext cx="35568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rich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322C-A165-481A-B3E8-1F7184856D0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ail-Saf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l QoS-enabled stations have coordinator cod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ctivated only in current coordinato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 failure of coordinator, another station takes on the ro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ardware failur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munication failur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lockage by obstacl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ersistent interferen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ut of rang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rich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9914-BF92-44F3-BE83-2667D9C7A39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cket Classific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n important topic but..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422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Not our issu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lassification is independent of allocation mechanism adopted to provide corresponding level of servi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daptive polling can operate with explicit or implicit (heuristic) classific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ust be applied end-to-en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 just LA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 just access network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 just backbone network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patibility with IETF efforts for WAN is very importa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ordinator should have SBM (Subnet Bandwidth Mgr.) capabilit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uch easier with PCF than otherwis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rich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8447-42C0-4117-8E31-B1A67C50375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Goals of the Proposal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rong Qo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terministic mechanism, not statistica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ations don’t transmit until poll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etter efficienc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 bandwidth loss or delays due to collis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thernet is 91% efficient in theory, 50% in practi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nhanced reliabilit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echanism to address hidden-station proble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patibility with existing equipme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n-QoS equipment operates as befor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rich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2966-D12E-4909-A091-2821D80954A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ackward Compatibility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975440" cy="4876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isting 802.11 stations continue to function on best-efforts basi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l units respect PCF interval even if they don’t use i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CF for remainder of the tim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n-QoS, lowest priorit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oftware can be added to provide QoS for existing sta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ew devices can implement at software or firmware/hardware lev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rich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0CFC-3CFE-46DA-9F30-A2D5A647974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ynamic Bandwidth Managemen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int Coordination Function (PCF) is best way to provide strong Qo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ordinator sets PC interval, then polls stations, specifying xmit tim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ransmit only when polled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 collisions (except during registration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daptive algorithm to set transmit interval and dur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terval varies depending on recent history of st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cess polling avoid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 statistical (weak) QoS based on priorit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hance arrival of large amounts of high priority traffic causes problems in collision-based system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rich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3519-9157-479E-9417-AAB13D6BEA6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daptive Poll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lling specifies station’s transmission period based on: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plicit QoS reques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5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stant bit rat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5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ariable bit rate, with minimum / maximu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lassification heuristic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ation need not report its own usag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f full period is not used, next station may start earl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 this case, polling frequency may be cu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ternatively, if all is used, allocations may be increas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licy is not strictly an interoperability issu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ut other stations must be ready to pick up coordinator func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rich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F815-E365-408F-BF45-AA789728489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ime Lin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9000" y="2890800"/>
            <a:ext cx="7402680" cy="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39680" y="2689200"/>
            <a:ext cx="0" cy="40320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89000" y="3462480"/>
            <a:ext cx="45226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11680" y="3462480"/>
            <a:ext cx="2880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20720" y="3686040"/>
            <a:ext cx="29988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CF-based, contention-fr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91080" y="3686040"/>
            <a:ext cx="3000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CF-based, contention perio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39680" y="2246400"/>
            <a:ext cx="460440" cy="6444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00120" y="2246400"/>
            <a:ext cx="555840" cy="644400"/>
          </a:xfrm>
          <a:prstGeom prst="rect">
            <a:avLst/>
          </a:prstGeom>
          <a:solidFill>
            <a:srgbClr val="fe3a5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52800" y="2890800"/>
            <a:ext cx="556920" cy="50472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06560" y="2890800"/>
            <a:ext cx="555840" cy="50472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76680" y="2890800"/>
            <a:ext cx="942840" cy="50472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16360" y="2890800"/>
            <a:ext cx="557280" cy="50472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35480" y="2890800"/>
            <a:ext cx="168120" cy="5047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3800" y="2246400"/>
            <a:ext cx="4125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C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50800" y="2392200"/>
            <a:ext cx="67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ol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46480" y="2992320"/>
            <a:ext cx="241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27520" y="2992320"/>
            <a:ext cx="241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16520" y="2992320"/>
            <a:ext cx="241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86280" y="2992320"/>
            <a:ext cx="241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119640" y="2890800"/>
            <a:ext cx="557280" cy="504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89560" y="2992320"/>
            <a:ext cx="241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50800" y="4336920"/>
            <a:ext cx="41608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ordinator polls A, B, C, D, and 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, B, D, and E send da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 has no data, so D starts earl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 registers in DCF contention tim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 has best-efforts data, uses DCF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305840" y="2890800"/>
            <a:ext cx="555480" cy="50472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475400" y="2992320"/>
            <a:ext cx="241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03440" y="2363760"/>
            <a:ext cx="11620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ordinato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46320" y="3014640"/>
            <a:ext cx="11602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rich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EDCA-A7C8-41BD-BFD6-A33A0AF2151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olling Efficiency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1960" y="1344600"/>
            <a:ext cx="7774200" cy="44560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fficiency of polling is much higher than collision-based system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Real-life Ethernet systems have low useful throughput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97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alculated asymptotic throughput for 802.3 is 91%, even better than “classical” CSMA/CD at 83%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ut…delays get long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97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horter backoff for new entrants causes instability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In real life, Ethernet is seldom run above 50% average load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97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rguments against polling: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Need to choose coordinator to do polling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Need to provide for failure of coordinator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veryone needs to hear poll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Overhead of poll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olutions: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oordinator chosen from MAC address or manually designated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ll pollable stations contain coordinator code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uper-poll reaches all station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Poll is ~20 bytes vs. average transmission of 500 bytes (inc. ACKs)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Adaptive polling reduces excess poll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rich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3A7B-6E7A-4955-AFE8-2D038DBC693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monstrated Capability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nrichNet protocol has been demonstrated over several network types: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0base T Etherne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ome phone line network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02.11 DCF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sult is as desired: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ideo runs smoothly in the presence of large file transfe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usable without EnrichNet lay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rich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7D93-458A-4D56-AFDD-151050155D1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Jim Mollenauer</cp:lastModifiedBy>
  <cp:lastPrinted>1998-02-10T13:28:06Z</cp:lastPrinted>
  <dcterms:modified xsi:type="dcterms:W3CDTF">2000-05-08T13:28:52Z</dcterms:modified>
  <cp:revision>15</cp:revision>
  <dc:subject/>
  <dc:title>No Slide Title</dc:title>
</cp:coreProperties>
</file>