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D450FA-9C73-4437-B540-D3D7E164C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8580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624852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685800" y="38088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2000                                                                                           doc.: IEEE 802.11 00/0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172200"/>
            <a:ext cx="7772400" cy="6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                                               Slide </a:t>
            </a:r>
            <a:fld id="{9970BED1-B083-4B09-886D-E2DCE78E97DD}" type="slidenum"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L. E. Aguado - Supergold Comm. Lt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4360" y="1755720"/>
            <a:ext cx="780408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630360"/>
                <a:tab algn="l" pos="1400040"/>
                <a:tab algn="l" pos="2171520"/>
                <a:tab algn="l" pos="2943360"/>
                <a:tab algn="l" pos="3714840"/>
                <a:tab algn="l" pos="4486320"/>
                <a:tab algn="l" pos="5257800"/>
                <a:tab algn="l" pos="5816520"/>
                <a:tab algn="l" pos="6462720"/>
                <a:tab algn="l" pos="6531120"/>
                <a:tab algn="l" pos="7346880"/>
                <a:tab algn="l" pos="77756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um Cald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630360"/>
                <a:tab algn="l" pos="1400040"/>
                <a:tab algn="l" pos="2171520"/>
                <a:tab algn="l" pos="2943360"/>
                <a:tab algn="l" pos="3714840"/>
                <a:tab algn="l" pos="4486320"/>
                <a:tab algn="l" pos="5257800"/>
                <a:tab algn="l" pos="5816520"/>
                <a:tab algn="l" pos="6462720"/>
                <a:tab algn="l" pos="6531120"/>
                <a:tab algn="l" pos="7346880"/>
                <a:tab algn="l" pos="77756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 O'Farr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630360"/>
                <a:tab algn="l" pos="1400040"/>
                <a:tab algn="l" pos="2171520"/>
                <a:tab algn="l" pos="2943360"/>
                <a:tab algn="l" pos="3714840"/>
                <a:tab algn="l" pos="4486320"/>
                <a:tab algn="l" pos="5257800"/>
                <a:tab algn="l" pos="5816520"/>
                <a:tab algn="l" pos="6462720"/>
                <a:tab algn="l" pos="6531120"/>
                <a:tab algn="l" pos="7346880"/>
                <a:tab algn="l" pos="77756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rique Agu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630360"/>
                <a:tab algn="l" pos="1400040"/>
                <a:tab algn="l" pos="2171520"/>
                <a:tab algn="l" pos="2943360"/>
                <a:tab algn="l" pos="3714840"/>
                <a:tab algn="l" pos="4486320"/>
                <a:tab algn="l" pos="5257800"/>
                <a:tab algn="l" pos="5816520"/>
                <a:tab algn="l" pos="6462720"/>
                <a:tab algn="l" pos="6531120"/>
                <a:tab algn="l" pos="7346880"/>
                <a:tab algn="l" pos="77756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630360"/>
                <a:tab algn="l" pos="1400040"/>
                <a:tab algn="l" pos="2171520"/>
                <a:tab algn="l" pos="2943360"/>
                <a:tab algn="l" pos="3714840"/>
                <a:tab algn="l" pos="4486320"/>
                <a:tab algn="l" pos="5257800"/>
                <a:tab algn="l" pos="5816520"/>
                <a:tab algn="l" pos="6462720"/>
                <a:tab algn="l" pos="6531120"/>
                <a:tab algn="l" pos="7346880"/>
                <a:tab algn="l" pos="7775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gold Communication L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630360"/>
                <a:tab algn="l" pos="1400040"/>
                <a:tab algn="l" pos="2171520"/>
                <a:tab algn="l" pos="2943360"/>
                <a:tab algn="l" pos="3714840"/>
                <a:tab algn="l" pos="4486320"/>
                <a:tab algn="l" pos="5257800"/>
                <a:tab algn="l" pos="5816520"/>
                <a:tab algn="l" pos="6462720"/>
                <a:tab algn="l" pos="6531120"/>
                <a:tab algn="l" pos="7346880"/>
                <a:tab algn="l" pos="7775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ergold Communication L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3520" y="1163520"/>
            <a:ext cx="8534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gold Encoding in WLAN Applicatio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892680" y="852480"/>
            <a:ext cx="1860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155600" y="2019240"/>
            <a:ext cx="77724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 ja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ussian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t over a sym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s from symbol to sym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mming power is a parameter of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039760" y="822240"/>
            <a:ext cx="50198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 Family of C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320840" y="2228760"/>
            <a:ext cx="7518240" cy="27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th 8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 k11: 30.25 Mb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 k10: 27.50 Mb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 k7:  19.25 Mb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GN Channel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209680" y="1879560"/>
            <a:ext cx="4905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 Family of Codes in AWGN 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154240" y="2109960"/>
            <a:ext cx="502920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GN Channel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09680" y="1879560"/>
            <a:ext cx="4905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 Family of Codes in AWGN 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155680" y="2095560"/>
            <a:ext cx="50259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Channel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09680" y="1879560"/>
            <a:ext cx="4905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 Family of Codes in Rayleigh Channel for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σ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τ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0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152800" y="2109960"/>
            <a:ext cx="502776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Channel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209680" y="1879560"/>
            <a:ext cx="4905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 Family of Codes in Rayleigh Channel for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σ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τ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0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147760" y="2119320"/>
            <a:ext cx="503244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Channel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209680" y="1879560"/>
            <a:ext cx="4905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 Family of Codes in Rayleigh Channel for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σ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τ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50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147760" y="2109960"/>
            <a:ext cx="503712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Channel + Equaliser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209680" y="1773360"/>
            <a:ext cx="49053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 Family of Codes with MMSE Equalis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Rayleigh Channel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σ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τ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152800" y="2224080"/>
            <a:ext cx="503244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Channel+Equaliser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209680" y="1773360"/>
            <a:ext cx="49053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8x k=7 Code with MMSE Equalis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Rayleigh Channel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σ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τ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149560" y="2224080"/>
            <a:ext cx="503856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Channel+Equaliser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209680" y="1773360"/>
            <a:ext cx="49053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8x k=7 Code with MMSE Equalis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Rayleigh Channel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σ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τ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0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152800" y="2224080"/>
            <a:ext cx="503244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71520" y="2403360"/>
            <a:ext cx="5740560" cy="30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ff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ff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gold En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ff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 Experiments and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ff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881440" y="833400"/>
            <a:ext cx="44244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line of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GN Channel+Jamming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209680" y="189864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 Codes in AWGN Channel with J/S = 10dB Jam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52800" y="2133720"/>
            <a:ext cx="501012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GN Channel+Jamming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209680" y="1879560"/>
            <a:ext cx="4905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 Codes in AWGN Channel with J/S = 3dB Jam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147760" y="2109960"/>
            <a:ext cx="503568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GN Channel+Jamming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209680" y="1879560"/>
            <a:ext cx="4905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 Codes in AWGN Channel with J/S = 0dB Jam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154240" y="2122560"/>
            <a:ext cx="502596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GN Channel+Jamming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209680" y="1879560"/>
            <a:ext cx="4905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 Codes in AWGN Channel with J/S = -3dB Jam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151000" y="2114640"/>
            <a:ext cx="502920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GN Channel+Jamming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209680" y="1879560"/>
            <a:ext cx="4905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 Codes in AWGN Channel with J/S = -10dB Jam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147760" y="2124000"/>
            <a:ext cx="503244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874960" y="822240"/>
            <a:ext cx="3343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12M12 C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87320" y="2076480"/>
            <a:ext cx="7518240" cy="27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12m12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th 12 codes (balanc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12M12 k11: 20.16 Mb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12M12 k8:   14.70 Mb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12M12 k4:   7.30   Mb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GN Channel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12M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28760" y="1913040"/>
            <a:ext cx="4911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12M12 Set of Codes in AWGN 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181240" y="2171520"/>
            <a:ext cx="502272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Channel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12M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206800" y="1879560"/>
            <a:ext cx="4905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12M12 Set of Codes in Rayleigh Channel (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σ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τ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0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147760" y="2114640"/>
            <a:ext cx="503244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Channel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12M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206800" y="1873080"/>
            <a:ext cx="4911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12M12 Set of Codes in Rayleigh Channel (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σ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τ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0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147760" y="2124000"/>
            <a:ext cx="503856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Channel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12M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06800" y="1863720"/>
            <a:ext cx="4905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12M12 Set of Codes in Rayleigh Channel (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σ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τ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50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147760" y="2109960"/>
            <a:ext cx="503244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346040" y="2921040"/>
            <a:ext cx="5689440" cy="22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ff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ture sequence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ff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ff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ff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924280" y="808200"/>
            <a:ext cx="3930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gold Enco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Channel + Equaliser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12M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209680" y="1773360"/>
            <a:ext cx="49053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12M12 k=11 Code with MMSE Equalise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Rayleigh Channel (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σ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τ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0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152800" y="2233440"/>
            <a:ext cx="503244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Channel + Equaliser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12M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219400" y="1773360"/>
            <a:ext cx="49053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12M12 k=11 Code with MMSE Equalise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Rayleigh Channel (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σ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τ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0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160720" y="2233440"/>
            <a:ext cx="503244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yleigh Channel + Equaliser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12M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209680" y="1773360"/>
            <a:ext cx="49053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12M12 k=11 Code with MMSE Equalise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Rayleigh Channel (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σ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τ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50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152800" y="2238480"/>
            <a:ext cx="502920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GN Channel + Jamming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12M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219400" y="1773360"/>
            <a:ext cx="49053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12M12 k=11 Code with Jamming Noise (J/S = 10dB)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WGN 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160720" y="2238480"/>
            <a:ext cx="503244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 k7 Signal Constel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6200" y="3975120"/>
            <a:ext cx="37828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826160" y="1919160"/>
            <a:ext cx="0" cy="4062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3900600"/>
            <a:ext cx="0" cy="150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14960" y="263520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4960" y="518796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22520" y="517536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79760" y="3900600"/>
            <a:ext cx="0" cy="150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64240" y="524520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22520" y="263520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64240" y="269244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905360" y="2484360"/>
            <a:ext cx="514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915160" y="3532320"/>
            <a:ext cx="514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838760" y="5037120"/>
            <a:ext cx="514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238560" y="3560760"/>
            <a:ext cx="514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23840" y="1843200"/>
            <a:ext cx="2762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p to 19.25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 k10 Signal Constel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86200" y="3975120"/>
            <a:ext cx="37828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826160" y="1919160"/>
            <a:ext cx="0" cy="4062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72200" y="3900600"/>
            <a:ext cx="0" cy="150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14960" y="263520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14960" y="518796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22520" y="517536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79760" y="3900600"/>
            <a:ext cx="0" cy="150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64240" y="524520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22520" y="263520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64240" y="269244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905360" y="2484360"/>
            <a:ext cx="514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915160" y="3532320"/>
            <a:ext cx="514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838760" y="5037120"/>
            <a:ext cx="514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238560" y="3560760"/>
            <a:ext cx="514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78280" y="263520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27920" y="391788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81520" y="519732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392760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81520" y="391176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23840" y="1843200"/>
            <a:ext cx="2762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p to 27.5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 k11 Signal Constel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986200" y="3975120"/>
            <a:ext cx="37828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826160" y="1919160"/>
            <a:ext cx="0" cy="4062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19880" y="3900600"/>
            <a:ext cx="0" cy="150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62640" y="238752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62640" y="443556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74840" y="544212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99120" y="3909960"/>
            <a:ext cx="0" cy="150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64240" y="548316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174840" y="239724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54520" y="243540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971800" y="3565440"/>
            <a:ext cx="533520" cy="3859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765600" y="3900600"/>
            <a:ext cx="0" cy="150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22720" y="3909960"/>
            <a:ext cx="0" cy="150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75160" y="3900600"/>
            <a:ext cx="0" cy="150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899320" y="3900600"/>
            <a:ext cx="0" cy="150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64240" y="294012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64240" y="345456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64240" y="448308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754520" y="497844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15040" y="237816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15040" y="341640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62640" y="339732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81320" y="339732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38640" y="339732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48000" y="238752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15040" y="443556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62640" y="543564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24400" y="543564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248000" y="443556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181320" y="443556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257720" y="542592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791240" y="5270400"/>
            <a:ext cx="533520" cy="3859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791240" y="2251080"/>
            <a:ext cx="533520" cy="3859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162840" y="3603600"/>
            <a:ext cx="514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791240" y="3270240"/>
            <a:ext cx="533520" cy="3859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095800" y="3584520"/>
            <a:ext cx="533520" cy="3859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048200" y="3603600"/>
            <a:ext cx="514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781520" y="4280040"/>
            <a:ext cx="533520" cy="3859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23840" y="1843200"/>
            <a:ext cx="2762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p to 30.25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Adaptive Sc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06668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edding channel coding at different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constellation k={7,10,11}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me correla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 constellation, change number of bits per sym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54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CK</a:t>
            </a:r>
            <a:r>
              <a:rPr b="0" lang="en-US" sz="4000" spc="-1" strike="noStrike" baseline="40000">
                <a:solidFill>
                  <a:srgbClr val="000000"/>
                </a:solidFill>
                <a:latin typeface="Times New Roman"/>
                <a:ea typeface="Times New Roman"/>
              </a:rPr>
              <a:t>™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028880" y="1873080"/>
            <a:ext cx="7620120" cy="39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1960" indent="-2919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ilar energy efficiency as C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transmit at almost three times the CCK rate for same bandwidth (30.3Mb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ises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anti-jam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52560" y="54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143000" y="1994040"/>
            <a:ext cx="58672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25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going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95360">
              <a:lnSpc>
                <a:spcPct val="125000"/>
              </a:lnSpc>
              <a:buClr>
                <a:srgbClr val="000000"/>
              </a:buClr>
              <a:buFont typeface="Symbol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 Chain (Filter + P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95360">
              <a:lnSpc>
                <a:spcPct val="125000"/>
              </a:lnSpc>
              <a:buClr>
                <a:srgbClr val="000000"/>
              </a:buClr>
              <a:buFont typeface="Symbol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 Transform De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95360">
              <a:lnSpc>
                <a:spcPct val="125000"/>
              </a:lnSpc>
              <a:buClr>
                <a:srgbClr val="000000"/>
              </a:buClr>
              <a:buFont typeface="Symbol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00440" y="811080"/>
            <a:ext cx="43959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Application Ar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255680" y="2013120"/>
            <a:ext cx="4264200" cy="37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5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-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5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ular Radio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Symbol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b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Symbol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5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-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295280" y="2209680"/>
            <a:ext cx="7277040" cy="32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buClr>
                <a:srgbClr val="ff00ff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data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ff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link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ff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ff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dwidth efficiencies up to 13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ff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ff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al modulation &amp; coding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05280" y="835200"/>
            <a:ext cx="40766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CK</a:t>
            </a:r>
            <a:r>
              <a:rPr b="0" lang="en-US" sz="3600" spc="-1" strike="noStrike" baseline="40000">
                <a:solidFill>
                  <a:srgbClr val="000000"/>
                </a:solidFill>
                <a:latin typeface="Times New Roman"/>
                <a:ea typeface="Times New Roman"/>
              </a:rPr>
              <a:t>™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941560" y="849240"/>
            <a:ext cx="3517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CK</a:t>
            </a:r>
            <a:r>
              <a:rPr b="0" lang="en-US" sz="3600" spc="-1" strike="noStrike" baseline="40000">
                <a:solidFill>
                  <a:srgbClr val="000000"/>
                </a:solidFill>
                <a:latin typeface="Times New Roman"/>
                <a:ea typeface="Times New Roman"/>
              </a:rPr>
              <a:t>™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s. C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270080" y="2019240"/>
            <a:ext cx="711216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of MBCK</a:t>
            </a:r>
            <a:r>
              <a:rPr b="0" lang="en-US" sz="3200" spc="-1" strike="noStrike" baseline="40000">
                <a:solidFill>
                  <a:srgbClr val="000000"/>
                </a:solidFill>
                <a:latin typeface="Times New Roman"/>
                <a:ea typeface="Times New Roman"/>
              </a:rPr>
              <a:t>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F-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R of MBCK</a:t>
            </a:r>
            <a:r>
              <a:rPr b="0" lang="en-US" sz="3200" spc="-1" strike="noStrike" baseline="40000">
                <a:solidFill>
                  <a:srgbClr val="000000"/>
                </a:solidFill>
                <a:latin typeface="Times New Roman"/>
                <a:ea typeface="Times New Roman"/>
              </a:rPr>
              <a:t>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s. C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system band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ative 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se the MBCK</a:t>
            </a:r>
            <a:r>
              <a:rPr b="0" lang="en-US" sz="3200" spc="-1" strike="noStrike" baseline="40000">
                <a:solidFill>
                  <a:srgbClr val="000000"/>
                </a:solidFill>
                <a:latin typeface="Times New Roman"/>
                <a:ea typeface="Times New Roman"/>
              </a:rPr>
              <a:t>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925720" y="833400"/>
            <a:ext cx="3517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CK</a:t>
            </a:r>
            <a:r>
              <a:rPr b="0" lang="en-US" sz="3600" spc="-1" strike="noStrike" baseline="40000">
                <a:solidFill>
                  <a:srgbClr val="000000"/>
                </a:solidFill>
                <a:latin typeface="Times New Roman"/>
                <a:ea typeface="Times New Roman"/>
              </a:rPr>
              <a:t>™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s. C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270080" y="1903320"/>
            <a:ext cx="716292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ative study of MBCK</a:t>
            </a:r>
            <a:r>
              <a:rPr b="0" lang="en-US" sz="3200" spc="-1" strike="noStrike" baseline="40000">
                <a:solidFill>
                  <a:srgbClr val="000000"/>
                </a:solidFill>
                <a:latin typeface="Times New Roman"/>
                <a:ea typeface="Times New Roman"/>
              </a:rPr>
              <a:t>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s. C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yleigh f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yleigh fading + Equa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975040" y="865080"/>
            <a:ext cx="3473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yleigh Cha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231920" y="2755800"/>
            <a:ext cx="685800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Exponential decaying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MSamples/s sampling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 spreads used: 10, 20 and 50 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692520" y="833400"/>
            <a:ext cx="2470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270080" y="2273400"/>
            <a:ext cx="6629400" cy="27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SE equali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ect channel 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t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p coefficients updated per sym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 L. E. Aguado</dc:creator>
  <dc:description/>
  <dc:language>en-US</dc:language>
  <cp:lastModifiedBy>Luke</cp:lastModifiedBy>
  <cp:revision>0</cp:revision>
  <dc:subject/>
  <dc:title>Tdoc IEEEE 00/62</dc:title>
</cp:coreProperties>
</file>