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119-BCCA-40D2-B836-28BA51E1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0C6-6D18-4810-BB44-A5B3C4C6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CB7-7C2E-4890-B8AB-A7C371D8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905-E6F3-466F-9468-A56558F3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3CD-CFA6-4A98-AED8-9204A6BF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B06-ABD8-4F8D-B9D8-D2F2DEBE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B3F-BEF4-4DAB-BE5C-99DFB477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C92-9F50-4F1D-B7FA-656CAB0D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CAD-19E7-46F2-B29E-2B14E750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02F-F0B7-43AD-AE5D-8D227FA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8CD-E8DC-463E-9C40-3847B02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A1A-798D-4AE3-9041-D16CDA3D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et 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C26435-1BFB-48E2-A83D-612A044C2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720" y="6446880"/>
            <a:ext cx="139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in an IAP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 an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Technology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t_col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177300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56C-B0EF-46E2-97F1-C4ADA20E0A0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Submission on I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4/17 – The Provisions Required for Handoff, Wim Diepstr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5/188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Far Should an ESS Ext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, Michael Fis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/108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 Inter Access Point Protocol (IAPP) Spec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m Diepstraten and Mike Trom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C00-9AAC-4EA1-A5D5-4083AFC4FB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4/17 – Provisions for Hand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P must inform old AP when a station reassoci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P must inform DS of the new location of the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AP may forward buffered frames for reassociating station to new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416-905C-4C0B-BDD8-1867AB1CB8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5/188 ESS Ex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s mostly with the definition of and extended servic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s that an ESS comprise only layer 2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s “More Extended Service Set (MESS)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s that this be used for any ESS including items above lay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that an IAPP would be a fruitful area to standard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0E5-59CC-4A38-9640-74E3AF45C5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6/108 Draft IAPP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two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unce protocol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tion of active 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announcement of capabilities and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“heartbea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d management and configuration of 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ver protocol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fication of old AP that a station is reassociating with a new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of layer 2 DS devices to properly forward frames to reassociating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prietary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B79-22CB-4E37-97BA-CC8A126DA5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6/108 Draft IAPP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 and handover protoco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statio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PP capabilities and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 announce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stale-ou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ver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con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313-720A-405A-9E23-3385A06433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ndover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s association with old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s layer 2 DS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optional forwarding of buffered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4DC-D2F3-4A14-A8BF-8FC8EB0119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ight B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AP configuration/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of APs in an 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 2 on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of basic AP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of “no touch” out-of-box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nfiguration of one 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“heartbe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useful if there is a way to integrate it with standard network management 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739-48AD-40ED-A048-6E39B8F250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Harry R. Worstell</cp:lastModifiedBy>
  <cp:lastPrinted>1998-02-10T13:28:06Z</cp:lastPrinted>
  <dcterms:modified xsi:type="dcterms:W3CDTF">2000-05-16T01:41:30Z</dcterms:modified>
  <cp:revision>48</cp:revision>
  <dc:subject/>
  <dc:title>00/064a What Should Be In An IAPP?</dc:title>
</cp:coreProperties>
</file>