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D33-406C-42CA-BEE2-07BDC106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54C-CE00-4EC8-B82C-C1239455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2F4-C9CC-4682-9795-90E06F99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40FF-21E3-4EA1-ADC9-944B6398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542-0E37-40B8-9BAA-293B8131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CCF-B1D5-48C9-BE9F-B8217F1D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077-CB2A-4ADC-B82F-3EA13476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338-27AA-4F74-95C4-BD1517F3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1CC-E746-4D8B-B866-E4E5223F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B1F-A1F0-4840-9ED1-921A83F0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941-0FA5-44AB-B26A-B35CFAB1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9D7B-A242-4E4C-817F-513B5032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et 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8CB396A-54FB-40AD-ADA9-0CA909880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720" y="6446880"/>
            <a:ext cx="1555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izing for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izing for Qo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QoS Ques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ert Yo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 Ness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ce Kend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fu 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t_col" descr=""/>
          <p:cNvPicPr/>
          <p:nvPr/>
        </p:nvPicPr>
        <p:blipFill>
          <a:blip r:embed="rId1"/>
          <a:stretch/>
        </p:blipFill>
        <p:spPr>
          <a:xfrm>
            <a:off x="6705720" y="4572000"/>
            <a:ext cx="1773000" cy="184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5EA-57CB-4C6F-891B-1715D93035B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Proce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there is a common understanding of just what “QoS”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requirements against which alternatives may be jud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BD2-0D56-4CEC-A9F8-A94ACD1901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Q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an action, behavior, or something el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QoS measu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it be measu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AP primitives are used to request/control Q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rotocols are on the other side of this S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parameters that cross this S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ould current IETF developments work with this S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d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9A3-2B0A-40C8-B88F-722C91AB4F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upper layer protocols support/require QoS from the Data Link/MAC lay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802.1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QoS supported by existing OS AP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OS APIs are proposed to be added to support QoS at the MAC lay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we expecting to add these AP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 vendo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 develop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EA0-C588-414E-A956-1CD358AFA2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alternative proposals be evalu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mula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finitive impact statement on existing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pparent demand for QoS in LAN space, let alone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fined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RFCs require/support the proposed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apping to upper layer protoco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concrete benefits provided by the proposed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B94-0DEF-4983-AE88-A25E321E5A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Bob O'Hara</cp:lastModifiedBy>
  <cp:lastPrinted>1998-02-10T13:28:06Z</cp:lastPrinted>
  <dcterms:modified xsi:type="dcterms:W3CDTF">2000-05-08T15:35:06Z</dcterms:modified>
  <cp:revision>42</cp:revision>
  <dc:subject/>
  <dc:title>00/066 QoS Questions</dc:title>
</cp:coreProperties>
</file>