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510-2590-4EE7-B8F3-882B08B7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23B-5755-48E5-9A96-1D599442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53B-8547-4B52-9775-5E64819B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D54-D7FF-4A49-9E9D-B490D171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260-6013-4F32-BCD2-FABC4F55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155-AEF2-4A77-BA96-EE218D8D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D13-C265-4697-898B-7D60C53A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FA0-017D-4D48-A7AC-332A97E6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798-F5D7-4C1F-A2FB-C3BE5EE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E8F-C51D-40E1-AD25-3EBBE10F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C2B-DF72-4348-9008-F38F48C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0E3-FE0C-45BD-BBC0-DC5A5D8C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746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57680" y="6474960"/>
            <a:ext cx="2152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Kowalski, Sharp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FAD39F-2EB8-4EB9-AAD1-4F551228C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medi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 802.11 MAC Enhancemen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917-E5F9-4692-A1B4-998A0AECDC9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media Synchronization and 802.11 MAC Enhancemen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tions for delay synchronization in SOHO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ed function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ks on submitted propos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38B-8AE0-4F58-BB5E-1C95D04953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s for delay (1 of 2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significant to user/cont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  Physical layer FEC coding dela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 Any FEC added on at higher layers if significa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. Retransmit delays through the network(s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4. Delays to account for STA’s joining the net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ABD-D49F-4869-8811-30FD30A304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s for delay (2 of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6. Synchronization schemes, if possible, should enable new devices to join a network  in mid-transmission and during handof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7. Control applications that exist concurrently and interact with AV streaming should have low delay perceptible to the user. (SOHO video remote?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FF1-2648-4CD5-B5C1-F0CC401402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elay buffers can be assumed to  exist at terminal devices  in the network, and are  adjustable based on communication from the network .  For some kinds of traffic packets are timestamped.   Data need not be timestamped if synchronization is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D45-1A37-42EE-8A48-D36E1238F4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communication of delays should be sent to a central point – for 802.11 applications we can assume this would be the  Point Coordinator- to determine the delay required for synchronizing all devi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60D-BA88-4C78-9443-3FB3E96C09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rks on submitted propos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rioritization based on 802.1q ta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LAN related delays need to be communicated at higher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arewave, 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ears to support requirem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ndoff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1A8-10E7-4B32-A293-C18AAC7876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rks on submitted 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lear how streaming synch can be supp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PP proposal doesn’t explicitly support communication of delay parameters.  (Consider source handing of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41D-C7C5-40C1-84B8-4B7852A2EE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4:58:53Z</dcterms:created>
  <dc:creator>John Kowalski</dc:creator>
  <dc:description/>
  <dc:language>en-US</dc:language>
  <cp:lastModifiedBy>Harry R. Worstell</cp:lastModifiedBy>
  <cp:lastPrinted>1998-02-10T13:28:06Z</cp:lastPrinted>
  <dcterms:modified xsi:type="dcterms:W3CDTF">2000-05-08T18:34:10Z</dcterms:modified>
  <cp:revision>5</cp:revision>
  <dc:subject/>
  <dc:title>Multimedia Synchronization and 802.11 MAC Enhancements </dc:title>
</cp:coreProperties>
</file>