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32A-9D32-44F8-9CCA-D6B7F8A1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C96-7556-45A0-BC1D-46DCC1DB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6AD-25DF-4D52-8D78-8D7A53DE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5BC-E0C1-4A6A-B3E9-C71756B8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D05-8FDE-435D-9DBA-419075A8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65A-F3FF-49F2-BBCB-D4C0EF4D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B02-96B1-4ACA-AFE7-9111651D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C19-6F9C-40D0-9458-A1A1CB2D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5ED-821B-417D-8208-8B4C7A32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74D-2872-4AF5-AC40-102A72E7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C97-95AF-4C71-B2D9-C2061B0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CEA-E532-4A65-95FF-7DC294F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85720" y="6474960"/>
            <a:ext cx="84780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74014B-6B09-4812-B40C-50DF5E648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chnical Feasibility of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reading Codes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or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2670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70E-0714-45B5-89D5-1F6E4547FA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1560" y="1019880"/>
            <a:ext cx="63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802.11b 11 Mbps CCK vs. P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3240" y="2180160"/>
            <a:ext cx="733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CC is FEC-code bas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-- Rate 1/2, K=7, Viterbi with QPSK sign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K is spreading code b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benefit of spreading co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the properties of CCK and FEC-Coded P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tend to 22 and 33 Mbps for HR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24D-58CD-4FD1-8D1F-A28E14175F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59720" y="731520"/>
            <a:ext cx="61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1 Mbps CCK vs. FEC-Coded QP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 Only Thermal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2291400"/>
            <a:ext cx="3429000" cy="32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C QPSK is ~3 dB better tha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CCK in thermal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C QPSK is ~1.5 dB bett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han 12 Mbps 802.11a OFDM 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hermal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 thermal noise 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important, but multipath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multipath + noise are oth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dominate challe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ath is almost alway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present in WLAN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533840" cy="354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67F-DB17-422C-89F0-55BE748A64D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8800" y="2133720"/>
            <a:ext cx="7184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ath is a dominant WLAN 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ath exists a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gnal-streng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band processor complexity driven by multi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OFDM and CCK use transmit signal desig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o help combat multi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DM uses guard intervals and narrowband multicarrier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o combat multi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K uses spreading codes to combat multi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ing codes have optimized auto-and-cross correlation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ing codes maintain large signal distance in multipa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-- Helps desensitize signal to multipath frequency no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C-coded PSK signal sequences can be sensitive to multipath fad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--  Short data patterns can be correlated with the multipa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to produce some pattern-dependent fading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--  Equalization can be used to counter this eff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93640" y="731520"/>
            <a:ext cx="412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ransmit Sign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or Multipath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A7C-DFB6-408A-A7B3-05CB3ED41F1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4280" y="4724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251460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514600"/>
            <a:ext cx="20574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4724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4600" y="266688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6668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840" y="25135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2787840"/>
            <a:ext cx="6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666880"/>
            <a:ext cx="762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7080" y="2102760"/>
            <a:ext cx="7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4600" y="487692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257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8769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997880"/>
            <a:ext cx="6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7621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6880" y="281952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ulti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266688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0440" y="2787840"/>
            <a:ext cx="7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26668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02560" y="2894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9240" y="26668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666880"/>
            <a:ext cx="106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2666880"/>
            <a:ext cx="9903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3048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89400" y="245304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7080" y="4312440"/>
            <a:ext cx="7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6880" y="502920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ulti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876920"/>
            <a:ext cx="914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0440" y="4997880"/>
            <a:ext cx="7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4876920"/>
            <a:ext cx="7617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02560" y="510444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9240" y="4876920"/>
            <a:ext cx="7617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6080" y="4876920"/>
            <a:ext cx="8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4876920"/>
            <a:ext cx="990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5257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89400" y="46627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840" y="472320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4440" y="761040"/>
            <a:ext cx="716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CK vs. FEC QPSK w/CMF Receiver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 Eq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0440" y="34448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080" y="563868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21040" y="563868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34290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057400"/>
            <a:ext cx="7924680" cy="1981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267080"/>
            <a:ext cx="7924680" cy="1905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7320" y="20563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CK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7320" y="42660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EC-coded 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00440" y="1279440"/>
            <a:ext cx="100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500200">
            <a:off x="6705360" y="1600200"/>
            <a:ext cx="152280" cy="1447920"/>
          </a:xfrm>
          <a:prstGeom prst="downArrow">
            <a:avLst>
              <a:gd name="adj1" fmla="val 50000"/>
              <a:gd name="adj2" fmla="val 237707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546-1A64-4DFF-B66D-C247C9FDE80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6880" y="684720"/>
            <a:ext cx="7364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CK vs. FEC QPSK in Multipath-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MF Receiver w/o Eq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Exponential Fading channel with 1 sample/c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2212560"/>
            <a:ext cx="33526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K is 40% better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his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ing cod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provide th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ing codes are no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st another form of FE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ddition, CCK’s complex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is less in this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lization ca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boost both CC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and FEC-coded 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4429080" cy="35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AAF-4FC2-498D-9609-8D2A156B1A0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720" y="94392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CK vs. FEC-Coded QPSK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MF Receiver w/o 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13800" y="1720800"/>
            <a:ext cx="6502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cal complexity except for decoder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K decoder requir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Fast CCK Transform (efficient adds/subtrac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-- 60% reduction in correlator complexi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Compute FCT once every 8 chips (1.375 MHz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C-coded QPSK decoder requir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Soft-decision generator for 2 bits (11 MHz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Branch metric computation for 4 dibits (11 MHz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Add-compare-select logic for 64 states (11 MHz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Trellis-updating every chip (11 MHz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Traceback memory requir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Partial traceback output for PLL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BE3-2B8A-4B44-8495-A4335147017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11360" y="943920"/>
            <a:ext cx="75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1 Mbps CCK vs. FEC-Coded PSK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60000" y="1857600"/>
            <a:ext cx="53985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CK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low-complexity o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for quick to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t, provides higher-performance o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when equalizer is ad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bout 22 and 33 Mb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4067280"/>
            <a:ext cx="7052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EC-Coded PSK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3 dB more performa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n noise-only environ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izer can be used to boost multipath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bout 22 and 33 Mb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F09-5D32-4CCD-87B8-49C1D0F8923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6320" y="2028600"/>
            <a:ext cx="74725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ing codes can provide advantag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-- Help combat multipath interfere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CK and FEC-coded PSK proper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tend to 22 and 33 Mbps is current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nder investi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lization requisite for very high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b should examine multiple sign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97600" y="91368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0AB-15C5-448B-A4D0-EF17CCA22EB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Mark Webster</cp:lastModifiedBy>
  <cp:lastPrinted>2000-05-05T13:49:50Z</cp:lastPrinted>
  <dcterms:modified xsi:type="dcterms:W3CDTF">2000-05-08T13:38:04Z</dcterms:modified>
  <cp:revision>75</cp:revision>
  <dc:subject/>
  <dc:title>No Slide Title</dc:title>
</cp:coreProperties>
</file>