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A6D2-F2EA-4D89-9F92-7CC1E1E3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769F-8642-4B39-A5AA-ECC4BF04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95FB-4E07-4054-8BDB-3341F933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A48E-AC09-403C-9F9B-7D921095F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0FC5-BF23-416E-A738-D60C6D8C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7F38-E2A3-4AA4-926D-E6A07F55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0AD6-7078-4B28-8259-C27C818C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B735-E2C7-446F-A576-C7D7309E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3AC0-188D-49B2-8C86-68F79BBA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0AE9-A78B-44A9-B892-1F6E1A5B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CFC5-A73D-483A-9514-6E13A7B5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A8D8-AD73-4549-95B6-858F58A0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85720" y="6474960"/>
            <a:ext cx="84780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F9C7261-B78C-4687-AB75-16D8D8DBD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7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echnical Feasibility of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CK Extensions for HR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4038480"/>
            <a:ext cx="6400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 Webster and Carl And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sil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y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5145-6B01-4230-9037-BA768702E56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76200" y="974160"/>
            <a:ext cx="649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form to Current Regulatory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28640" y="1658880"/>
            <a:ext cx="5762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A’s FCC, Japan’s MPT and Europe’s ETSI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mize the time-to-market by conform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to the current FCC rule set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oid a lengthy FCC debate with a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uncertain outcome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oid burdening 802.11 with the need t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lobby the FCC to assume a new posi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different than the NPRM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oids opening the 2.4 GHz band up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detrimental, under-regulated sign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76B0-66D6-4D7D-BA75-E4FAF025F1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04760" y="913680"/>
            <a:ext cx="480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arget at Least 33 Mb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37960" y="1734120"/>
            <a:ext cx="6590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 Mbps HRb may not provide adequat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roughput rates for desired application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 Mbps appears to provid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significantly higher throughput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Rb standard should provide a path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data rates higher than 22 Mbps, if feasible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oids a need to return the standard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process ye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995D-5057-4D40-B735-880B4711D4EA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41040" y="913680"/>
            <a:ext cx="494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CK Extensions for HR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1809360"/>
            <a:ext cx="736884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-data-rate extensions to the CCK wavefor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exist which are compatible with the FCC rul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(spreading cod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-data-rate extensions to the CCK wavefor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exist which reach a minimum of 33 Mb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CK extensions perform well i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thermal noise (AWG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re currently analyzing the performan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for multipath and multipath-plus-no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16A0-79AD-4870-BC32-93C643078AF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Mark Webster</cp:lastModifiedBy>
  <cp:lastPrinted>2000-05-05T18:35:17Z</cp:lastPrinted>
  <dcterms:modified xsi:type="dcterms:W3CDTF">2000-05-08T13:35:08Z</dcterms:modified>
  <cp:revision>51</cp:revision>
  <dc:subject/>
  <dc:title>No Slide Title</dc:title>
</cp:coreProperties>
</file>