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597-4F6A-4BF4-8DF7-1C1BDBDB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586-F411-43ED-BB3F-B9F40A36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5AA-7AFD-4698-A2D4-088B9D46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4DC-6AEF-499B-8274-8C4DE51E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F01-0640-424D-A791-14FF936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6D8-E6DC-46F1-B48F-5159F9D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EB0-A02B-4D4E-A358-07A68E9B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CE9-6CA2-4021-981B-E00844DD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169-3AB0-4EBD-A622-F28ECC2E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641-0C37-4144-BB0E-0775772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91D-2EFA-4185-A650-554908E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792-FD01-419C-BD3E-14BBD74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F2BF02-1F4C-401D-AFB6-DA825B64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coordination of regulatory mat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, Regulatory Ombud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DA8-2BDF-49F6-91F0-6C475AE2CC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Executive Committee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budsman Regulatory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 supposedly voted in this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ces in the minutes,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asks: to make Policy and Procedures for contacts to the External world in the LMSC Operat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F82-7A2C-462A-A014-EA883DABC6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matters have been executed by 802.11 for so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with ITU-R was unclear and needs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3 wireless groups in LMSC, coordination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ion with a member of the EMC Society regarding our recent FCC filings revealed coordination within the Standards Association was required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D79-39E6-45BD-A103-AE8BF06DED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on within IEEE Standards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m Carlo started an ad-hoc group within the Standards Association (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make a Policy and Procedure for the 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on from LMSC, EMC, SCC28, Medical Devices, Nuclear Power Engineering Committee's (NP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772-0F2B-485F-9445-C09A59D284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0:53:09Z</dcterms:created>
  <dc:creator>vichayes</dc:creator>
  <dc:description/>
  <dc:language>en-US</dc:language>
  <cp:lastModifiedBy>vichayes</cp:lastModifiedBy>
  <cp:lastPrinted>1998-02-10T13:28:06Z</cp:lastPrinted>
  <dcterms:modified xsi:type="dcterms:W3CDTF">2000-05-08T15:29:37Z</dcterms:modified>
  <cp:revision>2</cp:revision>
  <dc:subject/>
  <dc:title>New Executive Committee function</dc:title>
</cp:coreProperties>
</file>