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0CA-A256-4ED5-BBE8-7EE3F9AA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DCF-71EA-4CBE-8763-DE0EA8BE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DB4-F6FB-473E-96BF-338CE519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871-FAEB-475E-B9B5-07E05585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8E7-2C03-44E3-9F31-D6160F56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E97-10FF-4777-8C2D-33E11771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DF6-DF9F-4DFA-9909-F4FC28C6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0E36-4944-4FCB-88E1-5DCF7DA5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B97-12C6-4C12-BC5B-52348430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595-6CB9-49EC-A37B-4A9896D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6F1-3196-4376-A60F-A5C1F2D6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8FC-C88E-4A62-9932-C21BBAC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62C914-A56F-40C5-9FA9-4F0A7487C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Regulatory mat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Regulatory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A54-46EE-41F3-8E10-523E61D287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CC Docket 99-2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eding is in the final stages of the ex-parte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documents in this proc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asked industry to make a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CA submitted a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DBE-0367-4953-AE78-7B8599C287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CA Compromise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4 MHz wide, non-overlapping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Tx power 60 m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rate for WBFH 2.5 - 100 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20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eiver sensitiv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8CF-04BE-4431-B655-E90E45A858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im filed a Rebut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isits paid to the FCC by parties for and against the WBFH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CA is still talking to CUBE to reach a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9C0-71D9-4451-ABD2-26804C7398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-RA 5 GHz consul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letter was 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-RA made a “Straw-man proposal” see doc.: 11-00/0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organised a conference to hear all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(through me) invited to participate i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359-AF0A-45BD-9F88-1E413D8ACC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for this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actions required regarding FCC Docket ET 99-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presentation for UK-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115-FCF8-469B-B8EF-7CE4262A00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30B-C40D-40D1-949D-574C74329A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0:53:09Z</dcterms:created>
  <dc:creator>vichayes</dc:creator>
  <dc:description/>
  <dc:language>en-US</dc:language>
  <cp:lastModifiedBy>vichayes</cp:lastModifiedBy>
  <cp:lastPrinted>1998-02-10T13:28:06Z</cp:lastPrinted>
  <dcterms:modified xsi:type="dcterms:W3CDTF">2000-05-08T15:36:28Z</dcterms:modified>
  <cp:revision>3</cp:revision>
  <dc:subject/>
  <dc:title>New Executive Committee function</dc:title>
</cp:coreProperties>
</file>