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0EB1-A34B-4573-B36B-75B732C0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1073-2776-4060-90AC-EE2F4C6C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85F-BAA2-4C6D-B563-E2DC8A59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F52-C2F3-4DE9-8AF0-379F0920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939-68E5-41CF-81EC-37C23F67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A0A-EF32-42A4-AF07-931B2CA1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DD3-0F28-4564-BE96-382CB7E9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D8C-DBAE-481F-82D3-33F3E60E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AD2D-B95C-4776-BBC3-79D6EB92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A6A5-F022-45FA-BFA9-6E636285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1A48-0C82-4212-B414-35A208D8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918-AF0B-4043-B21D-312293CB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7A7A84-88D9-44D0-8470-76B8B0898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-Hoc Marketing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Pet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1B1-B538-4E3F-8CCD-6A701651F71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1 Ad-Hoc Marketing Gro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te a common marketing WG story for the WLA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eting Col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view and adop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802.15 marketing templ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s rele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l marketing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ssible on  the 802.11 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ck and align meetings with other industry groups, and con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lish liais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02.15 W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02.16 Wireless Broadband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reless Ethernet Compatibility Alliance (WE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L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TSI – Br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ther Wireless Foru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BF0-F41F-47D3-810C-E93A732B86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– Hoc Marketing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a number documents and procedures used by IEEE 802.15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ing Requirement Document (M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erence(s) for 2000 - 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aterals materi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 for Next Meeting In July-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joint meetings with 802.11/15 at the           July-00 Plenary and continue review of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ion collateral material for the IEEE 802.11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2F8-E5A0-4C19-8001-EB9EC4A2EA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tional Wireless Packaging Consortium (IW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s Only!!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ed by In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Impact"/>
              </a:rPr>
              <a:t>Future...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Impact"/>
              </a:rPr>
              <a:t>Bluetooth, Home RF, WLAN &amp;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Impact"/>
              </a:rPr>
              <a:t>Automotive Wireless Packaging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Impact"/>
              </a:rPr>
              <a:t>May 15-17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Impact"/>
              </a:rPr>
              <a:t>Ho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Impact"/>
              </a:rPr>
              <a:t>The OMNI Richardson Hotel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Impact"/>
              </a:rPr>
              <a:t>701 East Campbell Rd.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Impact"/>
              </a:rPr>
              <a:t>Richardson, TX  75081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Impact"/>
              </a:rPr>
              <a:t>TEL:  972-231-9600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Impact"/>
              </a:rPr>
              <a:t>FAX:  972-231-7384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Impac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Impact"/>
              </a:rPr>
              <a:t>IEEE 802.11 and IEEE 802.15 overview…..May 16</a:t>
            </a:r>
            <a:r>
              <a:rPr b="0" lang="en-US" sz="2000" spc="-1" strike="noStrike" baseline="30000">
                <a:solidFill>
                  <a:srgbClr val="3333cc"/>
                </a:solidFill>
                <a:latin typeface="Impact"/>
              </a:rPr>
              <a:t>th</a:t>
            </a:r>
            <a:r>
              <a:rPr b="0" lang="en-US" sz="2000" spc="-1" strike="noStrike">
                <a:solidFill>
                  <a:srgbClr val="3333cc"/>
                </a:solidFill>
                <a:latin typeface="Impact"/>
              </a:rPr>
              <a:t>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Impact"/>
              </a:rPr>
              <a:t>Representing WGs as  NON-members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5184-2011-4746-9C27-7B5B25DB33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ic Design’s Communications Workshop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-Range Wireless Networking:                              Cutting The Umbilical C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 26-28  Chicago 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ndam Hotel Northwest Chic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dworkshop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nel Discussion…..June 27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meRF, Bluetooth, IEEE 802.11, IEEE 802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pic: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o-existence of Wireless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EF1A-EACE-42CD-91CD-6E0F02FEBA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reless Communications Association International (WC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wca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mary focus: Fixed Point Wireless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CA2000 - New Orl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Morial Convention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New Orleans, LA, U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ly 9-12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nlicensed Spectrum Panel Discus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July 9</a:t>
            </a:r>
            <a:r>
              <a:rPr b="1" lang="en-US" sz="1800" spc="-1" strike="noStrike" baseline="30000">
                <a:solidFill>
                  <a:srgbClr val="3333cc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…Mon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Wireless PANs to LANs to WANs; How Far Can They G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195-E164-497C-BBEC-56902C1369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Design Maga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LAN standards and protocol colu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d 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on 802.11 and 802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article published in September – 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 columnist: Bob He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host writers from the working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A59-D4FF-4DF9-ADF6-ACF48D013A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s Relea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a press release on the FCC-NP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8452-DC02-4FC4-BBE0-55198B98ED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mpower the vice-chair of IEEE 802.11 to draft a press release in response to the NPRM doc 99-231, post the letter on the reflector for review, host a teleconference call with an ad-hoc group along with the chair of  IEEE 802 and SEC for approval, and release to the media for pr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6B4-E792-424A-B03C-D11D131C71B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22:42:52Z</dcterms:created>
  <dc:creator>Jesse Russell</dc:creator>
  <dc:description/>
  <dc:language>en-US</dc:language>
  <cp:lastModifiedBy>Harry R. Worstell</cp:lastModifiedBy>
  <dcterms:modified xsi:type="dcterms:W3CDTF">2000-07-19T14:49:19Z</dcterms:modified>
  <cp:revision>17</cp:revision>
  <dc:subject/>
  <dc:title>No Slide Title</dc:title>
</cp:coreProperties>
</file>