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543-39B3-46AF-A354-6D49A1D2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49C-0F34-4EC2-8AAD-C3823DE5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6648-C5B8-43C5-8842-B139251C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217F-35F1-4C87-9F37-92E96C6B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E1B8-DAAB-4644-A49E-2C4310FD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732-D725-4C5B-95AA-7414E1C8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42AC-0B58-4049-8F9C-8EE2DE86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0E1F-E8A3-4DE2-A32B-A4DB6800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16B-78FC-457F-874E-39453729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8CD-37E5-4C24-8242-FCD30F59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FE56-9FD4-45CA-8402-397CD432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305-C332-4BD8-B28A-513AD306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509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/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s Kuwahara,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288CD1A-3E28-4409-B862-04F0C09EC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83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GHz Worldwide A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LAN D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LAN 11Mbit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s Kuwah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5-957-53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011D-D61D-4406-A57B-E111405491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LAN 5GHz 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 -- 189 Mem State,  600+ Sector 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R, ITU-T, ITU-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R;  JRG;  U.S. Del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trum Sh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ellite / Radar / WL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WLAN input -- ET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E 802.11 meeting 8 - 11 May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0E70-0C4B-4299-9967-39C7608729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11680" y="1906560"/>
            <a:ext cx="1139760" cy="530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8108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4160" y="2897280"/>
            <a:ext cx="1139760" cy="530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38680" y="2895480"/>
            <a:ext cx="106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U-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11680" y="2897280"/>
            <a:ext cx="1139760" cy="530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289548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U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5160" y="2897280"/>
            <a:ext cx="1139760" cy="530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2895480"/>
            <a:ext cx="106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U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380988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RG 8A-9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99320" y="4537080"/>
            <a:ext cx="72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2438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2438280"/>
            <a:ext cx="1295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895120" y="243828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4191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46520" y="1870200"/>
            <a:ext cx="141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133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286-8567-4C4C-94EB-83DDA94927A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851040" cy="9270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685800" y="838080"/>
            <a:ext cx="6686640" cy="1644840"/>
            <a:chOff x="685800" y="838080"/>
            <a:chExt cx="6686640" cy="1644840"/>
          </a:xfrm>
        </p:grpSpPr>
        <p:sp>
          <p:nvSpPr>
            <p:cNvPr id="66" name=""/>
            <p:cNvSpPr/>
            <p:nvPr/>
          </p:nvSpPr>
          <p:spPr>
            <a:xfrm>
              <a:off x="685800" y="838080"/>
              <a:ext cx="1217520" cy="164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03320" y="838080"/>
              <a:ext cx="32608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504720"/>
                  <a:tab algn="l" pos="755640"/>
                  <a:tab algn="l" pos="1008000"/>
                  <a:tab algn="l" pos="1260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TERNATIONAL TELECOMMUNICATION UN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04720"/>
                  <a:tab algn="l" pos="755640"/>
                  <a:tab algn="l" pos="1008000"/>
                  <a:tab algn="l" pos="1260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64200" y="838080"/>
              <a:ext cx="2071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504720"/>
                  <a:tab algn="l" pos="755640"/>
                  <a:tab algn="l" pos="1008000"/>
                  <a:tab algn="l" pos="1260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04720"/>
                  <a:tab algn="l" pos="755640"/>
                  <a:tab algn="l" pos="1008000"/>
                  <a:tab algn="l" pos="1260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39760" y="1477800"/>
              <a:ext cx="326088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504720"/>
                  <a:tab algn="l" pos="755640"/>
                  <a:tab algn="l" pos="1008000"/>
                  <a:tab algn="l" pos="1260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ADIOCOMMUNICATION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UDY GROU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04720"/>
                  <a:tab algn="l" pos="755640"/>
                  <a:tab algn="l" pos="1008000"/>
                  <a:tab algn="l" pos="1260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00640" y="1477800"/>
              <a:ext cx="207180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504720"/>
                  <a:tab algn="l" pos="755640"/>
                  <a:tab algn="l" pos="1008000"/>
                  <a:tab algn="l" pos="1260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ocument 8A-9B/180-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04720"/>
                  <a:tab algn="l" pos="755640"/>
                  <a:tab algn="l" pos="1008000"/>
                  <a:tab algn="l" pos="1260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 February 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04720"/>
                  <a:tab algn="l" pos="755640"/>
                  <a:tab algn="l" pos="1008000"/>
                  <a:tab algn="l" pos="1260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riginal: English on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04720"/>
                  <a:tab algn="l" pos="755640"/>
                  <a:tab algn="l" pos="1008000"/>
                  <a:tab algn="l" pos="1260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914400" y="1981080"/>
            <a:ext cx="19051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4230720"/>
                <a:tab algn="l" pos="477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. 7C/TEMP/148(Rev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30720"/>
                <a:tab algn="l" pos="477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2666880"/>
            <a:ext cx="2057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Party 7C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3429000"/>
            <a:ext cx="754380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50472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STATEMENT TO Joint Rapporteurs Group 8A-9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0472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HARING IN THE BAND 5 250-5 350 MHz BETWEEN THE EARTH EXPLORATION-SATELLITE SERVICE (ACTIVE) ALLOCATED IN THI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ND AND THE RADIO LOCAL AREA NETWORKS (RLA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0472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0472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yran Hunnycutt J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0472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is is 01048R-JRG_8A-9B_Band_Sha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0472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0E9-87B9-4F5A-8C28-4920DAF16F7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Denis Kuwahara</dc:creator>
  <dc:description/>
  <cp:keywords>JRG 8A-9B Spectrum Sharing</cp:keywords>
  <dc:language>en-US</dc:language>
  <cp:lastModifiedBy>Denis J. Kuwahara</cp:lastModifiedBy>
  <cp:lastPrinted>1998-02-10T13:28:06Z</cp:lastPrinted>
  <dcterms:modified xsi:type="dcterms:W3CDTF">2000-05-09T17:46:55Z</dcterms:modified>
  <cp:revision>8</cp:revision>
  <dc:subject>5GHz World Wide Spectrum Allocation</dc:subject>
  <dc:title>ITU Process</dc:title>
</cp:coreProperties>
</file>