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E32-035C-418C-BB1C-5CFF0E1A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214-7A00-406C-B27E-584A6AD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9C6-D126-4517-89E9-116C3B7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568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25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491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568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25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328-1FFD-4F46-ADEC-E7081E2B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170-4EBA-48F0-838E-0881D07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369-F86C-4C3A-8CBA-30146BC8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58B-284D-4003-91A9-931FFBBF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C9D-2276-4674-B625-10A2CFF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1DE-DD50-4D10-BFC5-B2B35D6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420-92FE-4FE0-8AED-D43E7C4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DEA-58F8-4C1C-AA06-D872B6B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922-E8BE-4F90-8A0E-D87F755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+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n1_CMYK" descr=""/>
          <p:cNvPicPr/>
          <p:nvPr/>
        </p:nvPicPr>
        <p:blipFill>
          <a:blip r:embed="rId2"/>
          <a:stretch/>
        </p:blipFill>
        <p:spPr>
          <a:xfrm>
            <a:off x="7731000" y="6197760"/>
            <a:ext cx="123516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71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86400" y="6474960"/>
            <a:ext cx="1323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Gray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454280" y="6474960"/>
            <a:ext cx="314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Brief Summary of Codec Tests for IS-95A, IS-95B and IS-2000 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n D. G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077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1523520"/>
            <a:ext cx="7670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in March meeting attempted to define performance requirements for voice lacency and err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rimary methods exist for encoding spee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veform encoding (i.e., ADPCM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metric endoding (i.e., CELP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summaring performance of contest is presen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new codec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Variable Rate Codec (EVRC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cs Mean Opinion Score (MOS) are rated f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ame loss rat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erage rate of codec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5932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282680"/>
            <a:ext cx="7454880" cy="317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score can range from 1 -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tests were conducted by COMSAT Lab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September 1999 on new codecs for IS-95 based C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rate operation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 4, 2 and 1 kbps source encoder r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s framing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detection of bad frames (i.e., CRC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results for all codecs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63560" y="4737240"/>
          <a:ext cx="6083280" cy="11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4737240"/>
                    <a:ext cx="608328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58080" y="52182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97160" y="5397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4240" y="5952960"/>
            <a:ext cx="729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ank Corcoran, "SMV-Selection Test - Preliminary Test Results," 3GPP2-C11-20000425-023, Sea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, April 25 - 28,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64818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948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cs designed for wireless channels target a frame loss rate with error detection for bad frames at 1 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 ms frame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 Kbps for full rat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decs not designed for wireless channels could suffer severe error propagation at 1% frame lo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4818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077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l Note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to-end latency in IS-95A 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e-to-fixed terminal is approximately 120 m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e-to-mobile terminal is approximately 180 ms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0560" y="6523200"/>
            <a:ext cx="270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4:45:34Z</dcterms:created>
  <dc:creator/>
  <dc:description/>
  <dc:language>en-US</dc:language>
  <cp:lastModifiedBy>Harry R. Worstell</cp:lastModifiedBy>
  <cp:lastPrinted>2000-05-01T15:23:13Z</cp:lastPrinted>
  <dcterms:modified xsi:type="dcterms:W3CDTF">2000-05-09T21:14:20Z</dcterms:modified>
  <cp:revision>220</cp:revision>
  <dc:subject/>
  <dc:title>Brief Overview of Information Theory and Channel Coding </dc:title>
</cp:coreProperties>
</file>