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5A5-50A8-4BF5-82DF-F162C954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A9C-4340-4B4E-B368-C5E120D4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FD9-81E9-4583-9C15-57C00BDD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568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25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491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568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25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598-F182-45B4-A715-7FA0AD28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596-1EED-434C-AD5F-CEBAE76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B78-3E1E-430C-BC30-156406CA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61F-7FC0-4EF6-BD53-C4B8FACB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349-D2B5-4AA6-9C73-30D6E2F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A0E-26AA-4321-ADA1-D496E3F6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3A0-9B1F-47E9-99D4-DF5353A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DBF-D5B0-408C-93CE-7EF9602F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034-31A4-4FBC-820D-ED41231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384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05040" indent="-277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8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8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8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n1_CMYK" descr=""/>
          <p:cNvPicPr/>
          <p:nvPr/>
        </p:nvPicPr>
        <p:blipFill>
          <a:blip r:embed="rId2"/>
          <a:stretch/>
        </p:blipFill>
        <p:spPr>
          <a:xfrm>
            <a:off x="7731000" y="6197760"/>
            <a:ext cx="123516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711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86400" y="6474960"/>
            <a:ext cx="1323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n Gray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454280" y="6474960"/>
            <a:ext cx="314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rame Sorting for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D. Gr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kaël Debo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oshi Tob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8080" y="83772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mulation Example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Delay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89200" y="1695600"/>
            <a:ext cx="5600520" cy="462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94520" y="6469200"/>
            <a:ext cx="685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400" y="8125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mulation Example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Discarded Packet Rate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86040" y="1636560"/>
          <a:ext cx="5724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1636560"/>
                    <a:ext cx="5724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394520" y="6469200"/>
            <a:ext cx="685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080" y="72360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clusions About 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520" y="1498320"/>
            <a:ext cx="837108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ncept that allows BSSs with a mixture of traffic to transmit with the most efficient rate 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increase in complexity over the existing PCF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raffic transmitted at a high rate can be scheduled at a more "robust" rate at the end of the CFP allowing "fast" re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4520" y="6469200"/>
            <a:ext cx="685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8080" y="6728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bjectiv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5520" y="1498320"/>
            <a:ext cx="837108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per does not present a complete solution to the all the QoS and Security Issues discussed in IEEE802.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of this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use of the Point Coordination Function (PCF) as a means to deliver real-time traffic over the IEEE802.11 ai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throughput, delay and dropped packets of PCF for delivery of real-time traf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05240" y="1066680"/>
            <a:ext cx="4872240" cy="3660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8080" y="83772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ple Area Where PCF Can Be Improved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3924360"/>
            <a:ext cx="5484960" cy="244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4040" y="1603440"/>
            <a:ext cx="4152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mple isolated BSS wher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share the CFP using piggy-b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Standar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frames of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+CF-ACK, Data +CF-Poll+CF-AC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CF-Poll+CF-ACK, the rate chos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 transmit the frame must be suppo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y both addressed recipient STA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STA to which the ACK is in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76280" y="4876920"/>
            <a:ext cx="29804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t would be n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llow the AP to 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TA2 at highest 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8080" y="6728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520" y="1498680"/>
            <a:ext cx="8371080" cy="20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ncept       sort traffic from highest to lowest prior to scheduling by the Point Coordinator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using four PC stations in a BS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523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743200" y="2666880"/>
          <a:ext cx="5375160" cy="12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666880"/>
                    <a:ext cx="53751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8080" y="6980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thout 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1668600"/>
            <a:ext cx="7907040" cy="3456000"/>
            <a:chOff x="762120" y="1668600"/>
            <a:chExt cx="7907040" cy="3456000"/>
          </a:xfrm>
        </p:grpSpPr>
        <p:graphicFrame>
          <p:nvGraphicFramePr>
            <p:cNvPr id="66" name=""/>
            <p:cNvGraphicFramePr/>
            <p:nvPr/>
          </p:nvGraphicFramePr>
          <p:xfrm>
            <a:off x="762120" y="2057400"/>
            <a:ext cx="7907040" cy="306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057400"/>
                      <a:ext cx="7907040" cy="30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372760" y="1668600"/>
              <a:ext cx="4612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sible Transmission Order Without Sort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63480" y="4651200"/>
              <a:ext cx="150084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x: Station to A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x: AP to St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080" y="73620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th 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080" y="5775480"/>
            <a:ext cx="747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e: With frame sorting HR STAs are not forced to transmit at a lower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96880" y="1668600"/>
            <a:ext cx="8089920" cy="3884400"/>
            <a:chOff x="596880" y="1668600"/>
            <a:chExt cx="8089920" cy="38844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96880" y="2438280"/>
              <a:ext cx="808992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51480" y="1668600"/>
              <a:ext cx="3408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mission Order With Sort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26040" y="5029200"/>
              <a:ext cx="158760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x: Station to A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x: AP to St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8080" y="6728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solated BSS Simulation Example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7120" y="1495440"/>
          <a:ext cx="6667560" cy="48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95440"/>
                    <a:ext cx="6667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8080" y="74880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mulation Example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Discarded Packet Rate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83" name="FSDPRLoad" descr=""/>
          <p:cNvPicPr/>
          <p:nvPr/>
        </p:nvPicPr>
        <p:blipFill>
          <a:blip r:embed="rId1"/>
          <a:stretch/>
        </p:blipFill>
        <p:spPr>
          <a:xfrm>
            <a:off x="1398600" y="1492200"/>
            <a:ext cx="6078600" cy="482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400" y="7869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solated BSS for 64 Kbps PCM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7120" y="1776240"/>
          <a:ext cx="6667560" cy="48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776240"/>
                    <a:ext cx="66675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5:32:34Z</dcterms:created>
  <dc:creator>Nokia</dc:creator>
  <dc:description/>
  <dc:language>en-US</dc:language>
  <cp:lastModifiedBy>Harry R. Worstell</cp:lastModifiedBy>
  <cp:lastPrinted>1997-08-27T07:44:37Z</cp:lastPrinted>
  <dcterms:modified xsi:type="dcterms:W3CDTF">2000-05-09T21:15:24Z</dcterms:modified>
  <cp:revision>39</cp:revision>
  <dc:subject>Slide Master</dc:subject>
  <dc:title>No Slide Title</dc:title>
</cp:coreProperties>
</file>