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7AED9F-3456-45D0-8F44-C375A5B41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6"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4160" y="701640"/>
            <a:ext cx="4626000" cy="346860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996 IAPP draft proposal (documents 61086.doc or 92078S-IAPP-1v0-from-1996.doc) has deficiencies and inadequacies in the implementation of an Inter-Access-Point-Protocol.  This submission outlines the issues and provides recommended modifications to IAPP.  This submission includes support for networks that require a peer to peer IAPP handover, as well as for networks that employ a master AP to aid in control of the handover mechanism.  The later approach may be beneficial when paired with centralized security management or other enhancements under consideration within 802.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4160" y="701640"/>
            <a:ext cx="4626000" cy="3468600"/>
          </a:xfrm>
          <a:prstGeom prst="rect">
            <a:avLst/>
          </a:prstGeom>
          <a:ln w="0">
            <a:noFill/>
          </a:ln>
        </p:spPr>
      </p:sp>
      <p:sp>
        <p:nvSpPr>
          <p:cNvPr id="28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error in the distribution system occurs when handover number two is delayed in the arbitrary network.  When handover 2 finally passes through the switch, it does so after handover 3. Handover 2 has caused AP1 to disassociate the station, and handover 3 has caused AP2 to disassociate.  Because of latency in the transmission of handover 2, there is no AP that will transmit data to the station.  If the station is not made aware of the disassociation from AP1, it may sit quietly without receiving any host traffic.  Even if the AP1 could detect and ignore the old handover, the switch still needs to be corrected.  Since handover 2 passed through the switch last, the switch blocks traffic from the host to LAN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e method of minimizing this problem would be for the stations to roam less often than the longest time for a handover to traverse the network.  But, since this behavior is not defined by the 802.11 standard, the IAPP can not depend on it.  </a:t>
            </a:r>
            <a:r>
              <a:rPr b="0" lang="en-US" sz="1200" spc="-1" strike="noStrike" u="sng">
                <a:solidFill>
                  <a:srgbClr val="000000"/>
                </a:solidFill>
                <a:uFillTx/>
                <a:latin typeface="Times New Roman"/>
              </a:rPr>
              <a:t>The IAPP must defend itself against properly implemented stations, even if they are ill manne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4160" y="701640"/>
            <a:ext cx="4626000" cy="3468600"/>
          </a:xfrm>
          <a:prstGeom prst="rect">
            <a:avLst/>
          </a:prstGeom>
          <a:ln w="0">
            <a:noFill/>
          </a:ln>
        </p:spPr>
      </p:sp>
      <p:sp>
        <p:nvSpPr>
          <p:cNvPr id="28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obsolete (delayed or retried) handover traverses a backward learning switch, the switch will maintain the new path for a significant interval.  For many commercially available switches, this interval is ten minutes by default.  During this time, traffic to the station will be blocked unless the station sends additional traffic that causes the switch to backward learn the correct path.  The IAPP cannot assume that higher layer protocols operating on wireless stations will generate traffic after the roaming handshake is comple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4160" y="701640"/>
            <a:ext cx="4626000" cy="3468600"/>
          </a:xfrm>
          <a:prstGeom prst="rect">
            <a:avLst/>
          </a:prstGeom>
          <a:ln w="0">
            <a:noFill/>
          </a:ln>
        </p:spPr>
      </p:sp>
      <p:sp>
        <p:nvSpPr>
          <p:cNvPr id="29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o recover from an obsolete handover, it has to be detected.  The APs could record the time of last handover transmission for each station.  When the old AP received a handover request, it would determine the interval since it sent its last handover.  If this period was longer than a handover might be delayed in the DS (e.g., five seconds), the old AP can perform the disassociation locally without transmitting the disassociation request.  The age of the last transmitted handover can be determined independently by the AP using any available timebase.  It does not need to be coordinated with the other A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old AP receives a handover request in a period of time less than the potential network delay, the handover must be considered a potential victim of a race condition.  The old AP might respond with a handover response to the new AP, but then verify that the station is truly not associated lo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possible method for doing this would be to transmit a null frame to the station.  If the station responds with CTS or ACK, the “old” AP needs to generate a handover request declaring a handover in the other direction, with the “new” AP as old.  A simpler method would be for the old AP to send a disassociation to the station under these conditions, but that might cause an unstable condition where the station repeatedly roams between two A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4160" y="701640"/>
            <a:ext cx="4626000" cy="3468600"/>
          </a:xfrm>
          <a:prstGeom prst="rect">
            <a:avLst/>
          </a:prstGeom>
          <a:ln w="0">
            <a:noFill/>
          </a:ln>
        </p:spPr>
      </p:sp>
      <p:sp>
        <p:nvSpPr>
          <p:cNvPr id="29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blem with using the age of the current association’s handover is that it only indicates that an obsolete handover </a:t>
            </a:r>
            <a:r>
              <a:rPr b="0" i="1" lang="en-US" sz="1200" spc="-1" strike="noStrike">
                <a:solidFill>
                  <a:srgbClr val="000000"/>
                </a:solidFill>
                <a:latin typeface="Times New Roman"/>
              </a:rPr>
              <a:t>may</a:t>
            </a:r>
            <a:r>
              <a:rPr b="0" lang="en-US" sz="1200" spc="-1" strike="noStrike">
                <a:solidFill>
                  <a:srgbClr val="000000"/>
                </a:solidFill>
                <a:latin typeface="Times New Roman"/>
              </a:rPr>
              <a:t> have occurred.  The old AP must test its association with the station to determine that it doesn’t exist.  This is a negative-type test where failure to communicate means the handover was correct.  Ideally, the AP wants to know immediately and positively that the handover is newer or older than the association it has recor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a sequence number in the handover request can help the old AP determine if the handover is for a newer association.  To be valid, the sequence number must come from the station itself.  The sequence number determines the most recent handover more reliably and accurately than a distributed network clock or timestamp.  If the latest 12-bit sequence number from a station’s 802.11 MAC header was included in all handover requests, it could be used to identify the newest handover.  In addition to avoiding the negative test described above, the sequence number allows the AP to respond immediately with a corrective handover instead of a handover respon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quence number still needs to be used in conjunction with the handover age.  Otherwise a station that has sent more than 2047 frames since the last association, or has restarted the sequence because of a reset event will not reassociate properly.  With the handover age, the limitation is that the station must not transmit more than 2047 frames during the maximum handover dela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54160" y="701640"/>
            <a:ext cx="4626000" cy="3468600"/>
          </a:xfrm>
          <a:prstGeom prst="rect">
            <a:avLst/>
          </a:prstGeom>
          <a:ln w="0">
            <a:noFill/>
          </a:ln>
        </p:spPr>
      </p:sp>
      <p:sp>
        <p:nvSpPr>
          <p:cNvPr id="294" name="PlaceHolder 2"/>
          <p:cNvSpPr>
            <a:spLocks noGrp="1"/>
          </p:cNvSpPr>
          <p:nvPr>
            <p:ph type="body"/>
          </p:nvPr>
        </p:nvSpPr>
        <p:spPr>
          <a:xfrm>
            <a:off x="685440" y="4190760"/>
            <a:ext cx="5638680" cy="48006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mplicit sequencing using the MAC sequence number to detect delayed handovers assumes that the station always increments (and does not reset) the sequence number when reassociating.  It also assumes that the sequence number will not increment more than 2047 times before the handover age reaches five seconds. Unfortunately, a 12-bit sequence number wraps very quickly when it increments in every transmitted management and data frame.  With PHY speeds that threaten to exceed 100Mbps in the near future, a number that increments more slowly i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olution is to place an information element into reassociation frames that contain the current “Path ID”.  While this requires a change to the 802.11 station specification, the reliability benefits outweigh added complexity.  The Path ID would be a sixteen-bit number that was incremented every time the station sent a reassociation to a new AP.  Because this number is incremented slower than the MAC header sequence number, it can be used reliably to determine the latest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ndover age should still be used so that the sequence number can be ignored when there is no possibility that a handover was delayed too long.  This helps when a station is reset and starts with reassociation #1 after having used #2 in a previous life.  In addition, the sequence number that is placed in the reassociation element should be supplied from above the MAC with the reassociation parameters.  This allows the sequence number to be less prone to reset by power management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ly used OS’s are known to reset NICs routinely to recover from actual or phantom communications difficulties (in particular, Windows is like the old far side cartoon of the horse hospital where all of the doctors carried rifles as the primary treatment option).  It may be advisable to reserve a path ID value for the initial association upon reset (e.g. 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4160" y="701640"/>
            <a:ext cx="4626000" cy="3468600"/>
          </a:xfrm>
          <a:prstGeom prst="rect">
            <a:avLst/>
          </a:prstGeom>
          <a:ln w="0">
            <a:noFill/>
          </a:ln>
        </p:spPr>
      </p:sp>
      <p:sp>
        <p:nvSpPr>
          <p:cNvPr id="29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tation can’t reliably determine where the Distribution System is maintaining a previous association.  If the DS trusts the station to supply the correct address of the old AP, it may not be able to create a valid handover.  If the new AP grants the association prior to receiving a handoff response, it is intentionally creating a second association before the old AP has deleted the previous association.  Two or more APs with simultaneous associations indicate that there may be old (now incorrect) backward learned routes in the 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isn’t reasonable to force an IAPP to completely avoid multiple associations with a station.  A disassociate-before-reassociate strategy can cause unnecessary delays in traffic for a roaming station.  Instead, the life of old associations must be limited, and the station’s path through the DS must be corrected quick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4160" y="701640"/>
            <a:ext cx="4626000" cy="3468600"/>
          </a:xfrm>
          <a:prstGeom prst="rect">
            <a:avLst/>
          </a:prstGeom>
          <a:ln w="0">
            <a:noFill/>
          </a:ln>
        </p:spPr>
      </p:sp>
      <p:sp>
        <p:nvSpPr>
          <p:cNvPr id="29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proposal assumes that the station can supply the AP address of the previous association.  It uses the old AP’s address to send a unicast handover request to it.  There are two cases where this will not wor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The station has failed to complete the previous reassociation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The station has lost power because of a PCMCIA power-down or similar event and sends an association instead of a re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first case, the station may assume that it did or did not complete the previous reassociation.  The station may select the wrong AP regardless of which choice it makes.  Only the Distribution System can reliably determine the previous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second case, the station sends an association instead of a reassociation  (no old AP), and can be considered a sub-case of when a reassociation indicates the wrong old AP. The station has no idea where it was previously associated.  If the new AP trusts that the station has never been previously associated, at best it can send a broadcast handover request.  It will not expect a response because there is supposedly no old AP to respo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4160" y="701640"/>
            <a:ext cx="4626000" cy="3468600"/>
          </a:xfrm>
          <a:prstGeom prst="rect">
            <a:avLst/>
          </a:prstGeom>
          <a:ln w="0">
            <a:noFill/>
          </a:ln>
        </p:spPr>
      </p:sp>
      <p:sp>
        <p:nvSpPr>
          <p:cNvPr id="30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example, the station first associated with AP2.  The station attempts to roam to AP1. When AP1 receives the reassociation request, it will generate a handover request to AP2.  This causes the intervening switches to learn that the station is on LAN A.  Due to an error, the station does not receive a response to the association request, and it roams to AP3.  AP3 sends a handover to AP2, which is the old AP, as indicated by the station.  Neither Switch A, nor AP1 sees the unicast handover from AP2 to AP3.  Traffic from the host to the station will be blocked by switch A until the station sends traffic with the host as the destination, or the backward-learned route in the switch’s bridge exceeds the default ten-minute timeout.  A similar failure example can be configured where the station claims that it succeeded in roaming to AP1 even though the reassociation response from AP1 was not s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handover request with a unicast destination address helps ensure that it is routed to an old AP, even if multicast/broadcast frames are blocked.  However, if the station incorrectly indicates the old AP address, the handover will fail.  A multicast/broadcast handover might avoid this problem, but only if the network switches were configured to pass non-unicast traffic.  Some installations are configured to segment broadcast traffic, thus preventing the usage of broadcast handov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4160" y="701640"/>
            <a:ext cx="4626000" cy="3468600"/>
          </a:xfrm>
          <a:prstGeom prst="rect">
            <a:avLst/>
          </a:prstGeom>
          <a:ln w="0">
            <a:noFill/>
          </a:ln>
        </p:spPr>
      </p:sp>
      <p:sp>
        <p:nvSpPr>
          <p:cNvPr id="3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the new AP grants a reassociation and retried handover requests fails to reach the old AP, there are two APs that think they have an association with a station.  This type of failure can occur during multiple times leaving multiple APs thinking they have an association.  Only the newest AP is correct.  Other AP associations represent potential dangling DS path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Each time the station generates DS bound traffic, or the newest AP generates handover retries, the routes may be corrected by backward learning.  If the new AP tires of sending handover retries and the station does not generate DS bound traffic, the station’s session partners may continue to communicate with the station via a dangling DS route.  The station-bound traffic will reach an old AP, but fail to reach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4160" y="701640"/>
            <a:ext cx="4626000" cy="3468600"/>
          </a:xfrm>
          <a:prstGeom prst="rect">
            <a:avLst/>
          </a:prstGeom>
          <a:ln w="0">
            <a:noFill/>
          </a:ln>
        </p:spPr>
      </p:sp>
      <p:sp>
        <p:nvSpPr>
          <p:cNvPr id="3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unicast handover might follow a path through the DS that the actual old AP can’t see.  The old AP will have to attempt to detect the missed handover and perform some correctiv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a Distribution System with cooperating APs, broadcast/multicast announce frames are successfully traversing the network to all APs.  A multicast handover will work among cooperating APs, as evidenced by the announce frames.  With a multicast handover, there is no need to know the old APs MAC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mplest solution to not being able to trust the station for the old AP address is to send a multicast handover request.  If the path to the old AP doesn’t block multicast, the old AP will receive the frame and respond.  If there should have been events that have left multiple APs associated, all the old APs will be corr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routers block multicast frames from other segments in the distribution system, the master AP in a segment can tunnel handover requests to masters across the blocking routers.  The other masters could convert the handover request into multicast and send it on their seg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4160" y="701640"/>
            <a:ext cx="4626000" cy="3468600"/>
          </a:xfrm>
          <a:prstGeom prst="rect">
            <a:avLst/>
          </a:prstGeom>
          <a:ln w="0">
            <a:noFill/>
          </a:ln>
        </p:spPr>
      </p:sp>
      <p:sp>
        <p:nvSpPr>
          <p:cNvPr id="2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802.11 standard, the logical model for the distribution system shows the 802.x portal as a device separate from an Access Point.  The 802.11 distribution system model, derived from clause 5.2.4 of the 1999 standard, is illustrated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4160" y="701640"/>
            <a:ext cx="4626000" cy="346860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DS is configured with a master AP, the master AP can be the authority regarding the most recent association owned by a station.  The station no longer needs to be trusted to provide correct information about the old AP for a handover to be successful.  The new AP registers the association with the master, and requests that the master return which AP needs to receive the hando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master AP responds with a unicast response to the “new” AP with the location of the old AP, it has the opportunity to forward special information about the station that just roamed.  The information would be returned as optional elements already defined by the original IAPP.  The central handover location can make it easier to forward the station’s negotiated and static session parameters (Filtering, QoS, Security, etc.), implement diagnostic and accounting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entralized handovers via the master AP master provides a well-known location in the DS for any AP can make a query on the location of a station.  This can help in the quick recovery from dropped handovers.  Another important effect of centralized handovers is that the user can use an SNMP query to the master AP to determine where a station is attached.  The user can then send further queries to the associated AP for more information about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4160" y="701640"/>
            <a:ext cx="4626000" cy="3468600"/>
          </a:xfrm>
          <a:prstGeom prst="rect">
            <a:avLst/>
          </a:prstGeom>
          <a:ln w="0">
            <a:noFill/>
          </a:ln>
        </p:spPr>
      </p:sp>
      <p:sp>
        <p:nvSpPr>
          <p:cNvPr id="30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reliance on the station for the old AP address is a good idea.  If associations were registered with a master AP, the master AP would always know to which AP it granted the previous association.  A new AP would use its own source address to query the master AP for the station’s previous association information.  The master would record the new AP’s Ethernet MAC address and respond with the old AP’s Ethernet MAC address.  The new AP would use this information to transmit the unicast handover request to the old AP.  If a handover retry were required, the master AP should be consulted again to avoid corrupting a newer DS path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ath to a station may still be corrupted if the master AP accepts an obsolete handover request.  This is no different than the previously described handover without a master.  The master AP needs use the age of the previous handover and a handover sequence number to unambiguously resolve which handover is the newest.  To allow the new AP to retry handovers to the master, the master needs to remember which old AP it indicated the firs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aster AP receives a handover that is known to be obsolete, the response to the “new” AP can be a rejection.  The handover transaction with the master doesn’t involve backward learning by the switches in the DS.  This helps keep the master handoff from contributing to problems caused by DS dela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4160" y="701640"/>
            <a:ext cx="4626000" cy="3468600"/>
          </a:xfrm>
          <a:prstGeom prst="rect">
            <a:avLst/>
          </a:prstGeom>
          <a:ln w="0">
            <a:noFill/>
          </a:ln>
        </p:spPr>
      </p:sp>
      <p:sp>
        <p:nvSpPr>
          <p:cNvPr id="31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can suspect they have lost a station when they get neither ACK, nor CTS to a frame that has retried-ou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n AP has tried to forward traffic to a non-responsive station, it can solicit a handover retry.  If the station is non-responsive because it has roamed, it means that the original handover has failed, and the new AP has possibly run out of handover retries.   A handover retry request can be performed without a master AP, but it needs to be sent as a broadcast or multicast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he master AP having knowledge of all stations’ current associations, it can be asked by any AP to force the current AP to resend a handover.  If there is no newer association, the master AP can ignore the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missing station “alert” such as this needs to be rate-limited, and alerts for multiple stations can be consolidated into a single frame.  Besides potentially correcting dangling paths in the DS, the alert can provide valuable diagnostic information.  In a system operating normally, alerts do not occur often.  The alert mechanism works so well, that if there is no information to be passed from the old AP to a new AP, the handover response from the old AP (and associated retries of the handover request) is not required for proper oper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4160" y="701640"/>
            <a:ext cx="4626000" cy="346860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PP should provide a Distribution System that is as transparent to the stations as possible.  As far as possible, the stations should be able act as if they were directly wired to the DS.  A directly wired station normally does not drop or duplicate frames, or change their path in bridges during backward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tocols used above the IEEE 802.11 MAC are designed to recover from dropped data frames.  When TCP/IP detects that a frame has been dropped, it assumes that it was dropped due to congestion in the network.  The protocol will adjust itself to place less of a demand on the network in the hopes of dropping fewer frames. This assumption is counter-productive in a RF environment where the frame was dropped during a roam to a new AP.  Just when the network performance should have improved, TCP/IP slows down.  It would be best if frames were not intentionally dropped when a station roa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Duplicate frames from a station can cause problems for (non-TCP) applications.  The 802 LAN standards do not permit duplication of frames.  If the RF medium duplicates a non-idempotent frame, the results can be devastating.  Knowing this, a properly implemented station will drop a frame rather than send it to two different APs because of roaming.  The IAPP can facilitate roaming without intentional frame dropping if the sequence number from the old AP is transferred to the new AP.  The new AP can then determine that the old AP already accepted the first frame the station transmi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4160" y="701640"/>
            <a:ext cx="4626000" cy="3468600"/>
          </a:xfrm>
          <a:prstGeom prst="rect">
            <a:avLst/>
          </a:prstGeom>
          <a:ln w="0">
            <a:noFill/>
          </a:ln>
        </p:spPr>
      </p:sp>
      <p:sp>
        <p:nvSpPr>
          <p:cNvPr id="31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 complicated distribution system master APs serve a vital purpose in system management.  The master can serve as a repository for information that would otherwise be scattered throughout the distribution system’s APs.  This makes it easier to configure and query the operation of the distribution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54160" y="701640"/>
            <a:ext cx="4626000" cy="3468600"/>
          </a:xfrm>
          <a:prstGeom prst="rect">
            <a:avLst/>
          </a:prstGeom>
          <a:ln w="0">
            <a:noFill/>
          </a:ln>
        </p:spPr>
      </p:sp>
      <p:sp>
        <p:nvSpPr>
          <p:cNvPr id="31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allows an AP to be configured to be a master, slave, or independent.  There is no method to select a master from among multiple candidates.  There should be a method for specifying preferred masters, and secondary masters.  The voting protocol should cover race conditions and error recovery.  As an example, a building loses power, and power is restored.  All of the candidates for master AP will begin negotiating to become master at the same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54160" y="701640"/>
            <a:ext cx="4626000" cy="346860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TSF timers for APs that cover a shared region may fall into long-term lockstep.  If this causes the APs to simultaneously transmit beacons or overlap their transmission of multicast and contention free periods, performance in the cells will drop dramatically.  Coordination of channels (hop patterns and rates for FH), and beacon rates can be used to minimize the potential for collision.  A master AP can be configured to assign channels and beacon intervals in a manner similar to the way DHCP assigns IP addresses to s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has the ability to learn dynamically which APs appear to be in close proximity to one another by inspecting the handover requests.  With this information it can adapt the channel and beacon interval plan to minimize interference.  If the APs in the system also report which other APs are within range, the master can incorporate this information into a site pl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4160" y="701640"/>
            <a:ext cx="4626000" cy="3468600"/>
          </a:xfrm>
          <a:prstGeom prst="rect">
            <a:avLst/>
          </a:prstGeom>
          <a:ln w="0">
            <a:noFill/>
          </a:ln>
        </p:spPr>
      </p:sp>
      <p:sp>
        <p:nvSpPr>
          <p:cNvPr id="3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whose paths have become severed from the remainder of the network need to prevent new stations from associating.  A typical argument against including special functionality in the IAPP to detect connectivity is that current Ethernet technology provides a “link good” indication.  However, this only establishes that the path to the hub is intact, and does not indicate that the connectivity reaches a key distribution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re was a configuration that prevented the AP from operating without another AP acting as the master, connectivity to a key distribution point could be determined.  In addition to allowing APs to be configured with priorities to become a DS master, they also need to be able to be configured so that they will dynamically select a wireless hop, or fail to operate without a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re are wireless hops to the key distribution point, these should be advertised in beacons and probe responses so a station has the option of avoiding a wireless hop when there is a suitable directly wired A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4160" y="701640"/>
            <a:ext cx="4626000" cy="3468600"/>
          </a:xfrm>
          <a:prstGeom prst="rect">
            <a:avLst/>
          </a:prstGeom>
          <a:ln w="0">
            <a:noFill/>
          </a:ln>
        </p:spPr>
      </p:sp>
      <p:sp>
        <p:nvSpPr>
          <p:cNvPr id="32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EEE MAC enhancements task group is introducing a complication to the handover process.  There is a proposal to use IEEE 802.1X, “port-based security”.  802.1X would use the data path to negotiate authorization to the network after the 802.11 authentication and association.  For this authorization to be effective, the handover must not occur until after 802.1X permits the station to use the network.  If the handover was performed upon reassociation and before 802.1X authorization, an attacker could force an invalid hando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both are allowed, SNAP and UDP frames from APs must coexist on the Ethernet.  The specification needs to state how and when each frame type is used.  For example, a “new” AP might not have an IP address.  It would use SNAP to issue a handover request.  The “old” AP must send an handover response with the same frame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impler solution would be to eliminate the usage of IP to carry IAPP frames.  This would be consistent with other coordination mechanisms elsewhere within 802.  If transporting of IAPP traffic across blocking IP routers is an issue, then a higher level tunneling protocol is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1998 version of the IEEE 802.3 standard recognizes Ethernet II frames.  This allows IAPP frame formats on Ethernet without SNAP encapsulation.  Because the allocation of an EtherType is required for SNAP encapsulation, it makes sense for the IAPP to allow the EtherType to define an Ethernet II frame for completeness.  The issue remains, where an AP should use the same form of response as the received reque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4160" y="701640"/>
            <a:ext cx="4626000" cy="3468600"/>
          </a:xfrm>
          <a:prstGeom prst="rect">
            <a:avLst/>
          </a:prstGeom>
          <a:ln w="0">
            <a:noFill/>
          </a:ln>
        </p:spPr>
      </p:sp>
      <p:sp>
        <p:nvSpPr>
          <p:cNvPr id="27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 802.11 standard was adopted, a large number of manufacturers have developed and marketed Access Points.  The majority of these products are constructed as bridges, with the logical portal function contained within each AP, and the logical distribution system function is implemented over a standard 802 LAN.  Such a LAN can be relatively simple, e.g. including AP’s within a single collision domain (on the same segment).  Distribution LANs can also be very comple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4160" y="701640"/>
            <a:ext cx="4626000" cy="3468600"/>
          </a:xfrm>
          <a:prstGeom prst="rect">
            <a:avLst/>
          </a:prstGeom>
          <a:ln w="0">
            <a:noFill/>
          </a:ln>
        </p:spPr>
      </p:sp>
      <p:sp>
        <p:nvSpPr>
          <p:cNvPr id="32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Handover requests are sent to a multicast address rather than unicast to the old AP.  This way the station does not need to be trusted to provide the old AP’s address.  The time of a handover request must be recorded so handover races can be detected. The old AP checks to see how long it has been since it generated the last handover request for that station.  If the period is longer than the handover hold-down time (e.g., five seconds), the old AP quietly discards the association.  If the old AP had issued a handover within the handover hold-down time, the old AP compares the association sequence number to determine which is the new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AP discards a frame because nothing has been heard from the station, the station may have roamed.  The handover solicitation is sent from the AP to the IAPP multicast address.  It notifies the remainder of the DS that a handover may have been missed.  If another AP has a newer association the handover solicitation will cause it to reissue the handover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usage of IP as an encapsulation protocol is out of character with IEEE standards.  The IP encapsulation should not be defined in this recommended practice.  Since Ethernet II is defined as an acceptable protocol by 802.3, it should be included for completenes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4160" y="701640"/>
            <a:ext cx="4626000" cy="3468600"/>
          </a:xfrm>
          <a:prstGeom prst="rect">
            <a:avLst/>
          </a:prstGeom>
          <a:ln w="0">
            <a:noFill/>
          </a:ln>
        </p:spPr>
      </p:sp>
      <p:sp>
        <p:nvSpPr>
          <p:cNvPr id="32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est includes a sequence number from the association frame.  It is either explicit from an association’s sequence number element, or it is implicit from the sequence number in the MAC header when there is no sequence numb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e must be aware that an association to the AP may not be the last step in the sequence for a station to be granted access to a network.  802.1X proposes that the connection is completed after association and </a:t>
            </a:r>
            <a:r>
              <a:rPr b="0" lang="en-US" sz="1200" spc="-1" strike="noStrike" u="sng">
                <a:solidFill>
                  <a:srgbClr val="000000"/>
                </a:solidFill>
                <a:uFillTx/>
                <a:latin typeface="Times New Roman"/>
              </a:rPr>
              <a:t>author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4160" y="701640"/>
            <a:ext cx="4626000" cy="346860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can use a unicast query to the master to locate the previously associated AP.  The master will respond with the requested information, then the new AP can send the unicast handover to the old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needs to be selected with a reliable election.  An AP can be configured as a primary or secondary candidate.  It can also be configured so that it will not be a master, but require one for oper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P needs to persist in the delivery of frames before it can perform a disassociation.  When the station has not communicated for a period long enough that the AP is certain that the station has or will reassociate, the AP may disassociate the station without attempting to deliver a disassociation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re is no restriction on how often a station roams, there exists the potential for races in handover requests in the DS.  Using the 12-bit sequence number from the MAC header to determine the latest association will work if the station has not transmitted 2048 frames during the handover hold-down period.  To prevent this from being a problem when a higher speed PHY is developed, the station should include an association sequence number element.  The association sequence number should be incremented only when the station transmits an association request to a new AP.</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4160" y="701640"/>
            <a:ext cx="4626000" cy="3468600"/>
          </a:xfrm>
          <a:prstGeom prst="rect">
            <a:avLst/>
          </a:prstGeom>
          <a:ln w="0">
            <a:noFill/>
          </a:ln>
        </p:spPr>
      </p:sp>
      <p:sp>
        <p:nvSpPr>
          <p:cNvPr id="27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limit to the complexity of an 802.x LAN being used as the distribution system.  It may contain many bridges and switches within an enterprise or campus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gardless of the model used to represent the network, an IAPP must meet specific require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4160" y="701640"/>
            <a:ext cx="4626000" cy="3468600"/>
          </a:xfrm>
          <a:prstGeom prst="rect">
            <a:avLst/>
          </a:prstGeom>
          <a:ln w="0">
            <a:noFill/>
          </a:ln>
        </p:spPr>
      </p:sp>
      <p:sp>
        <p:nvSpPr>
          <p:cNvPr id="276" name="PlaceHolder 2"/>
          <p:cNvSpPr>
            <a:spLocks noGrp="1"/>
          </p:cNvSpPr>
          <p:nvPr>
            <p:ph type="body"/>
          </p:nvPr>
        </p:nvSpPr>
        <p:spPr>
          <a:xfrm>
            <a:off x="923400" y="4408560"/>
            <a:ext cx="5086440" cy="4176720"/>
          </a:xfrm>
          <a:prstGeom prst="rect">
            <a:avLst/>
          </a:prstGeom>
          <a:noFill/>
          <a:ln w="0">
            <a:noFill/>
          </a:ln>
        </p:spPr>
        <p:txBody>
          <a:bodyPr lIns="95400" rIns="954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Access Point Protocol needs to provide an environment that accommodates the movement of stations’ point of association to the Distribution System.  A station assumes that when it roams that it can forget the old association.  From the station’s point of view, the current association is only one that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is responsible for correcting the outbound path through the Distribution System (DS) after a station reassociates.  Under error conditions this may not be happen.  If a portion of the old outbound path remains, it may be uncertain which path in a complicated Distribution System is used to send a frame to the station.  A combination of error prevention and error recovery is required to prevent long-term path los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it must never duplicate a data frame in the DS and, if possible, data frames should not be dropped.  Without assistance from the IAPP, stations will not be able to prevent the dropping of data frames when ro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IAPP should provide a means to view the Distribution System as a single entity, regardless of its physical manifestation.  Centralized configuration, management, diagnostic and status information should be available for all devices participating in the DS.  IAPP should allow management and configuration to be extended from the DS to stations, overcoming the problem where the station does not support SN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4160" y="701640"/>
            <a:ext cx="4626000" cy="3468600"/>
          </a:xfrm>
          <a:prstGeom prst="rect">
            <a:avLst/>
          </a:prstGeom>
          <a:ln w="0">
            <a:noFill/>
          </a:ln>
        </p:spPr>
      </p:sp>
      <p:sp>
        <p:nvSpPr>
          <p:cNvPr id="27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from one Access Point to another, the Distribution System needs to adjust its operation such that traffic for the station reaches the new AP.  If the handover from the old AP to the new AP fails in certain ways, the DS may accidentally lose all paths to the station.  If the station is not actively notified of the path loss, it may remain in a quiet state waiting for traffic.  It is often mistakenly assumed that a station will generate traffic, which will quickly correct the situation, but this isn’t necessarily tr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a client-server transaction is taken as an example, the TCP exchange sequence may appear as follow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4160" y="701640"/>
            <a:ext cx="4626000" cy="3468600"/>
          </a:xfrm>
          <a:prstGeom prst="rect">
            <a:avLst/>
          </a:prstGeom>
          <a:ln w="0">
            <a:noFill/>
          </a:ln>
        </p:spPr>
      </p:sp>
      <p:sp>
        <p:nvSpPr>
          <p:cNvPr id="28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AP that the station is associated with drops the association between the host’s ACK, but before the host’s response, the station will wait for a transaction response without making another transmission.  The host’s TCP session will time out because of no response, but the station’s TCP stack is expecting no activity and never discovers the path lo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his and similar scenarios, it is critical that an AP is absolutely certain that it only drops an association when the station has (or will) create a new associ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4160" y="701640"/>
            <a:ext cx="4626000" cy="3468600"/>
          </a:xfrm>
          <a:prstGeom prst="rect">
            <a:avLst/>
          </a:prstGeom>
          <a:ln w="0">
            <a:noFill/>
          </a:ln>
        </p:spPr>
      </p:sp>
      <p:sp>
        <p:nvSpPr>
          <p:cNvPr id="282" name="PlaceHolder 2"/>
          <p:cNvSpPr>
            <a:spLocks noGrp="1"/>
          </p:cNvSpPr>
          <p:nvPr>
            <p:ph type="body"/>
          </p:nvPr>
        </p:nvSpPr>
        <p:spPr>
          <a:xfrm>
            <a:off x="609120" y="4267080"/>
            <a:ext cx="571500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frame sent from an AP to a station may be lost to a transient out-of-range condition.  If this occurs when the AP is attempting to disassociate or while validating an association, the AP may drop the association and the station may assume that the association still exists.  This condition will only be corrected when the station attempts to transmit to the AP via the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correction for this is for the AP to persist in attempting delivery until it is certain that a non-responsive station has (or will) reassociate to the Distribution System.  The only reasonable method to “persist” in frame delivery is to assert the flag in the TIM indicating that the AP has undelivered traffic for the station.  Exactly how long is “long enough” for the TIM flag to remain set is vague in the 802.11 standard.  The amount of time is as long as the listen interval plus one or more beacon intervals.  After the station has had an opportunity to awaken to inspect the TIM, then miss a few beacons and panic (causing a reassociation) is the shortest persistence interv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dditional complication in the 802.11 standard appears in clause 11.2.1.8 “STAs operating in Active mode”.  The clause says that active stations do not need to interpret the TIM.  Even if not specifically required by the standard, an active station that is capable of power saving mode must always interpret TIMs for proper operation.  There is always a chance that the station has moved from the PS to the Active State, but the AP is unaware of the transition and is using the TIM.  For stations that never use PS mode, proper operation must not require the TIM to be honored.  This leaves the haphazard technique of actively retransmitting a frame, which provides no guarant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IM was used consistently by all stations, regardless of power state, the AP would be able to persist in delivery of a frame.  If the frame could not be delivered, the AP could safely discard the associ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4160" y="701640"/>
            <a:ext cx="4626000" cy="3468600"/>
          </a:xfrm>
          <a:prstGeom prst="rect">
            <a:avLst/>
          </a:prstGeom>
          <a:ln w="0">
            <a:noFill/>
          </a:ln>
        </p:spPr>
      </p:sp>
      <p:sp>
        <p:nvSpPr>
          <p:cNvPr id="28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distribution system during normal operation may contribute to delaying a handover.  The IAPP must compensate for handover races because they are normal events.  Consider a 10Mbps and a 100Mbps path through the network.  Some media have even larger differences in transmission speeds.  Also the load on the segments being traversed, and competing prioritized traffic contribute to delaying a handover message.  If frames can be prioritized, handovers used by the IAPP should have a relatively high transmission prio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twice in a short period of time (AP1 to AP2 to AP1), there is a possibility that AP2’s handover message will be delayed in the DS.  This won’t happen often, but when it does, both APs will think that the other AP now has the current association.  The intervening wired network forwarding would also be confused.  Higher level protocols may take minutes to rec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retried handover causes exactly the same potential for failure.  Instead of the error being caused by the network, the error is caused by the handover protocol.  Handover retries can cause the apparent delay of a handover request within an AP.  IAPP must be designed not to aggravate handover errors when generating handover retr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4E3EB-25BB-46D1-B7D3-2C1F558A8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82844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F0E4-025F-4FE8-B089-D42E85B15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8103-04F8-4D99-87EC-DE7453B01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85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F9D7A-4697-46B6-81CE-0B3C91874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685800" y="18284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120C-DF9D-4E08-82F9-F96611F4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1596-6F76-488E-8EE9-2236246F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E72B-8EF5-424C-8C20-268BB4AB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8424E-1573-44D1-AF97-75ECED5A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AF91-954B-4F38-B9A0-0C96E1F5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5BB2-75B7-41C3-8B36-DEE5128C4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2E5F-6C07-4502-8329-0529568FD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3727-5091-46D5-8268-A681F3A55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87280" cy="5175360"/>
          </a:xfrm>
          <a:custGeom>
            <a:avLst/>
            <a:gdLst/>
            <a:ahLst/>
            <a:rect l="l" t="t" r="r" b="b"/>
            <a:pathLst>
              <a:path w="748" h="3260">
                <a:moveTo>
                  <a:pt x="703" y="0"/>
                </a:moveTo>
                <a:lnTo>
                  <a:pt x="0" y="3259"/>
                </a:lnTo>
                <a:lnTo>
                  <a:pt x="0" y="0"/>
                </a:lnTo>
                <a:lnTo>
                  <a:pt x="747" y="0"/>
                </a:lnTo>
                <a:lnTo>
                  <a:pt x="703" y="0"/>
                </a:lnTo>
              </a:path>
            </a:pathLst>
          </a:custGeom>
          <a:solidFill>
            <a:srgbClr val="ef0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533520" y="609480"/>
            <a:ext cx="8673840" cy="1143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 name="PlaceHolder 2"/>
          <p:cNvSpPr>
            <a:spLocks noGrp="1"/>
          </p:cNvSpPr>
          <p:nvPr>
            <p:ph type="body"/>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dt" idx="1"/>
          </p:nvPr>
        </p:nvSpPr>
        <p:spPr>
          <a:xfrm>
            <a:off x="609120" y="182520"/>
            <a:ext cx="1271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F21360-F49A-460A-918D-63F262506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90</a:t>
            </a:r>
            <a:endParaRPr b="0" lang="en-US" sz="1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2"/>
          <a:stretch/>
        </p:blipFill>
        <p:spPr>
          <a:xfrm>
            <a:off x="6934320" y="6095880"/>
            <a:ext cx="1635120" cy="37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59" name=""/>
          <p:cNvSpPr/>
          <p:nvPr/>
        </p:nvSpPr>
        <p:spPr>
          <a:xfrm>
            <a:off x="3659040" y="5638680"/>
            <a:ext cx="188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Spiess</a:t>
            </a:r>
            <a:endParaRPr b="0" lang="en-US" sz="2800" spc="-1" strike="noStrike">
              <a:solidFill>
                <a:srgbClr val="000000"/>
              </a:solidFill>
              <a:latin typeface="Times New Roman"/>
            </a:endParaRPr>
          </a:p>
        </p:txBody>
      </p:sp>
      <p:sp>
        <p:nvSpPr>
          <p:cNvPr id="60" name=""/>
          <p:cNvSpPr/>
          <p:nvPr/>
        </p:nvSpPr>
        <p:spPr>
          <a:xfrm>
            <a:off x="2516040" y="2666880"/>
            <a:ext cx="432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ing the IAPP</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C0A7582A-74FA-4D7E-859F-36CB51BB8C78}"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4267080" y="2590920"/>
          <a:ext cx="1676520" cy="885600"/>
        </p:xfrm>
        <a:graphic>
          <a:graphicData uri="http://schemas.openxmlformats.org/presentationml/2006/ole">
            <p:oleObj r:id="rId1" spid="">
              <p:embed/>
              <p:pic>
                <p:nvPicPr>
                  <p:cNvPr id="124" name="" descr=""/>
                  <p:cNvPicPr/>
                  <p:nvPr/>
                </p:nvPicPr>
                <p:blipFill>
                  <a:blip r:embed="rId2"/>
                  <a:stretch/>
                </p:blipFill>
                <p:spPr>
                  <a:xfrm>
                    <a:off x="4267080" y="2590920"/>
                    <a:ext cx="1676520" cy="885600"/>
                  </a:xfrm>
                  <a:prstGeom prst="rect">
                    <a:avLst/>
                  </a:prstGeom>
                  <a:ln w="0">
                    <a:noFill/>
                  </a:ln>
                </p:spPr>
              </p:pic>
            </p:oleObj>
          </a:graphicData>
        </a:graphic>
      </p:graphicFrame>
      <p:sp>
        <p:nvSpPr>
          <p:cNvPr id="1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layed handover example</a:t>
            </a:r>
            <a:endParaRPr b="1" lang="en-US" sz="3600" spc="-1" strike="noStrike">
              <a:solidFill>
                <a:srgbClr val="ffffff"/>
              </a:solidFill>
              <a:latin typeface="Arial"/>
            </a:endParaRPr>
          </a:p>
        </p:txBody>
      </p:sp>
      <p:sp>
        <p:nvSpPr>
          <p:cNvPr id="126" name=""/>
          <p:cNvSpPr/>
          <p:nvPr/>
        </p:nvSpPr>
        <p:spPr>
          <a:xfrm>
            <a:off x="1295280" y="2209680"/>
            <a:ext cx="6324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128" name=""/>
          <p:cNvSpPr/>
          <p:nvPr/>
        </p:nvSpPr>
        <p:spPr>
          <a:xfrm>
            <a:off x="2819520" y="5562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29" name=""/>
          <p:cNvSpPr/>
          <p:nvPr/>
        </p:nvSpPr>
        <p:spPr>
          <a:xfrm>
            <a:off x="45720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30" name=""/>
          <p:cNvSpPr/>
          <p:nvPr/>
        </p:nvSpPr>
        <p:spPr>
          <a:xfrm>
            <a:off x="6400800" y="27432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31" name=""/>
          <p:cNvSpPr/>
          <p:nvPr/>
        </p:nvSpPr>
        <p:spPr>
          <a:xfrm flipV="1">
            <a:off x="5105520" y="34290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5105520" y="2209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05120" y="22096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934320" y="2209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12880" y="2530440"/>
            <a:ext cx="1752840" cy="2444760"/>
          </a:xfrm>
          <a:custGeom>
            <a:avLst/>
            <a:gdLst/>
            <a:ahLst/>
            <a:rect l="l" t="t" r="r" b="b"/>
            <a:pathLst>
              <a:path w="1104" h="1540">
                <a:moveTo>
                  <a:pt x="0" y="1200"/>
                </a:moveTo>
                <a:cubicBezTo>
                  <a:pt x="22" y="1146"/>
                  <a:pt x="100" y="1041"/>
                  <a:pt x="130" y="878"/>
                </a:cubicBezTo>
                <a:cubicBezTo>
                  <a:pt x="160" y="715"/>
                  <a:pt x="47" y="336"/>
                  <a:pt x="183" y="220"/>
                </a:cubicBezTo>
                <a:cubicBezTo>
                  <a:pt x="319" y="104"/>
                  <a:pt x="837" y="0"/>
                  <a:pt x="946" y="182"/>
                </a:cubicBezTo>
                <a:cubicBezTo>
                  <a:pt x="1055" y="364"/>
                  <a:pt x="814" y="1090"/>
                  <a:pt x="840" y="1315"/>
                </a:cubicBezTo>
                <a:cubicBezTo>
                  <a:pt x="866" y="1540"/>
                  <a:pt x="1049" y="1486"/>
                  <a:pt x="1104" y="1531"/>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2871720"/>
            <a:ext cx="1792440" cy="2094120"/>
          </a:xfrm>
          <a:custGeom>
            <a:avLst/>
            <a:gdLst/>
            <a:ahLst/>
            <a:rect l="l" t="t" r="r" b="b"/>
            <a:pathLst>
              <a:path w="1129" h="1319">
                <a:moveTo>
                  <a:pt x="1080" y="263"/>
                </a:moveTo>
                <a:cubicBezTo>
                  <a:pt x="1067" y="232"/>
                  <a:pt x="1129" y="102"/>
                  <a:pt x="1000" y="87"/>
                </a:cubicBezTo>
                <a:cubicBezTo>
                  <a:pt x="871" y="72"/>
                  <a:pt x="420" y="0"/>
                  <a:pt x="304" y="175"/>
                </a:cubicBezTo>
                <a:cubicBezTo>
                  <a:pt x="188" y="350"/>
                  <a:pt x="344" y="951"/>
                  <a:pt x="304" y="1135"/>
                </a:cubicBezTo>
                <a:cubicBezTo>
                  <a:pt x="264" y="1319"/>
                  <a:pt x="0" y="1207"/>
                  <a:pt x="64" y="1279"/>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397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8" name=""/>
          <p:cNvSpPr/>
          <p:nvPr/>
        </p:nvSpPr>
        <p:spPr>
          <a:xfrm>
            <a:off x="4192560" y="411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9" name=""/>
          <p:cNvSpPr/>
          <p:nvPr/>
        </p:nvSpPr>
        <p:spPr>
          <a:xfrm>
            <a:off x="1523880" y="1905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40" name=""/>
          <p:cNvSpPr/>
          <p:nvPr/>
        </p:nvSpPr>
        <p:spPr>
          <a:xfrm>
            <a:off x="5030640" y="19051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41" name=""/>
          <p:cNvSpPr/>
          <p:nvPr/>
        </p:nvSpPr>
        <p:spPr>
          <a:xfrm>
            <a:off x="2820960" y="47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 name=""/>
          <p:cNvSpPr/>
          <p:nvPr/>
        </p:nvSpPr>
        <p:spPr>
          <a:xfrm>
            <a:off x="38876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 name=""/>
          <p:cNvSpPr/>
          <p:nvPr/>
        </p:nvSpPr>
        <p:spPr>
          <a:xfrm>
            <a:off x="4116240" y="533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4" name=""/>
          <p:cNvSpPr/>
          <p:nvPr/>
        </p:nvSpPr>
        <p:spPr>
          <a:xfrm>
            <a:off x="2973240" y="5183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5" name=""/>
          <p:cNvSpPr/>
          <p:nvPr/>
        </p:nvSpPr>
        <p:spPr>
          <a:xfrm>
            <a:off x="2439720" y="5411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6" name=""/>
          <p:cNvSpPr/>
          <p:nvPr/>
        </p:nvSpPr>
        <p:spPr>
          <a:xfrm>
            <a:off x="3050640" y="4038480"/>
            <a:ext cx="83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vers</a:t>
            </a:r>
            <a:endParaRPr b="0" lang="en-US" sz="1200" spc="-1" strike="noStrike">
              <a:solidFill>
                <a:srgbClr val="000000"/>
              </a:solidFill>
              <a:latin typeface="Times New Roman"/>
            </a:endParaRPr>
          </a:p>
        </p:txBody>
      </p:sp>
      <p:sp>
        <p:nvSpPr>
          <p:cNvPr id="147" name=""/>
          <p:cNvSpPr/>
          <p:nvPr/>
        </p:nvSpPr>
        <p:spPr>
          <a:xfrm>
            <a:off x="4033800" y="3301920"/>
            <a:ext cx="461880" cy="1346400"/>
          </a:xfrm>
          <a:custGeom>
            <a:avLst/>
            <a:gdLst/>
            <a:ahLst/>
            <a:rect l="l" t="t" r="r" b="b"/>
            <a:pathLst>
              <a:path w="291" h="848">
                <a:moveTo>
                  <a:pt x="291" y="848"/>
                </a:moveTo>
                <a:cubicBezTo>
                  <a:pt x="247" y="813"/>
                  <a:pt x="54" y="781"/>
                  <a:pt x="27" y="640"/>
                </a:cubicBezTo>
                <a:cubicBezTo>
                  <a:pt x="0" y="499"/>
                  <a:pt x="109" y="133"/>
                  <a:pt x="131"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47600" y="28195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bitr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149" name=""/>
          <p:cNvSpPr/>
          <p:nvPr/>
        </p:nvSpPr>
        <p:spPr>
          <a:xfrm>
            <a:off x="5800320" y="3962520"/>
            <a:ext cx="2934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P1 and A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a hand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fter they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1 drops a perf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ssociation.</a:t>
            </a:r>
            <a:endParaRPr b="0" lang="en-US" sz="1800" spc="-1" strike="noStrike">
              <a:solidFill>
                <a:srgbClr val="000000"/>
              </a:solidFill>
              <a:latin typeface="Times New Roman"/>
            </a:endParaRPr>
          </a:p>
        </p:txBody>
      </p:sp>
      <p:sp>
        <p:nvSpPr>
          <p:cNvPr id="150" name=""/>
          <p:cNvSpPr/>
          <p:nvPr/>
        </p:nvSpPr>
        <p:spPr>
          <a:xfrm rot="14366400">
            <a:off x="4120200" y="4718160"/>
            <a:ext cx="182520" cy="126072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7731800">
            <a:off x="2748600" y="4870440"/>
            <a:ext cx="182520" cy="803520"/>
          </a:xfrm>
          <a:custGeom>
            <a:avLst/>
            <a:gdLst/>
            <a:ahLst/>
            <a:rect l="l" t="t" r="r" b="b"/>
            <a:pathLst>
              <a:path w="96" h="672">
                <a:moveTo>
                  <a:pt x="0" y="672"/>
                </a:moveTo>
                <a:lnTo>
                  <a:pt x="0" y="288"/>
                </a:lnTo>
                <a:lnTo>
                  <a:pt x="96" y="384"/>
                </a:lnTo>
                <a:lnTo>
                  <a:pt x="96" y="0"/>
                </a:ln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6777600">
            <a:off x="2405520" y="4985640"/>
            <a:ext cx="182520" cy="72684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9D368307-1869-4313-8686-792BD3745E4F}"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solete handovers</a:t>
            </a:r>
            <a:endParaRPr b="1" lang="en-US" sz="3600" spc="-1" strike="noStrike">
              <a:solidFill>
                <a:srgbClr val="ffffff"/>
              </a:solidFill>
              <a:latin typeface="Arial"/>
            </a:endParaRPr>
          </a:p>
        </p:txBody>
      </p:sp>
      <p:sp>
        <p:nvSpPr>
          <p:cNvPr id="15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can destroy the path to a station for ten minute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must be detected and corrected by repeating a good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suspected by knowing the age of the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known by using a sequence numb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E21AF52-7E14-41F7-B830-A592953FC532}"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a:t>
            </a:r>
            <a:endParaRPr b="1" lang="en-US" sz="3600" spc="-1" strike="noStrike">
              <a:solidFill>
                <a:srgbClr val="ffffff"/>
              </a:solidFill>
              <a:latin typeface="Arial"/>
            </a:endParaRPr>
          </a:p>
        </p:txBody>
      </p:sp>
      <p:sp>
        <p:nvSpPr>
          <p:cNvPr id="15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if the received handover request could be a result of a race through the 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can attempt to determine if station is still associa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12BAE286-9788-4C33-8FFE-F67CE6BD5A84}"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59"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from association request’s MAC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transmitting to verify assoc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bit at risk of wrapping in five seco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with handover age to minimize danger of wrapping</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F1BBA93C-C5B2-4CFF-AFA8-5504B668E4DE}"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61"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includes association sequence number as an optional element in association requ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purpose association number won’t be Resetting or wrapping quick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require stations (and the 802.11 standard) to chan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AA207568-0D06-4347-B484-9E6D04D87611}"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ay not have multiple associations</a:t>
            </a:r>
            <a:endParaRPr b="1" lang="en-US" sz="3600" spc="-1" strike="noStrike">
              <a:solidFill>
                <a:srgbClr val="ffffff"/>
              </a:solidFill>
              <a:latin typeface="Arial"/>
            </a:endParaRPr>
          </a:p>
        </p:txBody>
      </p:sp>
      <p:sp>
        <p:nvSpPr>
          <p:cNvPr id="1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indicates no, or wrong old AP in reassociation,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s are lost in the DS,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APs with associations indicates that the path through the DS may be corrup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FA70D481-2AAB-4FF9-BBE6-3DAF1A3BFDE6}"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indicates no, or wrong old AP in reassociation</a:t>
            </a:r>
            <a:endParaRPr b="1" lang="en-US" sz="3600" spc="-1" strike="noStrike">
              <a:solidFill>
                <a:srgbClr val="ffffff"/>
              </a:solidFill>
              <a:latin typeface="Arial"/>
            </a:endParaRPr>
          </a:p>
        </p:txBody>
      </p:sp>
      <p:sp>
        <p:nvSpPr>
          <p:cNvPr id="16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ay be wrong about the old AP address, despite best effort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association attempt fail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 has been reset</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orrect old AP address may cause the DS to fail the unicast handover procedur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cast handover to the wrong AP may not be seen by the actual old 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E5955E29-E3CD-4799-83BD-33EE139710F7}"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iled Unicast Handover Example</a:t>
            </a:r>
            <a:endParaRPr b="1" lang="en-US" sz="3600" spc="-1" strike="noStrike">
              <a:solidFill>
                <a:srgbClr val="ffffff"/>
              </a:solidFill>
              <a:latin typeface="Arial"/>
            </a:endParaRPr>
          </a:p>
        </p:txBody>
      </p:sp>
      <p:sp>
        <p:nvSpPr>
          <p:cNvPr id="167" name=""/>
          <p:cNvSpPr/>
          <p:nvPr/>
        </p:nvSpPr>
        <p:spPr>
          <a:xfrm>
            <a:off x="12952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19720" y="5486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69" name=""/>
          <p:cNvSpPr/>
          <p:nvPr/>
        </p:nvSpPr>
        <p:spPr>
          <a:xfrm>
            <a:off x="17524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170" name=""/>
          <p:cNvSpPr/>
          <p:nvPr/>
        </p:nvSpPr>
        <p:spPr>
          <a:xfrm flipV="1">
            <a:off x="746748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232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600200" y="2514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257800" y="5105520"/>
            <a:ext cx="243828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22440" y="5121360"/>
            <a:ext cx="2225880" cy="365040"/>
          </a:xfrm>
          <a:custGeom>
            <a:avLst/>
            <a:gdLst/>
            <a:ahLst/>
            <a:rect l="l" t="t" r="r" b="b"/>
            <a:pathLst>
              <a:path w="442" h="278">
                <a:moveTo>
                  <a:pt x="442" y="278"/>
                </a:moveTo>
                <a:lnTo>
                  <a:pt x="0" y="0"/>
                </a:ln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92240" y="35053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3</a:t>
            </a:r>
            <a:endParaRPr b="0" lang="en-US" sz="1800" spc="-1" strike="noStrike">
              <a:solidFill>
                <a:srgbClr val="000000"/>
              </a:solidFill>
              <a:latin typeface="Times New Roman"/>
            </a:endParaRPr>
          </a:p>
        </p:txBody>
      </p:sp>
      <p:sp>
        <p:nvSpPr>
          <p:cNvPr id="176" name=""/>
          <p:cNvSpPr/>
          <p:nvPr/>
        </p:nvSpPr>
        <p:spPr>
          <a:xfrm>
            <a:off x="1144080" y="37339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2</a:t>
            </a:r>
            <a:endParaRPr b="0" lang="en-US" sz="1800" spc="-1" strike="noStrike">
              <a:solidFill>
                <a:srgbClr val="000000"/>
              </a:solidFill>
              <a:latin typeface="Times New Roman"/>
            </a:endParaRPr>
          </a:p>
        </p:txBody>
      </p:sp>
      <p:sp>
        <p:nvSpPr>
          <p:cNvPr id="177" name=""/>
          <p:cNvSpPr/>
          <p:nvPr/>
        </p:nvSpPr>
        <p:spPr>
          <a:xfrm>
            <a:off x="1600200" y="2133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78" name=""/>
          <p:cNvSpPr/>
          <p:nvPr/>
        </p:nvSpPr>
        <p:spPr>
          <a:xfrm>
            <a:off x="6859440" y="21337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79" name=""/>
          <p:cNvSpPr/>
          <p:nvPr/>
        </p:nvSpPr>
        <p:spPr>
          <a:xfrm>
            <a:off x="388764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0" name=""/>
          <p:cNvSpPr/>
          <p:nvPr/>
        </p:nvSpPr>
        <p:spPr>
          <a:xfrm>
            <a:off x="564012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1" name=""/>
          <p:cNvSpPr/>
          <p:nvPr/>
        </p:nvSpPr>
        <p:spPr>
          <a:xfrm>
            <a:off x="5259240" y="502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2" name=""/>
          <p:cNvSpPr/>
          <p:nvPr/>
        </p:nvSpPr>
        <p:spPr>
          <a:xfrm>
            <a:off x="72388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3</a:t>
            </a:r>
            <a:endParaRPr b="0" lang="en-US" sz="1800" spc="-1" strike="noStrike">
              <a:solidFill>
                <a:srgbClr val="000000"/>
              </a:solidFill>
              <a:latin typeface="Times New Roman"/>
            </a:endParaRPr>
          </a:p>
        </p:txBody>
      </p:sp>
      <p:sp>
        <p:nvSpPr>
          <p:cNvPr id="183" name=""/>
          <p:cNvSpPr/>
          <p:nvPr/>
        </p:nvSpPr>
        <p:spPr>
          <a:xfrm flipV="1">
            <a:off x="4876920" y="5105520"/>
            <a:ext cx="1218960" cy="3808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858000" y="251424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13160" y="2895480"/>
            <a:ext cx="4147920" cy="1371600"/>
          </a:xfrm>
          <a:custGeom>
            <a:avLst/>
            <a:gdLst/>
            <a:ahLst/>
            <a:rect l="l" t="t" r="r" b="b"/>
            <a:pathLst>
              <a:path w="2613" h="1061">
                <a:moveTo>
                  <a:pt x="145" y="1061"/>
                </a:moveTo>
                <a:cubicBezTo>
                  <a:pt x="180" y="909"/>
                  <a:pt x="0" y="298"/>
                  <a:pt x="353" y="149"/>
                </a:cubicBezTo>
                <a:cubicBezTo>
                  <a:pt x="706" y="0"/>
                  <a:pt x="1917" y="16"/>
                  <a:pt x="2265" y="165"/>
                </a:cubicBezTo>
                <a:cubicBezTo>
                  <a:pt x="2613" y="314"/>
                  <a:pt x="2404" y="862"/>
                  <a:pt x="2441" y="1045"/>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0" y="2514600"/>
            <a:ext cx="609480" cy="1676520"/>
          </a:xfrm>
          <a:custGeom>
            <a:avLst/>
            <a:gdLst/>
            <a:ahLst/>
            <a:rect l="l" t="t" r="r" b="b"/>
            <a:pathLst>
              <a:path w="384" h="1288">
                <a:moveTo>
                  <a:pt x="336" y="1192"/>
                </a:moveTo>
                <a:cubicBezTo>
                  <a:pt x="336" y="1024"/>
                  <a:pt x="384" y="352"/>
                  <a:pt x="336" y="184"/>
                </a:cubicBezTo>
                <a:cubicBezTo>
                  <a:pt x="288" y="16"/>
                  <a:pt x="96" y="0"/>
                  <a:pt x="48" y="184"/>
                </a:cubicBezTo>
                <a:cubicBezTo>
                  <a:pt x="0" y="368"/>
                  <a:pt x="40" y="1112"/>
                  <a:pt x="48" y="128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failed to s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a:t>
            </a:r>
            <a:endParaRPr b="0" lang="en-US" sz="1800" spc="-1" strike="noStrike">
              <a:solidFill>
                <a:srgbClr val="000000"/>
              </a:solidFill>
              <a:latin typeface="Times New Roman"/>
            </a:endParaRPr>
          </a:p>
        </p:txBody>
      </p:sp>
      <p:sp>
        <p:nvSpPr>
          <p:cNvPr id="188" name=""/>
          <p:cNvSpPr/>
          <p:nvPr/>
        </p:nvSpPr>
        <p:spPr>
          <a:xfrm>
            <a:off x="5869800" y="5486400"/>
            <a:ext cx="196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ells AP3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ed from AP2</a:t>
            </a:r>
            <a:endParaRPr b="0" lang="en-US" sz="1800" spc="-1" strike="noStrike">
              <a:solidFill>
                <a:srgbClr val="000000"/>
              </a:solidFill>
              <a:latin typeface="Times New Roman"/>
            </a:endParaRPr>
          </a:p>
        </p:txBody>
      </p:sp>
      <p:sp>
        <p:nvSpPr>
          <p:cNvPr id="189" name=""/>
          <p:cNvSpPr/>
          <p:nvPr/>
        </p:nvSpPr>
        <p:spPr>
          <a:xfrm>
            <a:off x="4344840" y="3200400"/>
            <a:ext cx="191808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from lear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is on LAN B</a:t>
            </a:r>
            <a:endParaRPr b="0" lang="en-US" sz="1400" spc="-1" strike="noStrike">
              <a:solidFill>
                <a:srgbClr val="000000"/>
              </a:solidFill>
              <a:latin typeface="Times New Roman"/>
            </a:endParaRPr>
          </a:p>
        </p:txBody>
      </p:sp>
      <p:sp>
        <p:nvSpPr>
          <p:cNvPr id="190" name=""/>
          <p:cNvSpPr/>
          <p:nvPr/>
        </p:nvSpPr>
        <p:spPr>
          <a:xfrm>
            <a:off x="2899080" y="3200400"/>
            <a:ext cx="141372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traffic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a:t>
            </a:r>
            <a:endParaRPr b="0" lang="en-US" sz="1400" spc="-1" strike="noStrike">
              <a:solidFill>
                <a:srgbClr val="000000"/>
              </a:solidFill>
              <a:latin typeface="Times New Roman"/>
            </a:endParaRPr>
          </a:p>
        </p:txBody>
      </p:sp>
      <p:sp>
        <p:nvSpPr>
          <p:cNvPr id="191" name=""/>
          <p:cNvSpPr/>
          <p:nvPr/>
        </p:nvSpPr>
        <p:spPr>
          <a:xfrm>
            <a:off x="5943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92" name=""/>
          <p:cNvSpPr/>
          <p:nvPr/>
        </p:nvSpPr>
        <p:spPr>
          <a:xfrm>
            <a:off x="9907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3" name=""/>
          <p:cNvSpPr/>
          <p:nvPr/>
        </p:nvSpPr>
        <p:spPr>
          <a:xfrm>
            <a:off x="63244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1905120"/>
            <a:ext cx="495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94360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27672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412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B</a:t>
            </a:r>
            <a:endParaRPr b="0" lang="en-US" sz="1800" spc="-1" strike="noStrike">
              <a:solidFill>
                <a:srgbClr val="000000"/>
              </a:solidFill>
              <a:latin typeface="Times New Roman"/>
            </a:endParaRPr>
          </a:p>
        </p:txBody>
      </p:sp>
      <p:sp>
        <p:nvSpPr>
          <p:cNvPr id="198" name=""/>
          <p:cNvSpPr/>
          <p:nvPr/>
        </p:nvSpPr>
        <p:spPr>
          <a:xfrm>
            <a:off x="274320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20DDCBF9-6FC4-46F5-91F7-3A03895D7C61}"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s are missed leaving multiple associations</a:t>
            </a:r>
            <a:endParaRPr b="1" lang="en-US" sz="3600" spc="-1" strike="noStrike">
              <a:solidFill>
                <a:srgbClr val="ffffff"/>
              </a:solidFill>
              <a:latin typeface="Arial"/>
            </a:endParaRPr>
          </a:p>
        </p:txBody>
      </p:sp>
      <p:sp>
        <p:nvSpPr>
          <p:cNvPr id="20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request repeatedly fails to traverse a switch with a learned route to the st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tch blocks traffic to the station because it hasn’t learned the new pat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etries can’t occur indefinite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7947FAA9-CE36-4434-8DA9-F306688781BA}"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with a multicast frame</a:t>
            </a:r>
            <a:endParaRPr b="1" lang="en-US" sz="3600" spc="-1" strike="noStrike">
              <a:solidFill>
                <a:srgbClr val="ffffff"/>
              </a:solidFill>
              <a:latin typeface="Arial"/>
            </a:endParaRPr>
          </a:p>
        </p:txBody>
      </p:sp>
      <p:sp>
        <p:nvSpPr>
          <p:cNvPr id="20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AP volunteers its identity</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eed to trust station</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orrect multiple old APs</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 can propagate the multicast handover across blocking router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s that are segmented by routers can still cooperate via encapsulation between mast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BBF7FAF2-262F-4041-9289-2845F2FA3223}"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ribution System, as explained in the 802.11 standard</a:t>
            </a:r>
            <a:endParaRPr b="1" lang="en-US" sz="3600" spc="-1" strike="noStrike">
              <a:solidFill>
                <a:srgbClr val="ffffff"/>
              </a:solidFill>
              <a:latin typeface="Arial"/>
            </a:endParaRPr>
          </a:p>
        </p:txBody>
      </p:sp>
      <p:graphicFrame>
        <p:nvGraphicFramePr>
          <p:cNvPr id="62" name=""/>
          <p:cNvGraphicFramePr/>
          <p:nvPr/>
        </p:nvGraphicFramePr>
        <p:xfrm>
          <a:off x="4648320" y="3306600"/>
          <a:ext cx="2293920" cy="1287720"/>
        </p:xfrm>
        <a:graphic>
          <a:graphicData uri="http://schemas.openxmlformats.org/presentationml/2006/ole">
            <p:oleObj r:id="rId1" spid="">
              <p:embed/>
              <p:pic>
                <p:nvPicPr>
                  <p:cNvPr id="63" name="" descr=""/>
                  <p:cNvPicPr/>
                  <p:nvPr/>
                </p:nvPicPr>
                <p:blipFill>
                  <a:blip r:embed="rId2"/>
                  <a:stretch/>
                </p:blipFill>
                <p:spPr>
                  <a:xfrm>
                    <a:off x="4648320" y="3306600"/>
                    <a:ext cx="2293920" cy="1287720"/>
                  </a:xfrm>
                  <a:prstGeom prst="rect">
                    <a:avLst/>
                  </a:prstGeom>
                  <a:ln w="0">
                    <a:noFill/>
                  </a:ln>
                </p:spPr>
              </p:pic>
            </p:oleObj>
          </a:graphicData>
        </a:graphic>
      </p:graphicFrame>
      <p:sp>
        <p:nvSpPr>
          <p:cNvPr id="64" name=""/>
          <p:cNvSpPr/>
          <p:nvPr/>
        </p:nvSpPr>
        <p:spPr>
          <a:xfrm>
            <a:off x="1981080" y="2590920"/>
            <a:ext cx="579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05520" y="35812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a:t>
            </a:r>
            <a:endParaRPr b="0" lang="en-US" sz="1600" spc="-1" strike="noStrike">
              <a:solidFill>
                <a:srgbClr val="000000"/>
              </a:solidFill>
              <a:latin typeface="Times New Roman"/>
            </a:endParaRPr>
          </a:p>
        </p:txBody>
      </p:sp>
      <p:sp>
        <p:nvSpPr>
          <p:cNvPr id="66" name=""/>
          <p:cNvSpPr/>
          <p:nvPr/>
        </p:nvSpPr>
        <p:spPr>
          <a:xfrm>
            <a:off x="3276720" y="2209680"/>
            <a:ext cx="1295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67" name=""/>
          <p:cNvSpPr/>
          <p:nvPr/>
        </p:nvSpPr>
        <p:spPr>
          <a:xfrm>
            <a:off x="2209680" y="4648320"/>
            <a:ext cx="2271960" cy="86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gical design outlined in the IEEE 802.11 specification</a:t>
            </a:r>
            <a:endParaRPr b="0" lang="en-US" sz="1600" spc="-1" strike="noStrike">
              <a:solidFill>
                <a:srgbClr val="000000"/>
              </a:solidFill>
              <a:latin typeface="Times New Roman"/>
            </a:endParaRPr>
          </a:p>
        </p:txBody>
      </p:sp>
      <p:sp>
        <p:nvSpPr>
          <p:cNvPr id="68" name=""/>
          <p:cNvSpPr/>
          <p:nvPr/>
        </p:nvSpPr>
        <p:spPr>
          <a:xfrm flipV="1">
            <a:off x="4572000" y="25905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248520" y="30481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0" name=""/>
          <p:cNvSpPr/>
          <p:nvPr/>
        </p:nvSpPr>
        <p:spPr>
          <a:xfrm>
            <a:off x="6248520" y="40384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71" name=""/>
          <p:cNvSpPr/>
          <p:nvPr/>
        </p:nvSpPr>
        <p:spPr>
          <a:xfrm>
            <a:off x="3962520" y="35812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B4DC9EEF-74F1-4F98-A094-47BCA648F1A7}"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a:t>
            </a:r>
            <a:endParaRPr b="1" lang="en-US" sz="3600" spc="-1" strike="noStrike">
              <a:solidFill>
                <a:srgbClr val="ffffff"/>
              </a:solidFill>
              <a:latin typeface="Arial"/>
            </a:endParaRPr>
          </a:p>
        </p:txBody>
      </p:sp>
      <p:sp>
        <p:nvSpPr>
          <p:cNvPr id="20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AP is always notified of new associations; it is the authority on stations’ point of attachm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 that notifies the master AP of a new association learns where the unicast handover should be s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information can be forwarded to the new AP from the centralized location</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ld AP can consult the master AP to determine if it missed a handover</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can be queried by users for attachment information via SNM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ED3DD87A-A9B6-4BB7-A6F2-7E1FCF65183D}"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 (cont.)</a:t>
            </a:r>
            <a:endParaRPr b="1" lang="en-US" sz="3600" spc="-1" strike="noStrike">
              <a:solidFill>
                <a:srgbClr val="ffffff"/>
              </a:solidFill>
              <a:latin typeface="Arial"/>
            </a:endParaRPr>
          </a:p>
        </p:txBody>
      </p:sp>
      <p:sp>
        <p:nvSpPr>
          <p:cNvPr id="206"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07"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08"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10"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905200" y="2724120"/>
            <a:ext cx="1666800" cy="1104840"/>
          </a:xfrm>
          <a:custGeom>
            <a:avLst/>
            <a:gdLst/>
            <a:ahLst/>
            <a:rect l="l" t="t" r="r" b="b"/>
            <a:pathLst>
              <a:path w="1050" h="696">
                <a:moveTo>
                  <a:pt x="78" y="696"/>
                </a:moveTo>
                <a:cubicBezTo>
                  <a:pt x="86" y="630"/>
                  <a:pt x="0" y="374"/>
                  <a:pt x="138" y="300"/>
                </a:cubicBezTo>
                <a:cubicBezTo>
                  <a:pt x="276" y="226"/>
                  <a:pt x="762" y="302"/>
                  <a:pt x="906" y="252"/>
                </a:cubicBezTo>
                <a:cubicBezTo>
                  <a:pt x="1050" y="202"/>
                  <a:pt x="982" y="52"/>
                  <a:pt x="1002"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91040" y="2724120"/>
            <a:ext cx="1715760" cy="1066680"/>
          </a:xfrm>
          <a:custGeom>
            <a:avLst/>
            <a:gdLst/>
            <a:ahLst/>
            <a:rect l="l" t="t" r="r" b="b"/>
            <a:pathLst>
              <a:path w="1081" h="672">
                <a:moveTo>
                  <a:pt x="66" y="672"/>
                </a:moveTo>
                <a:cubicBezTo>
                  <a:pt x="77" y="636"/>
                  <a:pt x="0" y="492"/>
                  <a:pt x="144" y="456"/>
                </a:cubicBezTo>
                <a:cubicBezTo>
                  <a:pt x="288" y="420"/>
                  <a:pt x="779" y="532"/>
                  <a:pt x="930" y="456"/>
                </a:cubicBezTo>
                <a:cubicBezTo>
                  <a:pt x="1081" y="380"/>
                  <a:pt x="1025" y="95"/>
                  <a:pt x="105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16" name=""/>
          <p:cNvSpPr/>
          <p:nvPr/>
        </p:nvSpPr>
        <p:spPr>
          <a:xfrm>
            <a:off x="3467160" y="3699000"/>
            <a:ext cx="2819520" cy="45396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820960" y="3581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18" name=""/>
          <p:cNvSpPr/>
          <p:nvPr/>
        </p:nvSpPr>
        <p:spPr>
          <a:xfrm>
            <a:off x="3659400" y="373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4878360" y="2743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3505320" y="4038480"/>
            <a:ext cx="2819160" cy="45432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9080" y="4419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22" name=""/>
          <p:cNvSpPr/>
          <p:nvPr/>
        </p:nvSpPr>
        <p:spPr>
          <a:xfrm>
            <a:off x="537480" y="480060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New AP sends unicast handover to master</a:t>
            </a:r>
            <a:endParaRPr b="0" lang="en-US" sz="1600" spc="-1" strike="noStrike">
              <a:solidFill>
                <a:srgbClr val="000000"/>
              </a:solidFill>
              <a:latin typeface="Times New Roman"/>
            </a:endParaRPr>
          </a:p>
        </p:txBody>
      </p:sp>
      <p:sp>
        <p:nvSpPr>
          <p:cNvPr id="223" name=""/>
          <p:cNvSpPr/>
          <p:nvPr/>
        </p:nvSpPr>
        <p:spPr>
          <a:xfrm>
            <a:off x="537480" y="5105520"/>
            <a:ext cx="509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old AP back</a:t>
            </a:r>
            <a:endParaRPr b="0" lang="en-US" sz="1600" spc="-1" strike="noStrike">
              <a:solidFill>
                <a:srgbClr val="000000"/>
              </a:solidFill>
              <a:latin typeface="Times New Roman"/>
            </a:endParaRPr>
          </a:p>
        </p:txBody>
      </p:sp>
      <p:sp>
        <p:nvSpPr>
          <p:cNvPr id="224" name=""/>
          <p:cNvSpPr/>
          <p:nvPr/>
        </p:nvSpPr>
        <p:spPr>
          <a:xfrm>
            <a:off x="536400" y="5410080"/>
            <a:ext cx="42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New AP sends unicast handover to Old AP</a:t>
            </a:r>
            <a:endParaRPr b="0" lang="en-US" sz="1600" spc="-1" strike="noStrike">
              <a:solidFill>
                <a:srgbClr val="000000"/>
              </a:solidFill>
              <a:latin typeface="Times New Roman"/>
            </a:endParaRPr>
          </a:p>
        </p:txBody>
      </p:sp>
      <p:sp>
        <p:nvSpPr>
          <p:cNvPr id="225" name=""/>
          <p:cNvSpPr/>
          <p:nvPr/>
        </p:nvSpPr>
        <p:spPr>
          <a:xfrm>
            <a:off x="534960" y="5715000"/>
            <a:ext cx="502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ld AP optionally responds with unicast to new  AP</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60462F74-7E3F-4211-99AA-133064A33663}" type="slidenum">
              <a:t>2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 old AP consults the master</a:t>
            </a:r>
            <a:endParaRPr b="1" lang="en-US" sz="3600" spc="-1" strike="noStrike">
              <a:solidFill>
                <a:srgbClr val="ffffff"/>
              </a:solidFill>
              <a:latin typeface="Arial"/>
            </a:endParaRPr>
          </a:p>
        </p:txBody>
      </p:sp>
      <p:sp>
        <p:nvSpPr>
          <p:cNvPr id="227"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28"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29"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31"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35" name=""/>
          <p:cNvSpPr/>
          <p:nvPr/>
        </p:nvSpPr>
        <p:spPr>
          <a:xfrm>
            <a:off x="538200" y="4800600"/>
            <a:ext cx="382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ld AP sends unicast query to master</a:t>
            </a:r>
            <a:endParaRPr b="0" lang="en-US" sz="1600" spc="-1" strike="noStrike">
              <a:solidFill>
                <a:srgbClr val="000000"/>
              </a:solidFill>
              <a:latin typeface="Times New Roman"/>
            </a:endParaRPr>
          </a:p>
        </p:txBody>
      </p:sp>
      <p:sp>
        <p:nvSpPr>
          <p:cNvPr id="236" name=""/>
          <p:cNvSpPr/>
          <p:nvPr/>
        </p:nvSpPr>
        <p:spPr>
          <a:xfrm>
            <a:off x="537840" y="5105520"/>
            <a:ext cx="519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new AP back</a:t>
            </a:r>
            <a:endParaRPr b="0" lang="en-US" sz="1600" spc="-1" strike="noStrike">
              <a:solidFill>
                <a:srgbClr val="000000"/>
              </a:solidFill>
              <a:latin typeface="Times New Roman"/>
            </a:endParaRPr>
          </a:p>
        </p:txBody>
      </p:sp>
      <p:sp>
        <p:nvSpPr>
          <p:cNvPr id="237" name=""/>
          <p:cNvSpPr/>
          <p:nvPr/>
        </p:nvSpPr>
        <p:spPr>
          <a:xfrm>
            <a:off x="537480" y="5410080"/>
            <a:ext cx="44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ld AP requests new AP to reissue handover</a:t>
            </a:r>
            <a:endParaRPr b="0" lang="en-US" sz="1600" spc="-1" strike="noStrike">
              <a:solidFill>
                <a:srgbClr val="000000"/>
              </a:solidFill>
              <a:latin typeface="Times New Roman"/>
            </a:endParaRPr>
          </a:p>
        </p:txBody>
      </p:sp>
      <p:sp>
        <p:nvSpPr>
          <p:cNvPr id="238" name=""/>
          <p:cNvSpPr/>
          <p:nvPr/>
        </p:nvSpPr>
        <p:spPr>
          <a:xfrm>
            <a:off x="537480" y="5715000"/>
            <a:ext cx="497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ew AP responds with handover request to old AP</a:t>
            </a:r>
            <a:endParaRPr b="0" lang="en-US" sz="1600" spc="-1" strike="noStrike">
              <a:solidFill>
                <a:srgbClr val="000000"/>
              </a:solidFill>
              <a:latin typeface="Times New Roman"/>
            </a:endParaRPr>
          </a:p>
        </p:txBody>
      </p:sp>
      <p:sp>
        <p:nvSpPr>
          <p:cNvPr id="239" name=""/>
          <p:cNvSpPr/>
          <p:nvPr/>
        </p:nvSpPr>
        <p:spPr>
          <a:xfrm>
            <a:off x="5257800" y="2590920"/>
            <a:ext cx="1536840" cy="129528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10080" y="2438280"/>
            <a:ext cx="1536840" cy="129564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3556080"/>
            <a:ext cx="289548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05320" y="3733920"/>
            <a:ext cx="274320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59800" y="34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4" name=""/>
          <p:cNvSpPr/>
          <p:nvPr/>
        </p:nvSpPr>
        <p:spPr>
          <a:xfrm>
            <a:off x="5106960" y="2590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45" name=""/>
          <p:cNvSpPr/>
          <p:nvPr/>
        </p:nvSpPr>
        <p:spPr>
          <a:xfrm>
            <a:off x="6097680" y="3657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6" name=""/>
          <p:cNvSpPr/>
          <p:nvPr/>
        </p:nvSpPr>
        <p:spPr>
          <a:xfrm>
            <a:off x="3506760" y="4038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F16F3003-9CC4-4DCA-BD5E-A140D9A20143}"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amless operation, as if station were wired</a:t>
            </a:r>
            <a:endParaRPr b="1" lang="en-US" sz="3600" spc="-1" strike="noStrike">
              <a:solidFill>
                <a:srgbClr val="ffffff"/>
              </a:solidFill>
              <a:latin typeface="Arial"/>
            </a:endParaRPr>
          </a:p>
        </p:txBody>
      </p:sp>
      <p:sp>
        <p:nvSpPr>
          <p:cNvPr id="24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duplication or dropping of frames when roaming</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don’t always know if last frame to old AP was receiv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LANs are not permitted to duplicate frame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 must drop a retried data frame if there have been no prior data frames in the assoc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992C540-5EEA-4B77-9732-13BB6486C1EF}"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the master to coordinate control of the Distribution System</a:t>
            </a:r>
            <a:endParaRPr b="1" lang="en-US" sz="3600" spc="-1" strike="noStrike">
              <a:solidFill>
                <a:srgbClr val="ffffff"/>
              </a:solidFill>
              <a:latin typeface="Arial"/>
            </a:endParaRPr>
          </a:p>
        </p:txBody>
      </p:sp>
      <p:sp>
        <p:nvSpPr>
          <p:cNvPr id="25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central configuration and management entity (a Mast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at master AP with a reliable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RF parameters to optimize throughpu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need to know if they are connected to the 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E8FE8A6-BDE7-447E-ADFA-24E2DD1D7AD0}" type="slidenum">
              <a:t>2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ect a master AP with a reliable election</a:t>
            </a:r>
            <a:endParaRPr b="1" lang="en-US" sz="3600" spc="-1" strike="noStrike">
              <a:solidFill>
                <a:srgbClr val="ffffff"/>
              </a:solidFill>
              <a:latin typeface="Arial"/>
            </a:endParaRPr>
          </a:p>
        </p:txBody>
      </p:sp>
      <p:sp>
        <p:nvSpPr>
          <p:cNvPr id="25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ster candidates are needed for reliabilit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ain APs need to be given priority in a master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ction protocol should handle race conditions and error recover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6FCB568-F47E-4414-882E-231BD97B5AB8}"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RF parameters to optimize throughput</a:t>
            </a:r>
            <a:endParaRPr b="1" lang="en-US" sz="3600" spc="-1" strike="noStrike">
              <a:solidFill>
                <a:srgbClr val="ffffff"/>
              </a:solidFill>
              <a:latin typeface="Arial"/>
            </a:endParaRPr>
          </a:p>
        </p:txBody>
      </p:sp>
      <p:sp>
        <p:nvSpPr>
          <p:cNvPr id="25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channe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to avoid adjacent APs on same freq</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beacon interva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djacent APs must be on the same freq, selecting different beacon intervals prevent falling into long term lockste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E38415C-3FE9-490C-89D7-D125A1DE8ADA}" type="slidenum">
              <a:t>2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s need to know if they are connected to the DS</a:t>
            </a:r>
            <a:endParaRPr b="1" lang="en-US" sz="3600" spc="-1" strike="noStrike">
              <a:solidFill>
                <a:srgbClr val="ffffff"/>
              </a:solidFill>
              <a:latin typeface="Arial"/>
            </a:endParaRPr>
          </a:p>
        </p:txBody>
      </p:sp>
      <p:sp>
        <p:nvSpPr>
          <p:cNvPr id="25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that is detached from the DS should not allow stations to attac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may reconfigure for a wireless hop if the Ethernet path is known to be incomp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cons should advertise the AP’s hop cost to the master (the key distribution point)</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information for the st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043FC0CA-5908-42C5-8BFE-03D7DD27B7F2}" type="slidenum">
              <a:t>2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802.1x</a:t>
            </a:r>
            <a:endParaRPr b="1" lang="en-US" sz="3600" spc="-1" strike="noStrike">
              <a:solidFill>
                <a:srgbClr val="ffffff"/>
              </a:solidFill>
              <a:latin typeface="Arial"/>
            </a:endParaRPr>
          </a:p>
        </p:txBody>
      </p:sp>
      <p:sp>
        <p:nvSpPr>
          <p:cNvPr id="25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a sequence of Authentication, association, and authoriz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802.1x port-based security is used, the handover must occur afterwar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86061FF7-4357-4515-BCB2-9C9C07BEEE89}" type="slidenum">
              <a:t>2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Frame type</a:t>
            </a:r>
            <a:endParaRPr b="1" lang="en-US" sz="3600" spc="-1" strike="noStrike">
              <a:solidFill>
                <a:srgbClr val="ffffff"/>
              </a:solidFill>
              <a:latin typeface="Arial"/>
            </a:endParaRPr>
          </a:p>
        </p:txBody>
      </p:sp>
      <p:sp>
        <p:nvSpPr>
          <p:cNvPr id="26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must support SNAP encapsul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IAPP allows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normally using UDP/IP must still be able to respond to a SNAP packe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not eliminate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3 includes Ethernet II as a recognized frame typ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24E85ADC-EA11-4C3D-B154-CBE052B9F79D}"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Simple</a:t>
            </a:r>
            <a:endParaRPr b="1" lang="en-US" sz="3600" spc="-1" strike="noStrike">
              <a:solidFill>
                <a:srgbClr val="ffffff"/>
              </a:solidFill>
              <a:latin typeface="Arial"/>
            </a:endParaRPr>
          </a:p>
        </p:txBody>
      </p:sp>
      <p:sp>
        <p:nvSpPr>
          <p:cNvPr id="73" name=""/>
          <p:cNvSpPr/>
          <p:nvPr/>
        </p:nvSpPr>
        <p:spPr>
          <a:xfrm>
            <a:off x="3657600" y="4724280"/>
            <a:ext cx="228600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 802 LAN supporting Distribution System Function; Single Collision Domain</a:t>
            </a:r>
            <a:endParaRPr b="0" lang="en-US" sz="1600" spc="-1" strike="noStrike">
              <a:solidFill>
                <a:srgbClr val="000000"/>
              </a:solidFill>
              <a:latin typeface="Times New Roman"/>
            </a:endParaRPr>
          </a:p>
        </p:txBody>
      </p:sp>
      <p:sp>
        <p:nvSpPr>
          <p:cNvPr id="74"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7913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432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77"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432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9" name=""/>
          <p:cNvSpPr/>
          <p:nvPr/>
        </p:nvSpPr>
        <p:spPr>
          <a:xfrm>
            <a:off x="52578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80" name=""/>
          <p:cNvSpPr/>
          <p:nvPr/>
        </p:nvSpPr>
        <p:spPr>
          <a:xfrm>
            <a:off x="52578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81" name=""/>
          <p:cNvSpPr/>
          <p:nvPr/>
        </p:nvSpPr>
        <p:spPr>
          <a:xfrm>
            <a:off x="3809880" y="2209680"/>
            <a:ext cx="160020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7DE800B7-E698-4401-9BD2-88A1655DCD08}"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a:t>
            </a:r>
            <a:endParaRPr b="1" lang="en-US" sz="3600" spc="-1" strike="noStrike">
              <a:solidFill>
                <a:srgbClr val="ffffff"/>
              </a:solidFill>
              <a:latin typeface="Arial"/>
            </a:endParaRPr>
          </a:p>
        </p:txBody>
      </p:sp>
      <p:sp>
        <p:nvSpPr>
          <p:cNvPr id="26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cast handov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handover 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mplicit association sequence nu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handover solici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IP and add Ethernet II fram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8560C981-9ABA-4404-BD69-25497DF8F59D}" type="slidenum">
              <a:t>3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ver the MAC data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handover after 802.1X author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3B02DF6-2120-451D-A54A-14B39984E059}"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handover via ma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reliable el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 master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honor DTI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sequence el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9B1FAE59-2F80-4E19-8CA6-8605111588A1}"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Complex</a:t>
            </a:r>
            <a:endParaRPr b="1" lang="en-US" sz="3600" spc="-1" strike="noStrike">
              <a:solidFill>
                <a:srgbClr val="ffffff"/>
              </a:solidFill>
              <a:latin typeface="Arial"/>
            </a:endParaRPr>
          </a:p>
        </p:txBody>
      </p:sp>
      <p:graphicFrame>
        <p:nvGraphicFramePr>
          <p:cNvPr id="84" name=""/>
          <p:cNvGraphicFramePr/>
          <p:nvPr/>
        </p:nvGraphicFramePr>
        <p:xfrm>
          <a:off x="3886200" y="2057400"/>
          <a:ext cx="2330280" cy="1306440"/>
        </p:xfrm>
        <a:graphic>
          <a:graphicData uri="http://schemas.openxmlformats.org/presentationml/2006/ole">
            <p:oleObj r:id="rId1" spid="">
              <p:embed/>
              <p:pic>
                <p:nvPicPr>
                  <p:cNvPr id="85" name="" descr=""/>
                  <p:cNvPicPr/>
                  <p:nvPr/>
                </p:nvPicPr>
                <p:blipFill>
                  <a:blip r:embed="rId2"/>
                  <a:stretch/>
                </p:blipFill>
                <p:spPr>
                  <a:xfrm>
                    <a:off x="3886200" y="2057400"/>
                    <a:ext cx="2330280" cy="1306440"/>
                  </a:xfrm>
                  <a:prstGeom prst="rect">
                    <a:avLst/>
                  </a:prstGeom>
                  <a:ln w="0">
                    <a:noFill/>
                  </a:ln>
                </p:spPr>
              </p:pic>
            </p:oleObj>
          </a:graphicData>
        </a:graphic>
      </p:graphicFrame>
      <p:sp>
        <p:nvSpPr>
          <p:cNvPr id="86" name=""/>
          <p:cNvSpPr/>
          <p:nvPr/>
        </p:nvSpPr>
        <p:spPr>
          <a:xfrm>
            <a:off x="3733920" y="4724280"/>
            <a:ext cx="2438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 802 LAN supporting Distribution System Function; Multiple Collision Domains</a:t>
            </a:r>
            <a:endParaRPr b="0" lang="en-US" sz="1600" spc="-1" strike="noStrike">
              <a:solidFill>
                <a:srgbClr val="000000"/>
              </a:solidFill>
              <a:latin typeface="Times New Roman"/>
            </a:endParaRPr>
          </a:p>
        </p:txBody>
      </p:sp>
      <p:sp>
        <p:nvSpPr>
          <p:cNvPr id="87" name=""/>
          <p:cNvSpPr/>
          <p:nvPr/>
        </p:nvSpPr>
        <p:spPr>
          <a:xfrm>
            <a:off x="4387680" y="2284560"/>
            <a:ext cx="1354320" cy="95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bitrari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88" name=""/>
          <p:cNvSpPr/>
          <p:nvPr/>
        </p:nvSpPr>
        <p:spPr>
          <a:xfrm flipV="1">
            <a:off x="64771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0"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1952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92" name=""/>
          <p:cNvSpPr/>
          <p:nvPr/>
        </p:nvSpPr>
        <p:spPr>
          <a:xfrm>
            <a:off x="59436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3" name=""/>
          <p:cNvSpPr/>
          <p:nvPr/>
        </p:nvSpPr>
        <p:spPr>
          <a:xfrm>
            <a:off x="594360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074E3A22-66D0-4309-8590-714860345B76}"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for enhancement</a:t>
            </a:r>
            <a:endParaRPr b="1" lang="en-US" sz="3600" spc="-1" strike="noStrike">
              <a:solidFill>
                <a:srgbClr val="ffffff"/>
              </a:solidFill>
              <a:latin typeface="Arial"/>
            </a:endParaRPr>
          </a:p>
        </p:txBody>
      </p:sp>
      <p:sp>
        <p:nvSpPr>
          <p:cNvPr id="9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ust have one and only one associ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operation, as if station were wired</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to complex networks</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control of the Distribution System</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work with 802.11 compliant st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of higher level protoc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6ADEC43D-52A1-4FCE-B161-9318A69C9998}"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ust have at least one association</a:t>
            </a:r>
            <a:endParaRPr b="1" lang="en-US" sz="3600" spc="-1" strike="noStrike">
              <a:solidFill>
                <a:srgbClr val="ffffff"/>
              </a:solidFill>
              <a:latin typeface="Arial"/>
            </a:endParaRPr>
          </a:p>
        </p:txBody>
      </p:sp>
      <p:sp>
        <p:nvSpPr>
          <p:cNvPr id="9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drops association after TX error, leaving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layed or retried handover DS leaves a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ing obsolete handov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74F33802-54CC-49B3-B9DD-7402F23E500F}"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may not generate traffic to correct a problem in DS</a:t>
            </a:r>
            <a:endParaRPr b="1" lang="en-US" sz="3600" spc="-1" strike="noStrike">
              <a:solidFill>
                <a:srgbClr val="ffffff"/>
              </a:solidFill>
              <a:latin typeface="Arial"/>
            </a:endParaRPr>
          </a:p>
        </p:txBody>
      </p:sp>
      <p:sp>
        <p:nvSpPr>
          <p:cNvPr id="99" name=""/>
          <p:cNvSpPr/>
          <p:nvPr/>
        </p:nvSpPr>
        <p:spPr>
          <a:xfrm>
            <a:off x="259092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00" name=""/>
          <p:cNvSpPr/>
          <p:nvPr/>
        </p:nvSpPr>
        <p:spPr>
          <a:xfrm>
            <a:off x="518148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t>
            </a:r>
            <a:endParaRPr b="0" lang="en-US" sz="1800" spc="-1" strike="noStrike">
              <a:solidFill>
                <a:srgbClr val="000000"/>
              </a:solidFill>
              <a:latin typeface="Times New Roman"/>
            </a:endParaRPr>
          </a:p>
        </p:txBody>
      </p:sp>
      <p:sp>
        <p:nvSpPr>
          <p:cNvPr id="101" name=""/>
          <p:cNvSpPr/>
          <p:nvPr/>
        </p:nvSpPr>
        <p:spPr>
          <a:xfrm>
            <a:off x="5181480" y="48006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102" name=""/>
          <p:cNvSpPr/>
          <p:nvPr/>
        </p:nvSpPr>
        <p:spPr>
          <a:xfrm>
            <a:off x="1447920" y="23623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12408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71500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715000" y="3733920"/>
            <a:ext cx="152280" cy="1066680"/>
          </a:xfrm>
          <a:custGeom>
            <a:avLst/>
            <a:gdLst/>
            <a:ahLst/>
            <a:rect l="l" t="t" r="r" b="b"/>
            <a:pathLst>
              <a:path w="96" h="672">
                <a:moveTo>
                  <a:pt x="0" y="672"/>
                </a:moveTo>
                <a:lnTo>
                  <a:pt x="0" y="288"/>
                </a:lnTo>
                <a:lnTo>
                  <a:pt x="96" y="384"/>
                </a:lnTo>
                <a:lnTo>
                  <a:pt x="9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57600" y="2260440"/>
            <a:ext cx="1752480" cy="2463840"/>
          </a:xfrm>
          <a:custGeom>
            <a:avLst/>
            <a:gdLst/>
            <a:ahLst/>
            <a:rect l="l" t="t" r="r" b="b"/>
            <a:pathLst>
              <a:path w="1104" h="1552">
                <a:moveTo>
                  <a:pt x="1104" y="1552"/>
                </a:moveTo>
                <a:cubicBezTo>
                  <a:pt x="1024" y="1328"/>
                  <a:pt x="808" y="416"/>
                  <a:pt x="624" y="208"/>
                </a:cubicBezTo>
                <a:cubicBezTo>
                  <a:pt x="440" y="0"/>
                  <a:pt x="130" y="284"/>
                  <a:pt x="0" y="30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33920" y="2438280"/>
            <a:ext cx="1523880" cy="2286000"/>
          </a:xfrm>
          <a:custGeom>
            <a:avLst/>
            <a:gdLst/>
            <a:ahLst/>
            <a:rect l="l" t="t" r="r" b="b"/>
            <a:pathLst>
              <a:path w="960" h="1440">
                <a:moveTo>
                  <a:pt x="0" y="288"/>
                </a:moveTo>
                <a:cubicBezTo>
                  <a:pt x="80" y="272"/>
                  <a:pt x="320" y="0"/>
                  <a:pt x="480" y="192"/>
                </a:cubicBezTo>
                <a:cubicBezTo>
                  <a:pt x="640" y="384"/>
                  <a:pt x="860" y="1180"/>
                  <a:pt x="960" y="14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488200" y="365760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3600" spc="-1" strike="noStrike">
                <a:solidFill>
                  <a:srgbClr val="ff0000"/>
                </a:solidFill>
                <a:latin typeface="Arial"/>
              </a:rPr>
              <a:t>X</a:t>
            </a:r>
            <a:endParaRPr b="0" lang="en-US" sz="3600" spc="-1" strike="noStrike">
              <a:solidFill>
                <a:srgbClr val="000000"/>
              </a:solidFill>
              <a:latin typeface="Times New Roman"/>
            </a:endParaRPr>
          </a:p>
        </p:txBody>
      </p:sp>
      <p:sp>
        <p:nvSpPr>
          <p:cNvPr id="109" name=""/>
          <p:cNvSpPr/>
          <p:nvPr/>
        </p:nvSpPr>
        <p:spPr>
          <a:xfrm>
            <a:off x="4726080" y="25146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q</a:t>
            </a:r>
            <a:endParaRPr b="0" lang="en-US" sz="1800" spc="-1" strike="noStrike">
              <a:solidFill>
                <a:srgbClr val="000000"/>
              </a:solidFill>
              <a:latin typeface="Times New Roman"/>
            </a:endParaRPr>
          </a:p>
        </p:txBody>
      </p:sp>
      <p:sp>
        <p:nvSpPr>
          <p:cNvPr id="110" name=""/>
          <p:cNvSpPr/>
          <p:nvPr/>
        </p:nvSpPr>
        <p:spPr>
          <a:xfrm>
            <a:off x="4041000" y="31240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ck</a:t>
            </a:r>
            <a:endParaRPr b="0" lang="en-US" sz="1800" spc="-1" strike="noStrike">
              <a:solidFill>
                <a:srgbClr val="000000"/>
              </a:solidFill>
              <a:latin typeface="Times New Roman"/>
            </a:endParaRPr>
          </a:p>
        </p:txBody>
      </p:sp>
      <p:sp>
        <p:nvSpPr>
          <p:cNvPr id="111" name=""/>
          <p:cNvSpPr/>
          <p:nvPr/>
        </p:nvSpPr>
        <p:spPr>
          <a:xfrm>
            <a:off x="3276720" y="1968480"/>
            <a:ext cx="3784320" cy="1612800"/>
          </a:xfrm>
          <a:custGeom>
            <a:avLst/>
            <a:gdLst/>
            <a:ahLst/>
            <a:rect l="l" t="t" r="r" b="b"/>
            <a:pathLst>
              <a:path w="2384" h="1016">
                <a:moveTo>
                  <a:pt x="0" y="536"/>
                </a:moveTo>
                <a:cubicBezTo>
                  <a:pt x="276" y="268"/>
                  <a:pt x="552" y="0"/>
                  <a:pt x="912" y="8"/>
                </a:cubicBezTo>
                <a:cubicBezTo>
                  <a:pt x="1272" y="16"/>
                  <a:pt x="1936" y="416"/>
                  <a:pt x="2160" y="584"/>
                </a:cubicBezTo>
                <a:cubicBezTo>
                  <a:pt x="2384" y="752"/>
                  <a:pt x="2232" y="792"/>
                  <a:pt x="2256" y="10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02240" y="327672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3600" spc="-1" strike="noStrike">
                <a:solidFill>
                  <a:srgbClr val="ff0000"/>
                </a:solidFill>
                <a:latin typeface="Arial"/>
              </a:rPr>
              <a:t>X</a:t>
            </a:r>
            <a:r>
              <a:rPr b="1" lang="en-US" sz="1800" spc="-1" strike="noStrike">
                <a:solidFill>
                  <a:srgbClr val="000000"/>
                </a:solidFill>
                <a:latin typeface="Arial"/>
              </a:rPr>
              <a:t> Rsp</a:t>
            </a:r>
            <a:endParaRPr b="0" lang="en-US" sz="1800" spc="-1" strike="noStrike">
              <a:solidFill>
                <a:srgbClr val="000000"/>
              </a:solidFill>
              <a:latin typeface="Times New Roman"/>
            </a:endParaRPr>
          </a:p>
        </p:txBody>
      </p:sp>
      <p:sp>
        <p:nvSpPr>
          <p:cNvPr id="113" name=""/>
          <p:cNvSpPr/>
          <p:nvPr/>
        </p:nvSpPr>
        <p:spPr>
          <a:xfrm>
            <a:off x="6394680" y="4608360"/>
            <a:ext cx="232344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waits fore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er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and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 connection</a:t>
            </a:r>
            <a:endParaRPr b="0" lang="en-US" sz="1800" spc="-1" strike="noStrike">
              <a:solidFill>
                <a:srgbClr val="000000"/>
              </a:solidFill>
              <a:latin typeface="Times New Roman"/>
            </a:endParaRPr>
          </a:p>
        </p:txBody>
      </p:sp>
      <p:sp>
        <p:nvSpPr>
          <p:cNvPr id="114" name=""/>
          <p:cNvSpPr/>
          <p:nvPr/>
        </p:nvSpPr>
        <p:spPr>
          <a:xfrm>
            <a:off x="918000" y="3962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lient sends request</a:t>
            </a:r>
            <a:endParaRPr b="0" lang="en-US" sz="1800" spc="-1" strike="noStrike">
              <a:solidFill>
                <a:srgbClr val="000000"/>
              </a:solidFill>
              <a:latin typeface="Times New Roman"/>
            </a:endParaRPr>
          </a:p>
        </p:txBody>
      </p:sp>
      <p:sp>
        <p:nvSpPr>
          <p:cNvPr id="115" name=""/>
          <p:cNvSpPr/>
          <p:nvPr/>
        </p:nvSpPr>
        <p:spPr>
          <a:xfrm>
            <a:off x="916920" y="434340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erver sends ACK</a:t>
            </a:r>
            <a:endParaRPr b="0" lang="en-US" sz="1800" spc="-1" strike="noStrike">
              <a:solidFill>
                <a:srgbClr val="000000"/>
              </a:solidFill>
              <a:latin typeface="Times New Roman"/>
            </a:endParaRPr>
          </a:p>
        </p:txBody>
      </p:sp>
      <p:sp>
        <p:nvSpPr>
          <p:cNvPr id="116" name=""/>
          <p:cNvSpPr/>
          <p:nvPr/>
        </p:nvSpPr>
        <p:spPr>
          <a:xfrm>
            <a:off x="917640" y="472428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P drops association</a:t>
            </a:r>
            <a:endParaRPr b="0" lang="en-US" sz="1800" spc="-1" strike="noStrike">
              <a:solidFill>
                <a:srgbClr val="000000"/>
              </a:solidFill>
              <a:latin typeface="Times New Roman"/>
            </a:endParaRPr>
          </a:p>
        </p:txBody>
      </p:sp>
      <p:sp>
        <p:nvSpPr>
          <p:cNvPr id="117" name=""/>
          <p:cNvSpPr/>
          <p:nvPr/>
        </p:nvSpPr>
        <p:spPr>
          <a:xfrm>
            <a:off x="918720" y="51055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response can’t get through</a:t>
            </a:r>
            <a:endParaRPr b="0" lang="en-US" sz="1800" spc="-1" strike="noStrike">
              <a:solidFill>
                <a:srgbClr val="000000"/>
              </a:solidFill>
              <a:latin typeface="Times New Roman"/>
            </a:endParaRPr>
          </a:p>
        </p:txBody>
      </p:sp>
      <p:sp>
        <p:nvSpPr>
          <p:cNvPr id="118" name=""/>
          <p:cNvSpPr/>
          <p:nvPr/>
        </p:nvSpPr>
        <p:spPr>
          <a:xfrm>
            <a:off x="918720" y="548640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lient still hears beacon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96554548-A0E1-402D-94DC-024EC893DEF2}"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 drops association after error, leaving station unassociated</a:t>
            </a:r>
            <a:endParaRPr b="1" lang="en-US" sz="3600" spc="-1" strike="noStrike">
              <a:solidFill>
                <a:srgbClr val="ffffff"/>
              </a:solidFill>
              <a:latin typeface="Arial"/>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ion doesn’t respond to a frame from the AP</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 discards the association without positive confirmation from the station</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PP should work with unenhanced 802.11 st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C8441B5-8CBD-4B08-BF12-77AEAFA5BC8A}"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delayed or retried handover leaves a station unassociated</a:t>
            </a:r>
            <a:endParaRPr b="1" lang="en-US" sz="3600" spc="-1" strike="noStrike">
              <a:solidFill>
                <a:srgbClr val="ffffff"/>
              </a:solidFill>
              <a:latin typeface="Arial"/>
            </a:endParaRPr>
          </a:p>
        </p:txBody>
      </p:sp>
      <p:sp>
        <p:nvSpPr>
          <p:cNvPr id="12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is delayed or retried in the DS and is successful, but obso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B1A49B6-BBB7-49F1-880B-89D5F3CD8F3C}"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5:40:48Z</dcterms:created>
  <dc:creator>Gary Spiess</dc:creator>
  <dc:description/>
  <dc:language>en-US</dc:language>
  <cp:lastModifiedBy>Gary N Spiess</cp:lastModifiedBy>
  <cp:lastPrinted>2000-05-05T17:28:17Z</cp:lastPrinted>
  <dcterms:modified xsi:type="dcterms:W3CDTF">2000-05-08T16:56:50Z</dcterms:modified>
  <cp:revision>23</cp:revision>
  <dc:subject/>
  <dc:title>Enhancing the IAPP Protocol</dc:title>
</cp:coreProperties>
</file>