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1DB-2DFE-44CD-A0B3-A7DDC914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49B-2806-4209-99DF-D4DCFE8C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B13-5A87-48EC-AF2A-0CB62BAA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69C-EFFC-4AD3-BE28-E4A77498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DBE-8780-4F76-B134-AA129080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51C-347E-4F53-BAEA-14A6618F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070-54EF-4AAA-806A-5B171D03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888-7CD8-41C0-BF7F-FF25DE8D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33F-121A-4402-A020-5F3333D9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535-CA7A-440F-809A-571551F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912-B7E8-4732-9E40-0894620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B57-39DD-4B47-B479-A78992C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161AFB-F15B-48B1-8B81-EA584A55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er Rate 802.11b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the Data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hew Shoe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 Sch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ntro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1 Stony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07) 521-3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8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87D-D259-4390-8134-48ACBB7859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the Data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White 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BCC FEC has a “3db” coding gain 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joint equalizer/decoder” can process much more disto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trellis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24840" y="5479920"/>
            <a:ext cx="26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ise, Multipath 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3911760" y="3427560"/>
            <a:ext cx="15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ata Rate,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56280" y="2044800"/>
            <a:ext cx="3085920" cy="323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60840" y="2044800"/>
            <a:ext cx="180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78360" y="2044800"/>
            <a:ext cx="180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88200" y="2044800"/>
            <a:ext cx="144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2044800"/>
            <a:ext cx="144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2044800"/>
            <a:ext cx="144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2044800"/>
            <a:ext cx="144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56280" y="5283360"/>
            <a:ext cx="308592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2200" y="5283360"/>
            <a:ext cx="180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56280" y="4635360"/>
            <a:ext cx="3085920" cy="18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2200" y="4635360"/>
            <a:ext cx="1800" cy="18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56280" y="3987720"/>
            <a:ext cx="3085920" cy="18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2200" y="3987720"/>
            <a:ext cx="1800" cy="18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56280" y="3340080"/>
            <a:ext cx="308592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2200" y="3340080"/>
            <a:ext cx="180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56280" y="2692440"/>
            <a:ext cx="308592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42200" y="2692440"/>
            <a:ext cx="180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6280" y="2044800"/>
            <a:ext cx="308592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42200" y="2044800"/>
            <a:ext cx="180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56280" y="5283360"/>
            <a:ext cx="308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56280" y="2044800"/>
            <a:ext cx="308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42200" y="2044800"/>
            <a:ext cx="1800" cy="32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156280" y="2044800"/>
            <a:ext cx="1440" cy="32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56280" y="5283360"/>
            <a:ext cx="308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56280" y="2044800"/>
            <a:ext cx="1440" cy="32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460840" y="52452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0840" y="2044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78360" y="52452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8360" y="2044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88200" y="52452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88200" y="2044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705720" y="52452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2044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15200" y="52452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2044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620120" y="52452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044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56280" y="528336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204040" y="528336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7920" y="5213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56280" y="463536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204040" y="463536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7920" y="45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56280" y="398772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204040" y="398772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71600" y="3917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56280" y="33400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04040" y="33400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71600" y="327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56280" y="269244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204040" y="269244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71600" y="2622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6280" y="204480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204040" y="204480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71600" y="1974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56280" y="2044800"/>
            <a:ext cx="308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56280" y="2044800"/>
            <a:ext cx="3085920" cy="3238560"/>
          </a:xfrm>
          <a:custGeom>
            <a:avLst/>
            <a:gdLst/>
            <a:ahLst/>
            <a:rect l="l" t="t" r="r" b="b"/>
            <a:pathLst>
              <a:path w="1944" h="2040">
                <a:moveTo>
                  <a:pt x="0" y="2040"/>
                </a:moveTo>
                <a:lnTo>
                  <a:pt x="1944" y="2040"/>
                </a:lnTo>
                <a:lnTo>
                  <a:pt x="19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56280" y="2044800"/>
            <a:ext cx="1440" cy="32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860640"/>
            <a:ext cx="317520" cy="142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8560" y="2438280"/>
            <a:ext cx="304920" cy="2845080"/>
          </a:xfrm>
          <a:prstGeom prst="rect">
            <a:avLst/>
          </a:prstGeom>
          <a:solidFill>
            <a:srgbClr val="cc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4572000"/>
            <a:ext cx="317520" cy="71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5029200"/>
            <a:ext cx="317520" cy="254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3860640"/>
            <a:ext cx="304920" cy="1422720"/>
          </a:xfrm>
          <a:prstGeom prst="rect">
            <a:avLst/>
          </a:prstGeom>
          <a:solidFill>
            <a:srgbClr val="cc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4572000"/>
            <a:ext cx="304560" cy="7113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2057400"/>
            <a:ext cx="121896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ffany"/>
              </a:rPr>
              <a:t>CCK/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752480"/>
            <a:ext cx="13716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ffany"/>
              </a:rPr>
              <a:t>PBCC/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638320" y="2438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0480" y="2309760"/>
            <a:ext cx="7948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ffany"/>
              </a:rPr>
              <a:t>2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35120" y="3763800"/>
            <a:ext cx="7948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ffany"/>
              </a:rPr>
              <a:t>11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3886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95800" y="4419720"/>
            <a:ext cx="83592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ffany"/>
              </a:rPr>
              <a:t>5.5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62760" y="4952880"/>
            <a:ext cx="70812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ffany"/>
              </a:rPr>
              <a:t>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50292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41008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ECA-BED3-4928-A475-42D6EACBD0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“double the data rate” in the sam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te with existing IEEE802.11b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2D3-6FE4-4705-BB8C-C038BA2150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18097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Error Rate in AW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tandard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 vers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S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15200" y="2666880"/>
            <a:ext cx="1358640" cy="838440"/>
            <a:chOff x="7315200" y="2666880"/>
            <a:chExt cx="1358640" cy="838440"/>
          </a:xfrm>
        </p:grpSpPr>
        <p:sp>
          <p:nvSpPr>
            <p:cNvPr id="132" name=""/>
            <p:cNvSpPr/>
            <p:nvPr/>
          </p:nvSpPr>
          <p:spPr>
            <a:xfrm flipH="1">
              <a:off x="7315200" y="2971800"/>
              <a:ext cx="9907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78760" y="2666880"/>
              <a:ext cx="59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-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477120" y="2362320"/>
            <a:ext cx="1460520" cy="837720"/>
            <a:chOff x="6477120" y="2362320"/>
            <a:chExt cx="1460520" cy="837720"/>
          </a:xfrm>
        </p:grpSpPr>
        <p:sp>
          <p:nvSpPr>
            <p:cNvPr id="135" name=""/>
            <p:cNvSpPr/>
            <p:nvPr/>
          </p:nvSpPr>
          <p:spPr>
            <a:xfrm flipH="1">
              <a:off x="6477120" y="2666880"/>
              <a:ext cx="9907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40320" y="2362320"/>
              <a:ext cx="6973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-C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333760" y="2209680"/>
            <a:ext cx="1278720" cy="838440"/>
            <a:chOff x="5333760" y="2209680"/>
            <a:chExt cx="1278720" cy="838440"/>
          </a:xfrm>
        </p:grpSpPr>
        <p:sp>
          <p:nvSpPr>
            <p:cNvPr id="138" name=""/>
            <p:cNvSpPr/>
            <p:nvPr/>
          </p:nvSpPr>
          <p:spPr>
            <a:xfrm flipH="1">
              <a:off x="5333760" y="2514600"/>
              <a:ext cx="704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77000" y="2209680"/>
              <a:ext cx="7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5-C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67280" y="2666880"/>
            <a:ext cx="1341720" cy="609840"/>
            <a:chOff x="5867280" y="2666880"/>
            <a:chExt cx="1341720" cy="609840"/>
          </a:xfrm>
        </p:grpSpPr>
        <p:sp>
          <p:nvSpPr>
            <p:cNvPr id="141" name=""/>
            <p:cNvSpPr/>
            <p:nvPr/>
          </p:nvSpPr>
          <p:spPr>
            <a:xfrm flipH="1">
              <a:off x="5867280" y="2888640"/>
              <a:ext cx="73584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3920" y="2666880"/>
              <a:ext cx="77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-P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2666880"/>
            <a:ext cx="1261080" cy="685440"/>
            <a:chOff x="5105520" y="2666880"/>
            <a:chExt cx="1261080" cy="685440"/>
          </a:xfrm>
        </p:grpSpPr>
        <p:sp>
          <p:nvSpPr>
            <p:cNvPr id="144" name=""/>
            <p:cNvSpPr/>
            <p:nvPr/>
          </p:nvSpPr>
          <p:spPr>
            <a:xfrm flipH="1">
              <a:off x="5105520" y="2916000"/>
              <a:ext cx="5824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53360" y="2666880"/>
              <a:ext cx="81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5-P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343400" y="2286000"/>
            <a:ext cx="1014120" cy="685440"/>
            <a:chOff x="4343400" y="2286000"/>
            <a:chExt cx="1014120" cy="685440"/>
          </a:xfrm>
        </p:grpSpPr>
        <p:sp>
          <p:nvSpPr>
            <p:cNvPr id="147" name=""/>
            <p:cNvSpPr/>
            <p:nvPr/>
          </p:nvSpPr>
          <p:spPr>
            <a:xfrm flipH="1">
              <a:off x="4343400" y="2535120"/>
              <a:ext cx="3772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7160" y="2286000"/>
              <a:ext cx="720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-Bar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CF8-4653-4B88-B693-F32A277046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 Gain in AW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76720" y="158112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tandard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 vers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d S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486040" y="1981080"/>
            <a:ext cx="1492920" cy="685440"/>
            <a:chOff x="5486040" y="1981080"/>
            <a:chExt cx="1492920" cy="685440"/>
          </a:xfrm>
        </p:grpSpPr>
        <p:sp>
          <p:nvSpPr>
            <p:cNvPr id="153" name=""/>
            <p:cNvSpPr/>
            <p:nvPr/>
          </p:nvSpPr>
          <p:spPr>
            <a:xfrm flipH="1">
              <a:off x="5486040" y="2230200"/>
              <a:ext cx="116532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83880" y="1981080"/>
              <a:ext cx="59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-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705720" y="3048120"/>
            <a:ext cx="1257840" cy="837720"/>
            <a:chOff x="6705720" y="3048120"/>
            <a:chExt cx="1257840" cy="837720"/>
          </a:xfrm>
        </p:grpSpPr>
        <p:sp>
          <p:nvSpPr>
            <p:cNvPr id="156" name=""/>
            <p:cNvSpPr/>
            <p:nvPr/>
          </p:nvSpPr>
          <p:spPr>
            <a:xfrm flipH="1">
              <a:off x="6705720" y="3352680"/>
              <a:ext cx="9907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8920" y="3048120"/>
              <a:ext cx="494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343760" y="4038120"/>
            <a:ext cx="1031400" cy="581400"/>
            <a:chOff x="4343760" y="4038120"/>
            <a:chExt cx="1031400" cy="581400"/>
          </a:xfrm>
        </p:grpSpPr>
        <p:sp>
          <p:nvSpPr>
            <p:cNvPr id="159" name=""/>
            <p:cNvSpPr/>
            <p:nvPr/>
          </p:nvSpPr>
          <p:spPr>
            <a:xfrm flipV="1">
              <a:off x="4800600" y="4038120"/>
              <a:ext cx="574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343760" y="4343040"/>
              <a:ext cx="572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C1A-C465-4B71-8C27-74EA39A40D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Error Rate in AW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0400" y="180972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tandard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vers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S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5D1-58E9-41CB-83C7-04E9A8246F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352680" y="16956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 Gain in AW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tandard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vers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d S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165-A776-499B-A9AC-E9264C1037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2000-05-10T17:28:04Z</dcterms:modified>
  <cp:revision>20</cp:revision>
  <dc:subject/>
  <dc:title>No Slide Title</dc:title>
</cp:coreProperties>
</file>