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30E-03A0-4843-9AEC-EA0308CD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4C1-C41B-4BA7-B198-147093E2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279-619B-4729-8B8B-385F380D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EB5-5E38-4AA9-89E1-1C534B7A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CBC-1272-4F70-B6B5-0E3389ED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D0A-8ED9-4E9C-8015-5C308918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9A8-EF0B-4CC5-A051-2F92C593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2A9-D307-47E3-968D-F35670F0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DCB-A964-408C-A9CD-418721E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F89-B5FF-49FA-B4B2-EE20395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8A3-262E-4DE0-816A-5C78B4B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511-49B2-4314-9B0A-4CBE430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55985E-40DA-4EFA-BB9E-D84ED00FA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802.11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tro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1 Stony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07) 521-3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8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FE0-74BC-48BD-B35D-98811416C5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b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pread Spectrum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scientific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olitical (e.g., the FCC r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locklength (8) of CCK does not relate to gain (6 dB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rambling period (256) of PBCC does not relate to gain (24 dB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9212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r rates above 2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6E6-F74F-4867-9608-E3469890B2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- Bandwidth (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- Data Rate (bps = bits*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al efficiency”                    (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ing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s the # of dimensions used by a waveform set to the bandwidth occupancy of th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form complexity              (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29200" y="3124080"/>
          <a:ext cx="9907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124080"/>
                    <a:ext cx="9907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4800" y="3962520"/>
          <a:ext cx="94608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962520"/>
                    <a:ext cx="9460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05520" y="5562720"/>
          <a:ext cx="43488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5562720"/>
                    <a:ext cx="434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BC2-64BD-4EFB-80D6-C6C90796BD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802.11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Barker                             2-B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-CCK                           11-C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-PBCC                         11-P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-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81080" y="2133720"/>
          <a:ext cx="94644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9464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981080" y="2743200"/>
          <a:ext cx="117504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743200"/>
                    <a:ext cx="1175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971800" y="3733920"/>
          <a:ext cx="155268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733920"/>
                    <a:ext cx="15526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read Spectru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13720" y="3733920"/>
          <a:ext cx="148896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13720" y="3733920"/>
                    <a:ext cx="1488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419720" y="601992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The value of r assumes no excess 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108240" y="4343400"/>
          <a:ext cx="1279440" cy="59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8240" y="4343400"/>
                    <a:ext cx="1279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670800" y="4491000"/>
          <a:ext cx="119520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70800" y="4491000"/>
                    <a:ext cx="11952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705720" y="5105520"/>
          <a:ext cx="1195200" cy="29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05720" y="5105520"/>
                    <a:ext cx="11952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71880" y="4957920"/>
          <a:ext cx="1299960" cy="59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71880" y="4957920"/>
                    <a:ext cx="12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22680" y="5715000"/>
          <a:ext cx="1236600" cy="29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22680" y="5715000"/>
                    <a:ext cx="12366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4B1-8372-47C8-9E01-BE47A53394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High Rate and Spread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nnon Theory tells us wh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819520" y="3276720"/>
          <a:ext cx="3327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332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200400" y="4110120"/>
          <a:ext cx="2414520" cy="16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110120"/>
                    <a:ext cx="24145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601-58B3-4CA1-992F-A1D7BCCC1F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nnon Theory with Sp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94080" y="3048120"/>
          <a:ext cx="3979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4080" y="3048120"/>
                    <a:ext cx="3979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184560" y="4452840"/>
          <a:ext cx="244800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4452840"/>
                    <a:ext cx="2448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E0F-2A05-4DDB-91FE-94A861B9F7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ing at Low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476760" y="5334120"/>
            <a:ext cx="1219320" cy="304560"/>
            <a:chOff x="6476760" y="5334120"/>
            <a:chExt cx="1219320" cy="304560"/>
          </a:xfrm>
        </p:grpSpPr>
        <p:graphicFrame>
          <p:nvGraphicFramePr>
            <p:cNvPr id="94" name=""/>
            <p:cNvGraphicFramePr/>
            <p:nvPr/>
          </p:nvGraphicFramePr>
          <p:xfrm>
            <a:off x="7238880" y="5334120"/>
            <a:ext cx="457200" cy="172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5334120"/>
                      <a:ext cx="4572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 flipH="1">
              <a:off x="6476760" y="5410080"/>
              <a:ext cx="609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" name=""/>
          <p:cNvGraphicFramePr/>
          <p:nvPr/>
        </p:nvGraphicFramePr>
        <p:xfrm>
          <a:off x="7223040" y="5029200"/>
          <a:ext cx="488880" cy="1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23040" y="5029200"/>
                    <a:ext cx="48888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H="1">
            <a:off x="6476760" y="5105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238880" y="3801960"/>
          <a:ext cx="489240" cy="18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3801960"/>
                    <a:ext cx="489240" cy="1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H="1" flipV="1">
            <a:off x="6553080" y="3733560"/>
            <a:ext cx="5493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010280" y="3124080"/>
          <a:ext cx="552600" cy="1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10280" y="3124080"/>
                    <a:ext cx="5526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H="1" flipV="1">
            <a:off x="6340320" y="2971440"/>
            <a:ext cx="594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64000" y="2362320"/>
          <a:ext cx="582840" cy="17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64000" y="2362320"/>
                    <a:ext cx="5828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H="1">
            <a:off x="4663800" y="243828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137-25E7-47CB-9324-E581F0738C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ing at High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476760" y="5334120"/>
            <a:ext cx="1219320" cy="304560"/>
            <a:chOff x="6476760" y="5334120"/>
            <a:chExt cx="1219320" cy="304560"/>
          </a:xfrm>
        </p:grpSpPr>
        <p:graphicFrame>
          <p:nvGraphicFramePr>
            <p:cNvPr id="112" name=""/>
            <p:cNvGraphicFramePr/>
            <p:nvPr/>
          </p:nvGraphicFramePr>
          <p:xfrm>
            <a:off x="7238880" y="5334120"/>
            <a:ext cx="457200" cy="172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5334120"/>
                      <a:ext cx="4572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H="1">
              <a:off x="6476760" y="5410080"/>
              <a:ext cx="609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"/>
          <p:cNvGraphicFramePr/>
          <p:nvPr/>
        </p:nvGraphicFramePr>
        <p:xfrm>
          <a:off x="7223040" y="5029200"/>
          <a:ext cx="488880" cy="1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23040" y="5029200"/>
                    <a:ext cx="48888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>
            <a:off x="6476760" y="5105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086600" y="3200400"/>
          <a:ext cx="488880" cy="18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86600" y="3200400"/>
                    <a:ext cx="488880" cy="1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 flipH="1" flipV="1">
            <a:off x="6476760" y="3047760"/>
            <a:ext cx="549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5880" y="2286000"/>
          <a:ext cx="552600" cy="1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5880" y="2286000"/>
                    <a:ext cx="5526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H="1">
            <a:off x="5638680" y="2514600"/>
            <a:ext cx="5335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48320" y="2362320"/>
          <a:ext cx="582480" cy="17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8320" y="2362320"/>
                    <a:ext cx="5824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4038480" y="2438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E0C-CE94-4B34-BD2F-F009D2E574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2000-05-10T17:30:05Z</dcterms:modified>
  <cp:revision>43</cp:revision>
  <dc:subject/>
  <dc:title>No Slide Title</dc:title>
</cp:coreProperties>
</file>