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E26-968E-46B2-AC31-292C1924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2FF-1F3C-46C7-A7E9-77B44692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C5B-ED6A-41C8-81F5-8244AE6D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BE7-2B4C-4A10-ADF5-30236E39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823-7E08-4250-8CF1-E93B4570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29C-1F68-477D-AE88-F8238C6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7D7-ECAA-4236-97D7-91CB2E71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61E-F3B8-47B5-90F6-E9C04C6B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676-B1E1-48DA-92EB-E1236CF1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74B-1549-4D9B-A2B9-E292F5CB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169-D733-42BF-8A3F-CCEB317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50-622B-48CC-B539-E8AAF96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1A477E-98C1-45D0-A553-4BECB460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IEEE 802.11-00/0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6520" y="64771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Application for HRbSG Technology: Wireless Home Are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879560"/>
          <a:ext cx="7704360" cy="43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879560"/>
                    <a:ext cx="7704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53352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PH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54080" y="1677960"/>
          <a:ext cx="7764480" cy="49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677960"/>
                    <a:ext cx="776448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84320" y="1914480"/>
          <a:ext cx="769608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1914480"/>
                    <a:ext cx="76960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ngle, fat wireless pipe to service home connectiv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nd all gateway, computing, CE, and telephony devices share the pipe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be robust, full featured and extremely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coexist with legac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be 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s of the Pres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necte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542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 Device Connectivity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589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devices are now communicating with each other 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s to PCs an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Gateways to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tainment Gateways to Set Top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lectronics to PCs an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lectronics to TVs, VCRs and S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Entertainment Units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connections: USB, 1394, Ethernet, Analo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handycam0rmtr" descr=""/>
          <p:cNvPicPr/>
          <p:nvPr/>
        </p:nvPicPr>
        <p:blipFill>
          <a:blip r:embed="rId1"/>
          <a:stretch/>
        </p:blipFill>
        <p:spPr>
          <a:xfrm>
            <a:off x="3460680" y="5370480"/>
            <a:ext cx="18734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laptop" descr=""/>
          <p:cNvPicPr/>
          <p:nvPr/>
        </p:nvPicPr>
        <p:blipFill>
          <a:blip r:embed="rId2"/>
          <a:stretch/>
        </p:blipFill>
        <p:spPr>
          <a:xfrm>
            <a:off x="76320" y="2362320"/>
            <a:ext cx="1434960" cy="1093680"/>
          </a:xfrm>
          <a:prstGeom prst="rect">
            <a:avLst/>
          </a:prstGeom>
          <a:ln w="0">
            <a:noFill/>
          </a:ln>
        </p:spPr>
      </p:pic>
      <p:pic>
        <p:nvPicPr>
          <p:cNvPr id="52" name="palm%20pilot" descr=""/>
          <p:cNvPicPr/>
          <p:nvPr/>
        </p:nvPicPr>
        <p:blipFill>
          <a:blip r:embed="rId3"/>
          <a:stretch/>
        </p:blipFill>
        <p:spPr>
          <a:xfrm>
            <a:off x="7199280" y="2057400"/>
            <a:ext cx="649440" cy="10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s of the Fu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relessly Networke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 Device Connectivity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evices can and will communicate wireles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connection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evices can be 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an talk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ingle network 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scalable and full fea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s rem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wireless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477120" y="1599480"/>
            <a:ext cx="1981080" cy="1010520"/>
            <a:chOff x="6477120" y="1599480"/>
            <a:chExt cx="1981080" cy="1010520"/>
          </a:xfrm>
        </p:grpSpPr>
        <p:sp>
          <p:nvSpPr>
            <p:cNvPr id="58" name=""/>
            <p:cNvSpPr/>
            <p:nvPr/>
          </p:nvSpPr>
          <p:spPr>
            <a:xfrm>
              <a:off x="6772320" y="15994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DCT-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DCT%202000%20w%20Remote" descr=""/>
            <p:cNvPicPr/>
            <p:nvPr/>
          </p:nvPicPr>
          <p:blipFill>
            <a:blip r:embed="rId1"/>
            <a:stretch/>
          </p:blipFill>
          <p:spPr>
            <a:xfrm>
              <a:off x="6477120" y="1925640"/>
              <a:ext cx="198108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KODAK%20CAMERA%20TEST" descr=""/>
          <p:cNvPicPr/>
          <p:nvPr/>
        </p:nvPicPr>
        <p:blipFill>
          <a:blip r:embed="rId2"/>
          <a:stretch/>
        </p:blipFill>
        <p:spPr>
          <a:xfrm>
            <a:off x="6858000" y="5208480"/>
            <a:ext cx="1152360" cy="96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02600" y="3048120"/>
            <a:ext cx="146052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37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relessly Home Area Network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8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wireless interconnection of electronic devices with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nd high speed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 and non-real t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rioritization and guaranteed bandwidth,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imultaneous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existence, interoperability, coordination between all hom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 and interoperate with “visiting” or legacy devices designed to othe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etwork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8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mitigates the Train Wr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b WLANs will enter the home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5.3  multimedia apps target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fore wireless VOIP ph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have Bluetooth, HomeRF, 2.4 GHz cordless phone interfe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is the logical extens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device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able devic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add much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Applicatio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Wireless Network Coordinator” (WNC), acts as a home radio spectrum traffic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NC controls transmissions from all 802.11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02.15.3 devices in the home, assigning priorities and allocating bandwidth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 associate and communicate directly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may occur at data rates exceeding 40 Mbps, providing multiple simultaneous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bSG rate scales down to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NC is an 802.11 point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1697040"/>
          <a:ext cx="7704000" cy="41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7040"/>
                    <a:ext cx="77040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Harry R. Worstell</cp:lastModifiedBy>
  <cp:lastPrinted>1998-02-10T13:28:06Z</cp:lastPrinted>
  <dcterms:modified xsi:type="dcterms:W3CDTF">2000-05-08T19:04:06Z</dcterms:modified>
  <cp:revision>15</cp:revision>
  <dc:subject>IEEE 802.15 Tutorial</dc:subject>
  <dc:title>Reliability of IEEE 802.11 WLANs in Presence of Bluetooth Radios</dc:title>
</cp:coreProperties>
</file>