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038F1D-46EA-4D8A-8662-B4B0C288A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52EB18-8233-4FA0-BBB0-8E036253B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D846A3-B6E8-464D-A4C4-7DFFADBE8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E9472C-E75F-40CD-B8C9-0F170F233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51152F-26EA-497D-AFAF-DADB16D7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40C139-4C65-4ABD-BEAD-DBD7017A8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4B7EB2-7722-4160-BDDC-4A9C9C012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EB9902-A045-4765-A924-DA729C23B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E6E-BD95-4569-B43C-FF1DB332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F92-1757-471E-A458-E2F67DA9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9EC-62D2-4F56-A36A-9B78F872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E9C-E10F-460E-B675-94387502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58D-5453-4AE2-ACE3-68891CB0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457-3514-4237-A354-311EFE38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A83-C7E3-4441-A8C6-4A687BB1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DD7-B0C0-41BB-B670-CDF68891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7CF-8E04-4142-8B32-9CAA2777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982-03A1-4A52-B055-52037B1A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4DE-1CC1-4DEE-8728-731B4E53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99F-33AC-41DD-93BD-DBB15C15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701F44-403C-4DE2-A8A8-10DACB8F3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2000/0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F IAPP 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Agenda 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amp; Meeting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3C0-FEB9-4B99-B8F6-F9B309162F7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2000 Pap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/06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hould Be In An Inter-AP Protocol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/90 IAPP enhancements. Gary Spiess Interm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415-EEEA-47B3-BFCB-80617F1B7B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for next meeting (Ju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ize Function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784-7E33-41D7-A4C1-AA8AA8F55D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to 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3E8-6F84-4D98-9F7A-151988257F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2000 802.11 F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level work plan &amp;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&amp;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FC0-D101-407D-8611-11B16ECC45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F PAR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of 802.11F Pro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recommended practices for an Inter-Access Point Protocol (IAPP) which provides the necessary capabilities to achieve multi-vendor Access Point interoperability across a Distribution System supporting IEEE P802.11 Wireless LAN Lin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APP will be developed for the following environment(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ion System consisting of IEEE 802 LAN components supporting an IETF IP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 as deemed appropri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BC8-C298-47BA-8614-93D0F95BAC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802.11F Task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23880" y="1981080"/>
            <a:ext cx="6324840" cy="4191120"/>
            <a:chOff x="1523880" y="1981080"/>
            <a:chExt cx="6324840" cy="41911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09680" y="2209680"/>
              <a:ext cx="487692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523880" y="1981080"/>
              <a:ext cx="6324840" cy="41911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H="1">
            <a:off x="4952880" y="1600200"/>
            <a:ext cx="457200" cy="1676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F2E-2241-4171-8086-987665B2D1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bor Pool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: David Bag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: 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ke Trompower agrees to take role for May mtg at l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nutes are doc 2000/0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E71-4132-4581-BC06-6A65276DCF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Group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 rules from 802.11 app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 mtgs to be for work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for coordination, not the only time work is produced – or we’ll never meet schedule go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ime between mtgs effectively, email reflect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for mtgs basically F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to some adjustments by Chair for mtg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encourage Paper requests before mtgs and that papers be made available ASAP before mtgs so that mtg time can be more interaction than reading papers to an audienc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6C2-B4D8-4F5D-93BE-2B7234F48B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proposal for IP DS per P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S environments s in parallel / after depending on contributions volunte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raft RP to support 802.11-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Ballot  &amp; then determine nex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 depends on 802.11E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choi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1E on track, update &amp; ballot changes to support 11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1F schedule mismatch, publish then update after 11E 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0DA-1CBE-4369-9B99-8B86ACBD38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TG mtg, IAPP history review, task framing –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termination, proposals – 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Draft written, review starts – Sept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 off for additional DS environment i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ternal .11 ballot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llots?, nah we can do this in one take – righ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ork issue decision – Ja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11E progress or start external ballots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988-DCB9-47CB-89FF-C967F7E9AF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 would entertain motion to approve top level sched as described thru Jan 200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: Duncan Kitch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ob O’H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te: 6, 0, 0 (voting membe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bjection from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C0E-BC99-49D2-98A1-C8408E4D03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8:12:22Z</dcterms:created>
  <dc:creator>David Bagby</dc:creator>
  <dc:description/>
  <dc:language>en-US</dc:language>
  <cp:lastModifiedBy>David Bagby</cp:lastModifiedBy>
  <cp:lastPrinted>1998-02-10T13:28:06Z</cp:lastPrinted>
  <dcterms:modified xsi:type="dcterms:W3CDTF">2000-05-09T18:29:46Z</dcterms:modified>
  <cp:revision>15</cp:revision>
  <dc:subject/>
  <dc:title>May 2000 802.11F  IAPP RP TG Agenda</dc:title>
</cp:coreProperties>
</file>