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7A38A-9BD4-414B-BD11-E0D733300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2EB22-9058-4CC4-BF9C-67A12BE27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4FC3C-D7E4-40A2-869E-29D065AB2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1BC06-8F71-40C5-905B-E4D1D74E6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1CF5E-107B-4B9D-A89E-1760595F8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A6F34-BA45-4661-B2D0-D299698E4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37224-68D3-49E5-A7E1-3CB3A338A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3482D-1A37-4399-88CB-2B9AC77DE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05EEA-B7C4-491B-9BCD-3C43C3EB8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EF693-78DF-489D-8D14-A95DD417F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3F752-3A2C-455D-9CD9-74130603D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C459E-7667-4241-8FA5-FD1498295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2286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399360"/>
            <a:ext cx="3124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ob O’Hara, Chairman, TG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657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53824D07-6249-451D-8082-7786D6B8DA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2286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ctr">
            <a:no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0/09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594360" y="6446880"/>
            <a:ext cx="9745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Gd Agen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Gd Agen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y 2000 Mee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attle, W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38F0E-A60A-4E4F-8BD1-0B756974C3E4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jour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3E534-D0B9-49C0-B87F-55BD1E637F88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ret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ll to or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roval of the agen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roval of minu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nounc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view of comments receiv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ld busin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w busin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jour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AACA9-DAD2-42A8-A214-E47D713AF785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view of Comments Receiv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4 comments were submit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jor items 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ulatory information el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termination of hopping patter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77DD6-0536-42A9-8645-FA0A6AE916C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ld Busin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D2EAD-BA0A-44F0-8249-A145BBEF590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posed A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k through the comments in the order they appear in the docum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ish ear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bmit updated draft for default WG recirculation ballot (since I believe technical changes will be mad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29CB5-8C23-4019-AD7A-5387DFC2255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day, 3:30-5:00 (1.5 hour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uesday, 8:30-10:00 (1.5 hour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uesday, 3:30-5:00 (1.5 hour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ursday, 8:30-10:00 (1.5 hour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tal: 6 hou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E27CE-755A-4170-9554-FEA183AE0D8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view of Comment Resolu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2B26B-545E-4FB4-A6E4-D5D18B2749AF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option of New Draf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C319A-6A47-436C-9F21-ACEAB7A54719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w Busin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sentation on Japanese Regulations and Roam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69E4B-1BBC-4B3B-8A3E-B422421592D9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Bob O'Hara</dc:creator>
  <dc:description/>
  <dc:language>en-US</dc:language>
  <cp:lastModifiedBy>Harry R. Worstell</cp:lastModifiedBy>
  <dcterms:modified xsi:type="dcterms:W3CDTF">2000-05-10T03:50:25Z</dcterms:modified>
  <cp:revision>10</cp:revision>
  <dc:subject/>
  <dc:title>TGd Agenda, March 2000</dc:title>
</cp:coreProperties>
</file>