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477-8E28-4E85-A569-1DCE867B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40B-3BA3-41B9-B3B4-061D7BBA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C76-94F3-40A5-A406-2CA2C20F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A3A-DA5A-41B2-9007-17731D9E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E14F-C581-4E5B-B744-0A98D3DF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241-0B6C-401C-9D40-F30D0AAD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A61-D2B0-4853-B8AC-62E05A41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1B9-DE3C-4968-86AE-87B75F46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91B-F7A2-4996-BE19-2F95EE3C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7BB-B75C-4F09-863E-67BF8B65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3FD-52F3-48CC-A9A9-533EA37A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B3D-2937-4EAA-9E32-7C755F6C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, TG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4BE194-9530-432A-856C-AA8F9AB3F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2000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ttle, 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FCF-E7D6-4C9B-B2F2-3FF453AE493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 of Comment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resolutions are in 00/111r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mments res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ents accep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resoluions are different than that suggested by the comm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ext cited in the comment could not be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5C4-D9C1-4794-8058-9016F26E99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 Re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139-1608-4C33-967E-1CEB0D2DD16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option of Draft 1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dopt 802.11d/D1.8 and forward to the 802.11 WG for a default recirculation bal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d: D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ed: P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ly: 11/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F9E-1EBB-4D29-BA8D-3CD4DBEDB0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n Japanese Regulations and Ro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8C0-7581-42C9-8648-21DBC693DE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721-58D0-4438-9ADF-9F8A9EA0379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of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 comments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DFCC-E063-4FEC-8F3B-0CA3CA2146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ed unanim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771-CCB5-487D-9528-605A69A11C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val of the Min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tes of meeting in Albuquerque, NM (doc 00/0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unanim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05E-8D11-4724-A6D9-A78D9FDE9D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B35-9131-413D-8597-49B3035967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s Recei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 comments were sub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item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informatio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tion of hopping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633-0F07-4CE9-B4D4-7F30D046C4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F03-F760-4236-9CC8-F9FDBA36A3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through the comments in the order they appear in the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e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updated draft for default WG recirculation ballot (since I believe technical changes will be m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47B-9D7E-4CC1-8FA2-BD0003454B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, 3:30-5:00 (1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, 8:30-10:00 (1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, 3:30-5:00 (1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, 8:30-10:00 (1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: 6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245-B4D0-447F-9653-0F25BC988F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Bob O'Hara</cp:lastModifiedBy>
  <dcterms:modified xsi:type="dcterms:W3CDTF">2000-05-09T23:44:18Z</dcterms:modified>
  <cp:revision>9</cp:revision>
  <dc:subject/>
  <dc:title>TGd Agenda, March 2000</dc:title>
</cp:coreProperties>
</file>