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848-3B1E-40BD-B4C2-625CAD6F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92C-B1C7-4B0B-B8C0-E723991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F41-CBAB-48FF-BBD0-F581634E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53C-CF9A-4E88-A128-A8D6C347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CB5-0437-4408-BC3F-22D240A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A77-2D72-4571-B397-E45F9967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3C0-3A2A-4000-9CDB-70A762DA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A83-CD9F-4A76-B21B-C4B7EEE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F03-DA3E-45A1-8127-A1CE836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5E2-8476-454D-A536-6DBDF931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D57-8475-473F-8A21-F9A7F9F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B60-1C2A-4F4B-AC2C-09623D2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746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. Banchs, W. Pokorski, M. Radimirsch, N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C15DEC-3571-4FBA-9E2D-E7AA11E04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990720"/>
            <a:ext cx="8358120" cy="27000"/>
          </a:xfrm>
          <a:custGeom>
            <a:avLst/>
            <a:gdLst/>
            <a:ahLst/>
            <a:rect l="l" t="t" r="r" b="b"/>
            <a:pathLst>
              <a:path w="5265" h="17">
                <a:moveTo>
                  <a:pt x="10" y="0"/>
                </a:moveTo>
                <a:lnTo>
                  <a:pt x="0" y="2"/>
                </a:lnTo>
                <a:lnTo>
                  <a:pt x="5264" y="16"/>
                </a:ln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838080"/>
            <a:ext cx="8305920" cy="43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Wireless MAC Multimedia Extensions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Albert Banchs, Witold Pokor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NEC Europe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Markus Radimir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University of Ha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2DB-6C1A-4A45-95AC-CF46B391FC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Assured Servic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828800" y="1371600"/>
          <a:ext cx="57150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5715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90720" y="4952880"/>
            <a:ext cx="761976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ies 1 – simulation result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CW_Best_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ies 2 – analytical mode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=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W_Assured_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2DF-29E1-468C-98A9-16EB254ED9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Assured Service Bandwidth (in 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7920" y="1676520"/>
          <a:ext cx="6705360" cy="39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70536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1E4-0C96-441E-A21B-E479EEB90D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Total throughput (in 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057400" y="1752480"/>
          <a:ext cx="541008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410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41F-FF26-4FB3-98B6-F4173023ED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Protocol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5400" y="3575160"/>
            <a:ext cx="694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18360" y="3665520"/>
            <a:ext cx="5414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4240" y="3029040"/>
            <a:ext cx="733320" cy="546120"/>
          </a:xfrm>
          <a:custGeom>
            <a:avLst/>
            <a:gdLst>
              <a:gd name="textAreaLeft" fmla="*/ 0 w 733320"/>
              <a:gd name="textAreaRight" fmla="*/ 514440 w 73332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657600"/>
            <a:ext cx="9014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. trans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7560" y="3033720"/>
            <a:ext cx="162252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7560" y="2854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756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56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17560" y="294480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7200" y="2673360"/>
            <a:ext cx="450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7560" y="3033720"/>
            <a:ext cx="541440" cy="5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124080"/>
            <a:ext cx="1082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68280" y="3575160"/>
            <a:ext cx="9036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962520"/>
            <a:ext cx="1893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service specific contention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1520" y="258300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1520" y="294480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90800" y="2673360"/>
            <a:ext cx="45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1160" y="28544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2240" y="258300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67336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1520" y="2494080"/>
            <a:ext cx="5410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332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260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2240" y="3846600"/>
            <a:ext cx="1082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slots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421880" y="3601080"/>
            <a:ext cx="180720" cy="360360"/>
          </a:xfrm>
          <a:custGeom>
            <a:avLst/>
            <a:gdLst>
              <a:gd name="textAreaLeft" fmla="*/ 115560 w 180720"/>
              <a:gd name="textAreaRight" fmla="*/ 181080 w 180720"/>
              <a:gd name="textAreaTop" fmla="*/ 7920 h 360360"/>
              <a:gd name="textAreaBottom" fmla="*/ 35244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6"/>
                  <a:pt x="10800" y="1571"/>
                </a:cubicBezTo>
                <a:lnTo>
                  <a:pt x="10800" y="9381"/>
                </a:lnTo>
                <a:cubicBezTo>
                  <a:pt x="10800" y="10167"/>
                  <a:pt x="5400" y="10952"/>
                  <a:pt x="0" y="10952"/>
                </a:cubicBezTo>
                <a:cubicBezTo>
                  <a:pt x="5400" y="10952"/>
                  <a:pt x="10800" y="11738"/>
                  <a:pt x="10800" y="12523"/>
                </a:cubicBezTo>
                <a:lnTo>
                  <a:pt x="10800" y="20029"/>
                </a:lnTo>
                <a:cubicBezTo>
                  <a:pt x="10800" y="208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2600" y="3033720"/>
            <a:ext cx="99396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54760" y="258300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4760" y="294480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5840" y="2673360"/>
            <a:ext cx="450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26200" y="28544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5480" y="258300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4760" y="267336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760" y="2494080"/>
            <a:ext cx="54144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8656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764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5840" y="3846600"/>
            <a:ext cx="10825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slots 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585840" y="3510720"/>
            <a:ext cx="180720" cy="541440"/>
          </a:xfrm>
          <a:custGeom>
            <a:avLst/>
            <a:gdLst>
              <a:gd name="textAreaLeft" fmla="*/ 115560 w 180720"/>
              <a:gd name="textAreaRight" fmla="*/ 181080 w 180720"/>
              <a:gd name="textAreaTop" fmla="*/ 12240 h 541440"/>
              <a:gd name="textAreaBottom" fmla="*/ 5292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6"/>
                  <a:pt x="10800" y="1571"/>
                </a:cubicBezTo>
                <a:lnTo>
                  <a:pt x="10800" y="9381"/>
                </a:lnTo>
                <a:cubicBezTo>
                  <a:pt x="10800" y="10167"/>
                  <a:pt x="5400" y="10952"/>
                  <a:pt x="0" y="10952"/>
                </a:cubicBezTo>
                <a:cubicBezTo>
                  <a:pt x="5400" y="10952"/>
                  <a:pt x="10800" y="11738"/>
                  <a:pt x="10800" y="12523"/>
                </a:cubicBezTo>
                <a:lnTo>
                  <a:pt x="10800" y="20029"/>
                </a:lnTo>
                <a:cubicBezTo>
                  <a:pt x="10800" y="208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3033720"/>
            <a:ext cx="992160" cy="541440"/>
          </a:xfrm>
          <a:custGeom>
            <a:avLst/>
            <a:gdLst>
              <a:gd name="textAreaLeft" fmla="*/ 291600 w 992160"/>
              <a:gd name="textAreaRight" fmla="*/ 992520 w 9921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11520" y="4025880"/>
            <a:ext cx="2344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02240" y="3124080"/>
            <a:ext cx="1052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iorit.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6560" y="3124080"/>
            <a:ext cx="117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90800" y="3033720"/>
            <a:ext cx="9072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294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1152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9080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11520" y="2944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0080" y="2583000"/>
            <a:ext cx="450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1520" y="2763720"/>
            <a:ext cx="889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6240" y="2403360"/>
            <a:ext cx="450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76760" y="2583000"/>
            <a:ext cx="6984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5840" y="3033720"/>
            <a:ext cx="9036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4760" y="294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476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584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84760" y="29448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84760" y="2763720"/>
            <a:ext cx="907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0920" y="2403360"/>
            <a:ext cx="45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0000" y="2583000"/>
            <a:ext cx="6984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7000" y="2608200"/>
            <a:ext cx="45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52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724280"/>
            <a:ext cx="3429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tions with smaller contention windows win more often and get higher  bandwidth on ave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91120" y="4114440"/>
            <a:ext cx="2286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419076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038-C76E-44B5-9535-67230E2B67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828800"/>
            <a:ext cx="8305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) The proposed architecture makes the following configurations possi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 + Assured Service + Best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d Service + Best Effort: in this case we avoid redefining P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 + Best Effort: DCF is use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Effort: no changes at all to exist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) The most logical place to do the admission control is probably at the Access Point (as suggested by Microso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E8D-BD1E-43EF-B995-55DCF19A0B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00200"/>
            <a:ext cx="822960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cheme is simple and requires only small changes to the existing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distributed scheme, therefore simple MAC internal scheduling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probably be implemented into existing products, i.e. the effort for new product development is very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interoperate with the standard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istinguishes between two different classes of service: delay critical and bandwidth crit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provides soft QoS guarantees which is compatible to the scheme used in the backb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70A-B007-4994-AF0E-4B2141C429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IEEE 802.11 MAC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990720"/>
            <a:ext cx="84582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aying id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eet the QoS requirements of the different traffic types: VoIP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media, elastic traffic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go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a simple and efficient solution with full backwa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an easy migration path from existing 802.11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ed 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a new scheduling with little changes to the existing MAC protocol. This new scheduling, combined with admission control, will provide the QoS needed by the different traffic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F6D-1BAE-4BD4-9616-02DE494F03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Types of traffic and their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143000"/>
            <a:ext cx="84582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distinguish two general types of QoS-demanding traf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ing immediate delivery of  the present packets (within some maximal burst size li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ing specific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C35-0C06-47DE-BF76-5D9D31575B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lasses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486400"/>
            <a:ext cx="83059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hat these traffic classes are like the ones identified in the Differentiated Service WG of the IETF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143000"/>
            <a:ext cx="8305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three classes of service should be presen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delay and low jitter guarant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dwidth guarant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effo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type of service</a:t>
            </a: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927-6DA7-4A66-A7F5-F0B83F327D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lasses of Service (detai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371600"/>
            <a:ext cx="8458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66680"/>
            <a:ext cx="82296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ever there is a packet belonging to the Premium Service, it is transmitted before any packet belonging to anoth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re are several Premium Service packets, preferably the FIFO rule is a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 is needed in order to make sure that the Premium Service traffic does not exceed some upper li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verage bandwidth is guarant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guarantee on delay (though, on average it is expected to be lower than for the best effort pac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 is needed in order to avoid blocking of Assur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4E6-0112-47D0-9E12-D9D520300F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Premium Servi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838080"/>
            <a:ext cx="83059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nel access of Premium Service packe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ne after the PIF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preventing any other traffic from using the channel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mediately after the PIF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 contention resolution needs to take place in order to allow multiple terminals to use Premium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contention resolution schem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urst (Luc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ial Backoff as in DCF (probably with smaller CWs due to lower numbers of competing st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PERLAN Type I Sche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Elimination-Yield Non-Preemptive Multiple Acc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-NPMA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packets are transmitted according to their lifetime; good way to achieve FIF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6DD-59AD-4886-97EE-2959133792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Assured Service Scheduling in W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82296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existing DCF mechanism with only small modifications consisting of different contention windows for different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decreasing the contention windows for high priority services (or increasing for low priority ones) we can adjust the bandwidth available for a given stream according to specific needs. The new CWs can be calculated either statically by some Admission Controller or adjusted by each station dynamic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 is needed in order to guarantee that no stations is flooding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3C5-041F-4F97-A5EC-6A97D74A68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W 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83055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113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want to adjust the CW of stations having Assured Service traffic, in order to achieve the required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113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currently investigating two method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ZapfDingbat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c, where the admission controller is aware of the requirements of all the stations and calculates the necessary C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ZapfDingbat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, where each station monitors the traffic and adjusts its Contention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62E-29CB-4A3A-A722-4C98502ED1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Simulation and analytic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8001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e use NS-2 to simulate the following setu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stations transmitting Assured Service traffic and 16 stations transmitting Best Effort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station has always a packet to 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hange the CWs in order to obtain the desired bandwidth for the Assure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952880"/>
            <a:ext cx="8153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e look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dwidth available for each of the Assured Servic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e compare the results with an analytical model where we assume a geometric distribution for the backoff ti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77D-90F4-4DD4-8538-07906F9A78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r Witold Pokorski</dc:creator>
  <dc:description/>
  <dc:language>en-US</dc:language>
  <cp:lastModifiedBy>Harry R. Worstell</cp:lastModifiedBy>
  <cp:lastPrinted>1998-02-10T13:28:06Z</cp:lastPrinted>
  <dcterms:modified xsi:type="dcterms:W3CDTF">2000-05-08T20:19:07Z</dcterms:modified>
  <cp:revision>42</cp:revision>
  <dc:subject/>
  <dc:title>No Slide Title</dc:title>
</cp:coreProperties>
</file>