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7BD0-C3CC-41D0-9AC1-7947F09D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BD47-480E-485D-956D-841D3BF4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9216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85DA-55E9-4BF3-9257-347AA55F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48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65120" y="13716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48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65120" y="39585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92A-B172-4A5B-8552-07509A0A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C5B1-AC9F-4189-85EB-F9512D6F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981-18B8-4622-92E7-A3B5CEC4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DE5-0F93-43D0-923A-98D8FE63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494-4735-4442-8A3D-55FDE1A3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7E9-9265-4901-9BD2-5AAB1C78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8693-0207-4C38-BA42-78049085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92160" y="39585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7C0-1C6B-471A-B301-18FF4B30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92160" y="13716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585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A9D0-0F58-4381-96BF-3FA684C0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395640"/>
            <a:ext cx="827280" cy="2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439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AE8F8C1-76C9-4867-ABAE-AA6D53130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39200" y="396000"/>
            <a:ext cx="2626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05-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RF request for rule interpretation/waiver to FCC (Nov. 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RF requests 3 MHz and 5 MHz FHSS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Hz ho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hannels (overla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0 mW Tx pow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Hz ho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hannels (overla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mW Tx pow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D09-B7CA-4CA6-8B64-4C953B17459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C NPRM 99-231 (June 19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CC Proposes 3 MHz and 5 MHz FHSS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se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Hz ho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hannels (overla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30 mW Tx pow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MHz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Hz hop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 channels (overlapp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 mW Tx power li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C00-8F04-45E1-96BB-38924850B3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iod for Public Comment (closed 10/4/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ly Comments (closed 11/19/9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 parte Comments (ongo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mandatory hop rate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er hopping increases interference to other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apping channels drop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lapping channels increases FHSS collision rate and seve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0DD-8EA6-4B85-A0B4-2182028230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im Compromise (March ‘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MHz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5 Hz hop rate (minim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30 mW tx power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overlapping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s must span &gt;75 MHz total 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MHz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5 Hz hop rate (minim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mW tx power li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overlapping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s must span &gt;75 MHz total B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E8C-7552-4703-B4A8-E5F68808BA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CA Compromise (4/10/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non-overlapping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 ETS 300 3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 Hz minimum/100Hz max hop 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mW power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ctical antenna gain is at least 1.5 - 2 dB (maybe m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oximately 100 mW EI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 ETS 300 3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stent with FCC ruling in 915 MHz procee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HSS power was reduced in proportion to square of reduction in minimum number of hopping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1AF2-B7F4-4B21-820B-1D2FA3E6386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CA Compromise (4/10/00) - cont’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minimum coverage requi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dios must use minimum of 20 chann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pectral coverag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20 x channel wid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minimum channel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Bluetooth radios could qualify under WBFH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HSS and DSSS radios would not be required to col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*** MAJOR IMPLICATIONS FOR IEEE 802.15 *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BFH Receiver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M receivers highly susceptible to A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blish minimum ACI requirements for WBFH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er channels drives need for reasonable ACI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F81-3766-4150-ABE4-9FB69D95DC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egulatory Update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ET drafts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ommendation is sent to Commissioners for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ssioners can eith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.)  Appr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)  Send it back down to OET for further consid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ET is at or very near completion of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ft could go to Commissioners within a few days, or at most, a few wee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ssioners usually take 4 - 6 weeks to ap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ET draft probably in late stages of Commissioner’s review by July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im Zyren/Bruce Kraemer, Intersi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08CC-6E9A-47CA-BAC1-E41B278BB3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9T01:37:59Z</dcterms:created>
  <dc:creator>vichayes</dc:creator>
  <dc:description/>
  <dc:language>en-US</dc:language>
  <cp:lastModifiedBy>vichayes</cp:lastModifiedBy>
  <cp:lastPrinted>1998-02-10T13:28:06Z</cp:lastPrinted>
  <dcterms:modified xsi:type="dcterms:W3CDTF">2000-05-17T07:42:54Z</dcterms:modified>
  <cp:revision>7</cp:revision>
  <dc:subject/>
  <dc:title>Regulatory Update</dc:title>
</cp:coreProperties>
</file>