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8891-AB6F-497B-9811-415D7FDF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DCB-DC94-4AB7-B754-94644DAF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EB60-62B5-4B8E-A4C4-4195C14B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C09-A2E4-4F21-B6CA-D3DC94C3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6BC8-1DC1-4704-90A6-2491E3B6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7C15-548C-4A63-971F-59DEBB1D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AF6C-715E-48CB-80D5-1F114283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4F4-D698-47C4-9805-361DAF5C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3A46-A21C-4352-A774-231D4F6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131-795D-430A-BA89-491A9305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671B-B00D-4298-94D7-04159F89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FCF-D76C-443E-83A7-0A29FEF9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8C75EC3-B097-4F8E-A194-23120C03D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396000"/>
            <a:ext cx="2397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Petition to FCC (Nov.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request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4860-95DC-462D-9031-986B4D7C48C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99-231 (June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Propose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CEB-3886-4EBD-B5AB-C44632F806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 for Public Comment (closed 10/4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Comments (closed 11/19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parte Comments (ongo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mandatory hop rat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 hopping increases interference to othe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channel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pping channels increases FHSS collision rate and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BE86-8CA9-4156-B746-996C01776F1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 Compromise (March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A3CD-4153-44A8-9471-D0EE870A54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on-overlapping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Hz minimum hop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W pow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ntenna gain is at least 1.5 - 2 dB (maybe m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100 mW EI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FCC ruling in 915 MHz proc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SS power was reduced in proportion to square of reduction in minimum number of ho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353-BBAA-4C53-BB1F-E60298EAF1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 -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inimum coverag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use minimum of 20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pectral cover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0 x channel 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inimum channel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Bluetooth radios could qualify under WBFH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HSS and DSSS radios would not be required to col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*** MAJOR IMPLICATIONS FOR IEEE 802.15 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Receiv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M receivers highly susceptible to A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minimum ACI requirements for WBFH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channels drives need for reasonable ACI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8F80-9B0A-4954-BA09-DEEC563BB9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draft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 is sent to Commissioners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can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)  Ap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)  Send it back down to OET for furth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is at or very near completion of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could go to Commissioners within a few days, or at most, a few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usually take 4 - 6 weeks to ap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T draft probably in late stages of Commissioner’s review by July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3405-806E-4B9B-A168-4CB83BE553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37:59Z</dcterms:created>
  <dc:creator>vichayes</dc:creator>
  <dc:description/>
  <dc:language>en-US</dc:language>
  <cp:lastModifiedBy>vichayes</cp:lastModifiedBy>
  <cp:lastPrinted>1998-02-10T13:28:06Z</cp:lastPrinted>
  <dcterms:modified xsi:type="dcterms:W3CDTF">2000-05-09T12:56:09Z</dcterms:modified>
  <cp:revision>3</cp:revision>
  <dc:subject/>
  <dc:title>Regulatory Update</dc:title>
</cp:coreProperties>
</file>