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60DF-3829-4DF3-AF0F-312ABFD6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806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4D5B-0CC1-49C6-B6B3-95464EF1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6AF5-1FCF-4DD4-8E20-ADFE693F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04E8-EE92-4AC9-998F-B47A4DDD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7FF-6748-4F92-AA93-881BFB47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DB7-D97B-422E-BD32-596328B0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F7AD-A45E-4787-AF0F-36265056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868D-AC97-4D84-99E7-D38DF3DF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1A9-43E9-4364-848F-4D241B3F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FEF7-D470-4AB9-8CFF-D5C0FD7C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7891-F39C-4423-B076-9CCEFBFE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5C74-4ADD-42D3-910D-FFF2CA0F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507D1ED-35F2-4173-AB95-4F66C5748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459040" y="396000"/>
            <a:ext cx="300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06-Draft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71600" y="6535800"/>
            <a:ext cx="42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ponse to the UK-RA Strawman proposal for the use of RLANs in the 5 GHz b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7880" y="3124080"/>
            <a:ext cx="862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IEEE 802.1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s Working Group for Wireless Local Area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IEEE 802.1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s Working Group for Wireless Personal Area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ed by Vic Hayes, Ombudsman for Regulatory affairs of IEEE 8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BDFE-BFD3-4FBD-A8C1-6BCE446E342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censed Spectru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with the considerata of the Strawman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with the need for licensed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NOT in the 455 MHz allocated to HIPERLAN/2 and 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oval of the spectrum from the license exempt use will result in unacceptable performance and thus capacity degra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e that the 455 MHz does include spectrum used by rada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typical wideband radar uses more than 1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PERACCESS is a typical licensed band application which has been moved outside the 5 GHz ra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973-E9C4-47D5-B881-7A727B14264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rve spectrum for license exem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gh data rates require a large signal margin and this in turn limits the tolerance for interference – including interference from the sam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, the re-use factor for the 54 Mb/s mode range is 67 – which means that 67 channels are needed to achieve the full 54 Mb/s on each channel in an arbitrarily larg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re are fewer channels the interference among channels will be larger and the maximum data rate can not be 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121E-9589-4368-B36D-7E732D4B4D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rve spectrum for license exem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fore a large number of channels is needed to assure adequate capacity in high densit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urrent 18 channels are about enough for most situations but we are at the cusp of the performance curve and further reduction will result in unacceptable performanc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PERLANs have always been positione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user owned and consequently operated i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cense exempt spectru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607F-1219-4D3F-86F3-ADC927DE428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rve spectrum for license exem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and partitioning is per definition wasteful  - notably in short range systems like wireless LANs: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n many cases, the “licensed“ spectrum would go unused even though there is an operator in place but have no custome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 places where an operator may want to provide services is not necessarily one where the private use is very dense. So, partitioning for these reasons leads to unused spectru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1A65-3DDE-42C4-A88A-E658047882D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ternative to licensed servic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 better way may be found to give service providers some priority to use certain channels – for instance by allowing them NOT to employ DFS (whereas user owned and operated systems would be required to employ DF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538A-950A-4F54-AE58-7E7D03AC9F7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Allocate the entire band 5470-5725 MHz to licensed exemp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4C1C-C0B6-4FD3-8DA7-0B7020ACAFA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”HIPERLAN/2 and IEEE 802.11a” devices to the allocation of the 5150-525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 removal of “HIPERLAN/1” from the 5150-5250 MHz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regular review if more standards have met certain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Allocate the entire 5470-5725 MHz band to licensed exemp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2E3D-370C-48C6-A7E4-FD79192E1ED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osed Band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09480" y="1962000"/>
          <a:ext cx="8096400" cy="344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62000"/>
                    <a:ext cx="809640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13B8-C704-4F9F-9396-75E7C482F58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 and IEEE 802.15 applauds the initiative of the UK-RA to change the situation in the 5 GHz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n unused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o one which will shortly bring high data rates in the hands of the work force, educational institutes, the traveler and the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ould only be improved by adoption throughout 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B2DA-08AB-496F-B3AE-5902512CDF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0 MHz Spectrum available for 8 + 2 years…. unu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, the Strawman allocates 100 MHz uniquely to HIPERLAN/1 for another 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what usage? Search on the intern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nouncement for a product in April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oduct y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website: HIPERLAN/1 al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idence of a single meeting in May 199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A8E-8FEE-4A7B-B038-C6D0AE1A49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servations supporting removal of HIPERLAN/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ctrum is not used for 8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1992 Spectrum was assigned for HIPERLAN (Recommendation T/R 22-06, Madrid 99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tandard was published October 1996 as ETS 300 65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ndard is available for about 4 years, no products are available 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B1E4-1307-4924-8538-ECA72E3313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servations supporting removal of HIPERLAN/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products on the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ril 1999 one company announced HIPERLAN/1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date there is still no product actually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a single page website with HIPERLAN/1 as title. No products are men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it really required to reserve 100 MHz of spectrum for another 2 yea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5AE1-04B0-4B85-8376-272B9C3304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 for 5150-5250 MHz b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Restriction of HIPERLAN Type 1 is a continued under-utilization of spectru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02.11 supports addition of 802.11a and HIPERLAN Type 2 and suggests the removal of HIPERLAN Type 1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7235-0873-4CA2-B470-CE76448B14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gg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“HIPERLAN/1” from the 5150-525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21C6-E43F-4D40-94AE-BFC67E0088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osal to discontinue HIPERLAN/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rom IEEE 802.11 and 802.15 with the proviso that 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 of the spectrum is under some level of control to protect against interference from non-high-data-rate applic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could be done by limiting the use to devices conforming to recognised standards, with a clear scope of high data rates such as HIPERLAN/2 and 802.11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BA00-A463-462F-8945-608BA54975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”HIPERLAN/2 and IEEE 802.11a” devices to the allocation of the 5150-525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regular review if new standards have publ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C2E7-639F-43AD-884E-619F4FA3E4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18:44:57Z</dcterms:created>
  <dc:creator>vichayes</dc:creator>
  <dc:description/>
  <dc:language>en-US</dc:language>
  <cp:lastModifiedBy>vichayes</cp:lastModifiedBy>
  <cp:lastPrinted>1998-02-10T13:28:06Z</cp:lastPrinted>
  <dcterms:modified xsi:type="dcterms:W3CDTF">2000-05-11T20:44:18Z</dcterms:modified>
  <cp:revision>7</cp:revision>
  <dc:subject/>
  <dc:title>IEEE 802.11's response to the Strawman proposal</dc:title>
</cp:coreProperties>
</file>