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905-5D99-44AC-AFDA-9E19FB71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3ED-971A-4D99-90E0-A3A38B9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8DE-CA18-401D-BE85-4B6D1D8B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AEC-B3F0-4E27-A830-576FA33B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C14-2B7A-4164-9DEE-2523FEB0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E6D-2CBB-4D25-B754-E3BC0474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492-8DBB-4BB4-A60B-8FE8CF0A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9D2-17A9-4252-A0FE-218D2236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61F-D2EB-4E66-8FBD-F4096C5B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DE5-3CEA-4A14-8BC9-A83C254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B36-ABBB-4D2F-BE1B-5493BE7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0A6-F4D9-4219-B69E-99104F3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06A9AA-A472-4223-9D18-09D67636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59040" y="396000"/>
            <a:ext cx="300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6-Draf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onse to the UK-RA Strawman proposal for the use of RLANs in the 5 GHz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80" y="312408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IEEE 802.1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Loc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IEEE 802.1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Person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by Vic Hayes, Ombudsman for Regulatory affairs of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9EC-9A31-49F7-85E7-E9004D686C2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d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D91-F5AC-4533-BAC4-79EE61D433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39C-F565-4266-884A-51211D4775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user owned and operat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EF8-2576-4CDB-A583-9D04CFD32D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sigh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3BA-468F-48E8-B92F-2D2EE01BD5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for instance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C76-3272-4558-9073-C1BB0B4B20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4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sider to exempt service providers from the requirement to use DFS for certain channe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A8C-2820-4647-98A1-360E74B42D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removal of “HIPERLAN/1” from the 5150-5250 M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5470-5725 MHz band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F72-58A0-44AC-BBD0-9EC8D6538E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955880"/>
          <a:ext cx="8089920" cy="34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55880"/>
                    <a:ext cx="808992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3DC-9466-4136-9DC8-8808D17234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grateluti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and IEEE 802.15 applauds the initiative of the UK-RA to change the situation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n unus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one which will shortly bring high data rates in the hands of the work force, educational institutes, the traveler a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uld only be improved by adoption throughout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E95-6E6F-4F75-AE3D-4584A00B12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9A9-EB45-4EDE-BCC9-A1A2864BFE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C48-DEC3-4EFB-B44C-10C7040EAC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1 as title. No products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273-468A-46CE-A691-92F80189BE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IPERLAN Type 1 support is a continued under-utilization of spectru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, but to remove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C16-FADA-4BD5-B983-C3EBA6D465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3E6-418B-4C01-AFBF-57598E4144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provi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, 802.11, and so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DFD-3C1A-44D6-A8CA-496D01868B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BBD-9434-463C-8BAE-04C42E52B2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vichayes</cp:lastModifiedBy>
  <cp:lastPrinted>1998-02-10T13:28:06Z</cp:lastPrinted>
  <dcterms:modified xsi:type="dcterms:W3CDTF">2000-05-11T20:45:33Z</dcterms:modified>
  <cp:revision>4</cp:revision>
  <dc:subject/>
  <dc:title>IEEE 802.11's response to the Strawman proposal</dc:title>
</cp:coreProperties>
</file>