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D4C3-4A85-44EC-BB5D-99D5D95A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806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4C19-6822-416F-815B-6DB0A807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E705-4D23-4030-9BC9-556A3E82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CC29-EB5A-431F-9ACE-0E0BA01A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9C1F-DC9E-483B-B1DC-1E5D0AF6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B6A6-6486-4048-8968-DB13A962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9C29-8370-4C26-8E9A-AD12B714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D90A-0573-4AD9-A051-AE60AA91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6C66-A3ED-41A8-A571-3F877909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BBFC-3C50-45D4-AE98-5C4C2B8F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CC2A-E454-49DD-AD1A-A787C152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806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2C39-9AF4-42C3-87F5-F656DFFC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47D7691-0BED-4B99-88D1-27BC026F7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459040" y="396000"/>
            <a:ext cx="3007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06-Draf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71600" y="6535800"/>
            <a:ext cx="42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EEE 802.11's response to the Strawman propos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2B81-AB8E-4D5B-932E-FD4726599E8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erve spectrum for license exem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gh data rates require a large signal margin and this in turn limits the tolerance for interference – including interference from the sam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, the re-use factor for the 54 Mb/s mode range is 67 – which means that 67 channels are needed to achieve the full 54 Mb/s on each channel in an arbitrarily larg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re are fewer channels the interference among channels will be larger and the maximum data rate can not be achie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A436-8086-4A09-A888-B6E350F576C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erve spectrum for license exem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fore a large number of channels is needed to assure adequate capacity in high density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urrent 18 channels are about enough for most situations but we are at the cusp of the performance curve and further reduction will result in unacceptable performance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PERLANs have always been positioned as user owned and operated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C012-D8B0-4833-9B9E-C310BE515E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erve spectrum for license exem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and partitioning is per definition wasteful  - notably in short range systems like wireless LANs: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n many cases, the “licensed“ spectrum would go unused even though there is an operator in sigh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 places where an operator may want to provide services is not necessarily one where the private use is very dense. So, partitioning for these reasons leads to unused spectru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92B7-D922-44EA-BA1C-D0B5BC6B4EC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ternative to licensed servic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 better way may be found to give service providers some priority to use certain channels – eg. by allowing them not to employ DFS (whereas user owned and operated systems would be required to employ DF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71B8-E3B2-4DC3-8F25-015847F0885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Allocate the entire band 5570-5725 MHz to licensed exemp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onsider to exempt service providers from the requirement to use DFS for certain channel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5E40-50F5-44BC-885A-DD0D96E2FE1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“HIPERLAN/1” from the 5150-5250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urrent allocation of the 5150-5250 MHz only for ”HIPERLAN/2 and IEEE 802.11a”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regular review if more standards have met certain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2029-06CF-4E3C-B2D3-D4CE698C1E2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 (2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Allocate the entire band 5570-5725 MHz to licensed exemp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nsider to 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xemp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service providers from the requirement to use DFS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r certain channel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CB8E-67C6-4202-AAAF-54244E8B327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osed Band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09480" y="1959120"/>
          <a:ext cx="8153640" cy="302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59120"/>
                    <a:ext cx="815364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7A0-2FC9-4B28-9AA6-D0DA23B64BD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0 MHz Spectrum available for 8 + 2 years…. unu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, the Strawman allocates 100 MHz uniquely to HIPERLAN/1 for another 2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what usage? Search on the intern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nouncement for a product in April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oduct y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website: HIPERLAN/1 al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idence of a single meeting in May 199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D576-0204-4D55-8467-9FA7A046341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servations supporting removal of HIPERLAN/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ectrum is not used for 8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1992 Spectrum was assigned for HIPERLAN (Recommendation T/R 22-06, Madrid 99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tandard was published October 1996 as ETS 300 65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ndard is available for about 4 years, no products are available y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9616-CFB6-4A01-BE67-C48DEA50C8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servations supporting removal of HIPERLAN/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products on the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ril 1999 one company announced HIPERLAN/1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date there is still no product actually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a single page website with HIPERLAN1 as title. No products men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it really required to reserve 100 MHz of spectrum for another 2 yea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9BD0-9CFA-41A7-8192-003DD82B13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 for 5150-5250 MHz b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HIPERLAN Type 1 support is a continued under-utilization of spectru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802.11 supports addition of 802.11a and HIPERLAN type 2, but to remove HIPERLAN type 1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C891-B872-4D4A-8EBE-E04062AB41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“HIPERLAN/1” from the 5150-5250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7CAD-41C4-4E5A-AE90-FF31F15E64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osal to discontinue HIPERLAN/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rom IEEE 802.11 provid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of the spectrum is under some level of control to protect against interference from non-high-data-rate applic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could be done by limiting the use to devices conforming to recognised standards, with a clear scope of high data rates such as HIPERLAN/2, 802.11, and so 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416-C7D6-4CD3-88AA-1B3BF449C5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urrent allocation of the 5150-5250 MHz only for ”HIPERLAN/2 and IEEE 802.11a”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regular review if more standards have met certain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F948-6F89-4B28-BB7B-E5BCC9494D2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censed Spectru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with the consider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with the need for licensed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not in the 455 MHz allocated to HIPERLAN/2 and 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oval of the spectrum from the license exempt use will result in unacceptable performance and thus capacity degra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e that the 455 MHz does include spectrum used by rada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typical wideband radar used more than 1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PERACCESS is a typical licensed band appl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s been moved outside the 5 GHz ran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7605-1678-4376-B569-FCCC7977BEC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18:44:57Z</dcterms:created>
  <dc:creator>vichayes</dc:creator>
  <dc:description/>
  <dc:language>en-US</dc:language>
  <cp:lastModifiedBy>vichayes</cp:lastModifiedBy>
  <cp:lastPrinted>1998-02-10T13:28:06Z</cp:lastPrinted>
  <dcterms:modified xsi:type="dcterms:W3CDTF">2000-05-11T20:46:00Z</dcterms:modified>
  <cp:revision>3</cp:revision>
  <dc:subject/>
  <dc:title>IEEE 802.11's response to the Strawman proposal</dc:title>
</cp:coreProperties>
</file>