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9C8-52EA-43DC-B9A2-C8D19BDC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8A9-4827-4266-98B8-5B03FB61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0E4-D3DB-4D01-BC68-AC406C1B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E82-9797-403E-8037-0F7F2EF0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125-1080-490E-8BEB-0D364873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F27-2137-482A-88BD-B0A62BA2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F9D-8847-4771-99AF-BE2CBB73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8F1-4CEF-47CC-868E-C55DD2E1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D16-980E-4ECD-8930-2B0E0D4B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D68-9DBF-4A11-8283-7D21505E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F2D-D4BE-4E8F-AFB0-75681E41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A63-BA41-4B33-8E0C-6ED80188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5057F75-9F78-45C3-9B6A-94E00A451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QoS Support in 802.11: </a:t>
            </a:r>
            <a:br>
              <a:rPr sz="3600"/>
            </a:b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Contention-Free MAC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nghyun Ch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hilips Research-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riarcliff Manor,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EC1-8BE4-4CC3-9831-850FEDDA4E1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Protecting QoS-Enabled B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ping BSS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-free access not guaranteed any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Features of .11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overlapping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contention from overlapped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102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 among 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1024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TS/CTS during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ing contention from overlapped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102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control &amp; packet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483-AA06-4325-9396-508DDF328E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456080" y="4551480"/>
            <a:ext cx="1085760" cy="46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56080" y="4395960"/>
            <a:ext cx="155520" cy="15552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70320" y="3314880"/>
            <a:ext cx="2327040" cy="231768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xample: Overlapping BS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,1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ear A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o beacon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25840" y="3933720"/>
            <a:ext cx="7761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25840" y="4241880"/>
            <a:ext cx="154080" cy="1555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3160800"/>
            <a:ext cx="2328840" cy="23176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88120" y="3933720"/>
            <a:ext cx="7761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88120" y="4241880"/>
            <a:ext cx="153720" cy="155520"/>
          </a:xfrm>
          <a:prstGeom prst="ellipse">
            <a:avLst/>
          </a:prstGeom>
          <a:solidFill>
            <a:srgbClr val="33cccc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00560" y="3160800"/>
            <a:ext cx="2328840" cy="2317680"/>
          </a:xfrm>
          <a:prstGeom prst="ellipse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90960" y="3468600"/>
            <a:ext cx="1087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02000" y="3932280"/>
            <a:ext cx="154080" cy="155520"/>
          </a:xfrm>
          <a:prstGeom prst="ellipse">
            <a:avLst/>
          </a:prstGeom>
          <a:solidFill>
            <a:srgbClr val="339966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14800" y="2851200"/>
            <a:ext cx="2328840" cy="2317680"/>
          </a:xfrm>
          <a:prstGeom prst="ellipse">
            <a:avLst/>
          </a:prstGeom>
          <a:noFill/>
          <a:ln w="1908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35440" y="5014800"/>
            <a:ext cx="1241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90960" y="4859280"/>
            <a:ext cx="154080" cy="1555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03400" y="3778200"/>
            <a:ext cx="2328840" cy="2317680"/>
          </a:xfrm>
          <a:prstGeom prst="ellipse">
            <a:avLst/>
          </a:prstGeom>
          <a:noFill/>
          <a:ln w="1908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4370400"/>
            <a:ext cx="153720" cy="1573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4527720"/>
            <a:ext cx="10843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548-7274-4157-9777-7DD8617877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913200" y="3517920"/>
            <a:ext cx="2322360" cy="234648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xample2: Overlapping BS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,1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hear A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o beacon not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94000" y="3986280"/>
            <a:ext cx="773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94000" y="4299120"/>
            <a:ext cx="154080" cy="155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3203640"/>
            <a:ext cx="2322720" cy="23461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72240" y="3986280"/>
            <a:ext cx="772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72240" y="4299120"/>
            <a:ext cx="153720" cy="155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87920" y="3203640"/>
            <a:ext cx="2322360" cy="2346120"/>
          </a:xfrm>
          <a:prstGeom prst="ellipse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56120" y="3867120"/>
            <a:ext cx="1084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22800" y="4141800"/>
            <a:ext cx="155520" cy="1573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38480" y="3048120"/>
            <a:ext cx="2324160" cy="2346120"/>
          </a:xfrm>
          <a:prstGeom prst="ellipse">
            <a:avLst/>
          </a:prstGeom>
          <a:noFill/>
          <a:ln w="1908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13200" y="4925880"/>
            <a:ext cx="12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68720" y="4768920"/>
            <a:ext cx="154080" cy="156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84400" y="3673440"/>
            <a:ext cx="2322720" cy="2346480"/>
          </a:xfrm>
          <a:prstGeom prst="ellipse">
            <a:avLst/>
          </a:prstGeom>
          <a:noFill/>
          <a:ln w="1908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97520" y="4768920"/>
            <a:ext cx="1084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97520" y="4611600"/>
            <a:ext cx="154080" cy="1573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844-4402-43A9-8EB2-5F31AEE6D2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TS/CTS during CF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rom AP to 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86000" y="3535200"/>
            <a:ext cx="6843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86000" y="4356000"/>
            <a:ext cx="6843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43240" y="3124080"/>
            <a:ext cx="685800" cy="41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78080" y="3944880"/>
            <a:ext cx="684360" cy="41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3124080"/>
            <a:ext cx="3148200" cy="41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to 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86000" y="5176800"/>
            <a:ext cx="6843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4903920"/>
            <a:ext cx="0" cy="27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3124080"/>
            <a:ext cx="684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944880"/>
            <a:ext cx="9590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4765680"/>
            <a:ext cx="9590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4629240"/>
            <a:ext cx="2052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t up the N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A3B-E458-4A5C-B324-5D256102A5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TS/CTS during CFP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rom STA to STA per being po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5308560"/>
            <a:ext cx="2095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t up the N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20840" y="3354480"/>
            <a:ext cx="698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20840" y="4192560"/>
            <a:ext cx="698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98600" y="2935440"/>
            <a:ext cx="69876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1480" y="3773520"/>
            <a:ext cx="69840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88000" y="3773520"/>
            <a:ext cx="321300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to 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5587920"/>
            <a:ext cx="0" cy="27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2935440"/>
            <a:ext cx="698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3773520"/>
            <a:ext cx="977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610160"/>
            <a:ext cx="977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20840" y="5029200"/>
            <a:ext cx="698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20840" y="5867280"/>
            <a:ext cx="698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5448240"/>
            <a:ext cx="977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49560" y="4610160"/>
            <a:ext cx="69876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31E-26A7-46A3-BF32-B0F8AFDD8B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When to Use RTS/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from STAs to AP on overlapping BSS 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detection of overlapping B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 frame size; c.f., Rts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 frame lo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handling bursty errors efficie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09C9-CF6C-4E45-8E6D-1307D14A096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913200" y="3517920"/>
            <a:ext cx="2322360" cy="234648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xample2: Overlapping BS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,1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hear A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o beacon not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94000" y="3986280"/>
            <a:ext cx="773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94000" y="4299120"/>
            <a:ext cx="154080" cy="155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09680" y="3203640"/>
            <a:ext cx="2322720" cy="23461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72240" y="3986280"/>
            <a:ext cx="772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72240" y="4299120"/>
            <a:ext cx="153720" cy="155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87920" y="3203640"/>
            <a:ext cx="2322360" cy="2346120"/>
          </a:xfrm>
          <a:prstGeom prst="ellipse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56120" y="3867120"/>
            <a:ext cx="1084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22800" y="4141800"/>
            <a:ext cx="155520" cy="1573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38480" y="3048120"/>
            <a:ext cx="2324160" cy="2346120"/>
          </a:xfrm>
          <a:prstGeom prst="ellipse">
            <a:avLst/>
          </a:prstGeom>
          <a:noFill/>
          <a:ln w="1908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13200" y="4925880"/>
            <a:ext cx="12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68720" y="4768920"/>
            <a:ext cx="154080" cy="156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84400" y="3673440"/>
            <a:ext cx="2322720" cy="2346480"/>
          </a:xfrm>
          <a:prstGeom prst="ellipse">
            <a:avLst/>
          </a:prstGeom>
          <a:noFill/>
          <a:ln w="1908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97520" y="4768920"/>
            <a:ext cx="1084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97520" y="4611600"/>
            <a:ext cx="154080" cy="1573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05320" y="4419720"/>
            <a:ext cx="533160" cy="38088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267080" y="4724280"/>
            <a:ext cx="685800" cy="7632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E24-2FC4-4A7B-A63C-9EDFEB396A0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Limitations of RTS/C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S/CTS exchange failure not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s when ST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nds 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 transmission when non-zero N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s an ACK while ST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e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S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CFP based on P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respond to 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ST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e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56C-D774-496B-9DA1-95DAA4E6A2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ACK Transmissi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IB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2895480"/>
            <a:ext cx="742176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16440" y="3960720"/>
            <a:ext cx="9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16440" y="4265640"/>
            <a:ext cx="154080" cy="15408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3560" y="3198960"/>
            <a:ext cx="2319480" cy="2287440"/>
          </a:xfrm>
          <a:prstGeom prst="ellipse">
            <a:avLst/>
          </a:prstGeom>
          <a:noFill/>
          <a:ln w="19080">
            <a:solidFill>
              <a:srgbClr val="99cc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44880" y="3808440"/>
            <a:ext cx="1082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44880" y="4113360"/>
            <a:ext cx="154080" cy="153720"/>
          </a:xfrm>
          <a:prstGeom prst="ellipse">
            <a:avLst/>
          </a:prstGeom>
          <a:solidFill>
            <a:srgbClr val="33cccc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62360" y="3044880"/>
            <a:ext cx="2319480" cy="2290680"/>
          </a:xfrm>
          <a:prstGeom prst="ellipse">
            <a:avLst/>
          </a:prstGeom>
          <a:noFill/>
          <a:ln w="19080">
            <a:solidFill>
              <a:srgbClr val="33cc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73680" y="3733920"/>
            <a:ext cx="1082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73680" y="4038480"/>
            <a:ext cx="154080" cy="154080"/>
          </a:xfrm>
          <a:prstGeom prst="ellipse">
            <a:avLst/>
          </a:prstGeom>
          <a:solidFill>
            <a:srgbClr val="800080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91160" y="2971800"/>
            <a:ext cx="2319120" cy="228744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7640" y="3808440"/>
            <a:ext cx="928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4113360"/>
            <a:ext cx="155520" cy="153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3044880"/>
            <a:ext cx="2320920" cy="22906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244-52D7-4452-8476-BFDB4353A5E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TS/CTS Fail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nds ACK when non-zero N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43000" y="2286000"/>
            <a:ext cx="704376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39880" y="3436920"/>
            <a:ext cx="656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39880" y="4152960"/>
            <a:ext cx="656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39880" y="4869000"/>
            <a:ext cx="656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39880" y="5584680"/>
            <a:ext cx="656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7000" y="2959200"/>
            <a:ext cx="358920" cy="477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75080" y="3675240"/>
            <a:ext cx="358560" cy="477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52800" y="2959200"/>
            <a:ext cx="4178160" cy="477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7640" y="5108400"/>
            <a:ext cx="2149560" cy="47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56360" y="4392720"/>
            <a:ext cx="358920" cy="47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0720" y="3078000"/>
            <a:ext cx="71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3787920"/>
            <a:ext cx="715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4511520"/>
            <a:ext cx="715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5227560"/>
            <a:ext cx="715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2743200"/>
            <a:ext cx="7160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3675240"/>
            <a:ext cx="717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46560" y="5181480"/>
            <a:ext cx="1697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to 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59480" y="4392720"/>
            <a:ext cx="71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05120" y="3436920"/>
            <a:ext cx="477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17760" y="4152960"/>
            <a:ext cx="477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52720" y="3436920"/>
            <a:ext cx="476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13040" y="5584680"/>
            <a:ext cx="478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99040" y="4869000"/>
            <a:ext cx="478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33640" y="4630680"/>
            <a:ext cx="0" cy="238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33640" y="4419720"/>
            <a:ext cx="17906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t up the N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56360" y="3657600"/>
            <a:ext cx="17906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tect a coll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56360" y="3914640"/>
            <a:ext cx="0" cy="238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93880" y="4869000"/>
            <a:ext cx="5968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65720" y="3024360"/>
            <a:ext cx="15523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to 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97000" y="3002040"/>
            <a:ext cx="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A94-D4EE-49A3-9A20-8535E65C32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QoS Support in 802.11 W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: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ention-free (CF) M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op of DCF, e.g., PCF, MediaPlex, White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/Limitations of P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 for .11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tecting CF 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BSS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F-running STAs in the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ping BSSs running in the sam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54F-F5D4-47B5-A36C-AE96745FDA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Stretching CF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76960" cy="28512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572000" y="3429000"/>
            <a:ext cx="533520" cy="19051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541008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CK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F75-F6A4-4681-9DB2-18F438EE07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roposed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D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 not transmitted when non-zero N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o a DCF frame that causes stretching to the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o a CF-Poll of a non-CF-pollable STA during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CF-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EF3-65F0-4E7E-85B8-901A4F0744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on contention-free MAC approach for QoS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to protecting CF access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s in same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s in overlapping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ifications in PCF or .11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modification in D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099D-4E8C-48D5-AA2B-862A4F32575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roblems Identif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con collis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-Period performance degraded signific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ion from overlapping BSSs: Contention-free access not guaranteed during CF-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 transmission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S/CTS not work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9EE-42CC-4442-BA87-ACB6E9EE32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apers Submitted/Presen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/107: “Beacon collisions in IEEE 802.11 WLAN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/108: “Protecting QoS-enabled BSSs in situations of overlapping BSSs in IEEE 802.11 WL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/109: “ACK transmission problem in 802.11 WL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576-BF83-4A5B-85FD-B0382046F7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Beacon Collisi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940120"/>
            <a:ext cx="8076960" cy="2851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 and CFP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P starts with a beacon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t descriptions found in 802.11-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4DE-8FB2-40B2-A5A3-3A3EED31EA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n-ze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ing delay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xTX turn-around delay, PLCP delays, RF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Why Beacon Collision Happ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255760"/>
            <a:ext cx="63244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5378400"/>
            <a:ext cx="187488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63720" y="5354640"/>
            <a:ext cx="880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00280" y="5794200"/>
            <a:ext cx="491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648320" y="577044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4619520"/>
            <a:ext cx="75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16280" y="5100480"/>
            <a:ext cx="0" cy="69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16280" y="5908680"/>
            <a:ext cx="378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9200" y="5632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4946760"/>
            <a:ext cx="19814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nnel idle for at least PIFS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3257640"/>
            <a:ext cx="1413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nnel idle for at least DIFS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3360" y="3673440"/>
            <a:ext cx="340020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649680"/>
            <a:ext cx="8812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3095640"/>
            <a:ext cx="17715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ision 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02080" y="4089240"/>
            <a:ext cx="491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05000" y="3373560"/>
            <a:ext cx="0" cy="71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105000" y="406548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105000" y="3511440"/>
            <a:ext cx="151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933640"/>
            <a:ext cx="75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05000" y="4203720"/>
            <a:ext cx="378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3360" y="4203720"/>
            <a:ext cx="4586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113360" y="406548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9200" y="39276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16280" y="3395520"/>
            <a:ext cx="0" cy="69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69D-2F02-48BD-A660-07657318C4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4276800"/>
            <a:ext cx="10778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24080" y="4618080"/>
            <a:ext cx="6005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84520" y="4049640"/>
            <a:ext cx="0" cy="56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92320" y="4276800"/>
            <a:ext cx="123372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24080" y="4164120"/>
            <a:ext cx="460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992320" y="4164120"/>
            <a:ext cx="462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14480" y="3830760"/>
            <a:ext cx="9651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84520" y="3678120"/>
            <a:ext cx="11383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92320" y="3956040"/>
            <a:ext cx="0" cy="66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78320" y="4295880"/>
            <a:ext cx="2465280" cy="322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+ 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6040" y="4049640"/>
            <a:ext cx="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78320" y="4049640"/>
            <a:ext cx="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78320" y="4164120"/>
            <a:ext cx="308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917880" y="4164120"/>
            <a:ext cx="308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8320" y="3821040"/>
            <a:ext cx="923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25800"/>
            <a:ext cx="32353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006720"/>
            <a:ext cx="10778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2320" y="3481560"/>
            <a:ext cx="385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27600" y="3462480"/>
            <a:ext cx="23763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ision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0" y="3368520"/>
            <a:ext cx="0" cy="20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92320" y="32529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24080" y="3368520"/>
            <a:ext cx="6005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76360" y="2798640"/>
            <a:ext cx="0" cy="56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14480" y="2913120"/>
            <a:ext cx="461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992320" y="2913120"/>
            <a:ext cx="462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24080" y="2658960"/>
            <a:ext cx="923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43120" y="2487600"/>
            <a:ext cx="12430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92320" y="2798640"/>
            <a:ext cx="0" cy="56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92320" y="5415120"/>
            <a:ext cx="92556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424480"/>
            <a:ext cx="10778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92320" y="5869080"/>
            <a:ext cx="1233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92320" y="5869080"/>
            <a:ext cx="1565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i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26040" y="5756400"/>
            <a:ext cx="0" cy="20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2320" y="5641920"/>
            <a:ext cx="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24080" y="5756400"/>
            <a:ext cx="6005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76360" y="5186520"/>
            <a:ext cx="0" cy="56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14480" y="5300640"/>
            <a:ext cx="461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992320" y="5300640"/>
            <a:ext cx="462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4080" y="5075280"/>
            <a:ext cx="923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84520" y="4917960"/>
            <a:ext cx="11383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92320" y="5186520"/>
            <a:ext cx="0" cy="56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Why Beacon Collision B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extended to C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641-282B-4271-86A3-EC83CFF67D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25760" y="5432400"/>
            <a:ext cx="509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xtremely Bad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CFP in 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5072040"/>
            <a:ext cx="14364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17800" y="4778280"/>
            <a:ext cx="0" cy="65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78080" y="5072040"/>
            <a:ext cx="10461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25760" y="4948200"/>
            <a:ext cx="392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177720" y="4948200"/>
            <a:ext cx="392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09840" y="4681440"/>
            <a:ext cx="652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17800" y="4343400"/>
            <a:ext cx="782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78080" y="4670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54560" y="5062680"/>
            <a:ext cx="522360" cy="36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l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24240" y="4802040"/>
            <a:ext cx="0" cy="3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54560" y="4802040"/>
            <a:ext cx="0" cy="3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354200" y="4910040"/>
            <a:ext cx="129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092480" y="4910040"/>
            <a:ext cx="1317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92480" y="4540320"/>
            <a:ext cx="6541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78008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746600" y="491004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38640" y="5040360"/>
            <a:ext cx="522360" cy="392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l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38640" y="478008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138640" y="491004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46600" y="4518000"/>
            <a:ext cx="652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61000" y="478008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529240" y="4910040"/>
            <a:ext cx="1317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21280" y="5040360"/>
            <a:ext cx="522360" cy="392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ll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21280" y="478008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921280" y="4910040"/>
            <a:ext cx="13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9240" y="4518000"/>
            <a:ext cx="654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43640" y="478008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313320" y="491004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5029200"/>
            <a:ext cx="522000" cy="392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F-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478008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705360" y="4910040"/>
            <a:ext cx="129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13320" y="4518000"/>
            <a:ext cx="654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27720" y="478008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097400" y="4910040"/>
            <a:ext cx="129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78080" y="3395520"/>
            <a:ext cx="4179960" cy="392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49280" y="3395520"/>
            <a:ext cx="1044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78080" y="3911760"/>
            <a:ext cx="4179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84520" y="3917880"/>
            <a:ext cx="1828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ision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58040" y="364968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78080" y="3679920"/>
            <a:ext cx="0" cy="3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25760" y="3787920"/>
            <a:ext cx="509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55720" y="3135240"/>
            <a:ext cx="0" cy="6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63680" y="3262320"/>
            <a:ext cx="392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177720" y="3262320"/>
            <a:ext cx="392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25760" y="2997360"/>
            <a:ext cx="7826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17800" y="2743200"/>
            <a:ext cx="782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78080" y="3135240"/>
            <a:ext cx="0" cy="6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191-EA5D-4688-A823-1AA968DD7B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roposed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omponents S1, S2, and S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2057400"/>
            <a:ext cx="601992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63600" y="2984400"/>
            <a:ext cx="863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51080" y="3354480"/>
            <a:ext cx="48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14720" y="2984400"/>
            <a:ext cx="988920" cy="370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21160" y="2367000"/>
            <a:ext cx="741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68840" y="2635200"/>
            <a:ext cx="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49880" y="3005280"/>
            <a:ext cx="1974960" cy="34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+ 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2736720"/>
            <a:ext cx="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49880" y="2736720"/>
            <a:ext cx="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249880" y="2860560"/>
            <a:ext cx="247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755960" y="2860560"/>
            <a:ext cx="247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03640" y="2470320"/>
            <a:ext cx="61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14720" y="2716200"/>
            <a:ext cx="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27240" y="2593800"/>
            <a:ext cx="617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014720" y="2840040"/>
            <a:ext cx="247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521160" y="2840040"/>
            <a:ext cx="24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333360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68840" y="333360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715000" y="5486400"/>
            <a:ext cx="2285640" cy="457200"/>
            <a:chOff x="5715000" y="5486400"/>
            <a:chExt cx="2285640" cy="457200"/>
          </a:xfrm>
        </p:grpSpPr>
        <p:sp>
          <p:nvSpPr>
            <p:cNvPr id="196" name=""/>
            <p:cNvSpPr/>
            <p:nvPr/>
          </p:nvSpPr>
          <p:spPr>
            <a:xfrm>
              <a:off x="5716080" y="5486400"/>
              <a:ext cx="2284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 Channel Sens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15000" y="5562360"/>
              <a:ext cx="1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163600" y="4584600"/>
            <a:ext cx="863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51080" y="4956120"/>
            <a:ext cx="48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68840" y="4584600"/>
            <a:ext cx="741240" cy="371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N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1160" y="3968640"/>
            <a:ext cx="741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68840" y="423540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56320" y="4605480"/>
            <a:ext cx="1974600" cy="350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CI + Data + 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56320" y="4338720"/>
            <a:ext cx="0" cy="36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755960" y="4462560"/>
            <a:ext cx="247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62400" y="4462560"/>
            <a:ext cx="24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10080" y="4071960"/>
            <a:ext cx="61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21160" y="4338720"/>
            <a:ext cx="0" cy="61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81360" y="4194000"/>
            <a:ext cx="617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768480" y="4441680"/>
            <a:ext cx="245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274920" y="4441680"/>
            <a:ext cx="246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10080" y="4935600"/>
            <a:ext cx="0" cy="245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410080"/>
            <a:ext cx="2819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NCI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eacon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Critical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74880" y="2666880"/>
            <a:ext cx="127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bined solutions S1 and 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74880" y="4313160"/>
            <a:ext cx="1387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ution 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98760" y="5410080"/>
            <a:ext cx="193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CI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eacon with Critical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56080" y="3516480"/>
            <a:ext cx="86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51360" y="3516480"/>
            <a:ext cx="86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17840" y="5040360"/>
            <a:ext cx="86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F83-654D-4B57-A4D9-92F65C965C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0:08:43Z</dcterms:created>
  <dc:creator>Sunghyun Choi, Philips Research</dc:creator>
  <dc:description>Sunghyun Choi, Philips Research-USA</dc:description>
  <dc:language>en-US</dc:language>
  <cp:lastModifiedBy>Sunghyun Choi</cp:lastModifiedBy>
  <cp:lastPrinted>1998-02-10T13:28:06Z</cp:lastPrinted>
  <dcterms:modified xsi:type="dcterms:W3CDTF">2000-05-09T17:01:28Z</dcterms:modified>
  <cp:revision>135</cp:revision>
  <dc:subject>Submission</dc:subject>
  <dc:title>doc.: IEEE 802.11-00/110</dc:title>
</cp:coreProperties>
</file>