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9C7-E60B-4957-A541-EAEDCF9C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AE7-251A-4F1B-89D5-752CE2D0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7BE-1EDA-4CF0-B32C-81C7495B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06C-52D4-4F2F-AF3C-DEBF7D38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E21-24E8-4BD1-8932-31B37DDD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14F-8231-4734-87D4-F8E48B9B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77C-BAED-40BA-985B-695A5317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2C95-3A44-47F3-932C-512FAB88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BE7-8D3B-49B9-8279-D82C3064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2CA-B658-44AD-824A-54C20A9E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795-AD7E-4780-B4E0-818C6179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01A-643A-4146-9A58-E4451073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85720" y="6474960"/>
            <a:ext cx="84780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AAFA6C2-D4B8-4880-922E-2A85C63E5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Need for MAC-PHY Interface Standard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0384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othy Wakeley 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wlett Pack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Wakeley - Hewlett Packar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9720" y="761760"/>
            <a:ext cx="832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rket Segments that are/will Integrate the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or Cost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4680" y="3183480"/>
            <a:ext cx="4780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top 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ers and Print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Consumer Internet Appli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Wakeley - Hewlett Packar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10120" y="91368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ypical Print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356400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SIC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867640" cy="44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Wakeley - Hewlett Packar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Tim_Wakeley</cp:lastModifiedBy>
  <cp:lastPrinted>2000-05-05T18:35:17Z</cp:lastPrinted>
  <dcterms:modified xsi:type="dcterms:W3CDTF">2000-05-09T19:10:14Z</dcterms:modified>
  <cp:revision>57</cp:revision>
  <dc:subject/>
  <dc:title>No Slide Title</dc:title>
</cp:coreProperties>
</file>