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B20-A048-4854-95B1-00E02A82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C5A-BCFA-41DF-BAD1-E10B5DC7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367-0B22-4165-A4F8-D843B7F0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C42-52AA-4F9B-AD67-E0BFE857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8D7-A315-486A-804D-4AFBF431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3CC-FB92-48F5-8236-46673B7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2F0-7783-4756-99AD-4E0B36BE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D84-DA8D-41BD-AE9F-A6AF7376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894-EDF9-49D3-8C6C-15E0948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7DD-7CFA-44FD-A60C-27FC0CF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847-8B5F-45D9-8919-6D87756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B74-9379-4E31-9FCB-81A48DDB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0CAFB6-C537-49B9-8709-2A2713F18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46880"/>
            <a:ext cx="202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F Enhancements and CF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Enhancements and Contention Free Bur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ir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69E-11BC-4170-9369-E8320DC0CB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Defici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ssues limit the use of the PCF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9.3.4 and specifically clause 9.3.4.1 imposes strict rules upon the order in which stations are addressed or p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mechanism (other than the More-Data bit) that allows a station to communicate its queue state(s) to the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798-4E76-4C8D-8822-8BDCE9DC2B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rder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uration/ID field for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time of nex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 time + frame size /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gy-backed on each To-D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can explicitly poll for update by sending Nu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D1C-C18E-4497-9281-3A2EAAB460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Free Bursts (CFB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following PC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CFP under average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BS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FP needs to be one uninterrupted sequence of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thi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he PC to relinquish medium control to other BSSs in the sam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n temporarily give-up medium control and defer control until new frames are available for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B3B-C71E-414B-BFBD-DB05C9A846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CF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9.3.3 transfer procedures apply within C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Bs have a maximum duration of CFBMax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duration is encoded in all From-DS dat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off procedure between C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1752480"/>
            <a:ext cx="7543800" cy="1828800"/>
            <a:chOff x="762120" y="1752480"/>
            <a:chExt cx="7543800" cy="1828800"/>
          </a:xfrm>
        </p:grpSpPr>
        <p:sp>
          <p:nvSpPr>
            <p:cNvPr id="73" name=""/>
            <p:cNvSpPr/>
            <p:nvPr/>
          </p:nvSpPr>
          <p:spPr>
            <a:xfrm>
              <a:off x="762120" y="1752480"/>
              <a:ext cx="7543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980640" y="1752480"/>
              <a:ext cx="3935880" cy="288720"/>
              <a:chOff x="980640" y="1752480"/>
              <a:chExt cx="3935880" cy="288720"/>
            </a:xfrm>
          </p:grpSpPr>
          <p:sp>
            <p:nvSpPr>
              <p:cNvPr id="75" name=""/>
              <p:cNvSpPr/>
              <p:nvPr/>
            </p:nvSpPr>
            <p:spPr>
              <a:xfrm>
                <a:off x="980640" y="2041200"/>
                <a:ext cx="39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0640" y="1752480"/>
                <a:ext cx="39358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80640" y="2811240"/>
              <a:ext cx="5029200" cy="288720"/>
              <a:chOff x="980640" y="2811240"/>
              <a:chExt cx="502920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980640" y="28112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0640" y="2811240"/>
                <a:ext cx="502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980640" y="3186720"/>
              <a:ext cx="2186280" cy="288360"/>
              <a:chOff x="980640" y="3186720"/>
              <a:chExt cx="2186280" cy="288360"/>
            </a:xfrm>
          </p:grpSpPr>
          <p:sp>
            <p:nvSpPr>
              <p:cNvPr id="81" name=""/>
              <p:cNvSpPr/>
              <p:nvPr/>
            </p:nvSpPr>
            <p:spPr>
              <a:xfrm>
                <a:off x="119916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80640" y="3234600"/>
                <a:ext cx="218520" cy="192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48400" y="3186720"/>
              <a:ext cx="2186280" cy="288360"/>
              <a:chOff x="2948400" y="3186720"/>
              <a:chExt cx="2186280" cy="288360"/>
            </a:xfrm>
          </p:grpSpPr>
          <p:sp>
            <p:nvSpPr>
              <p:cNvPr id="84" name=""/>
              <p:cNvSpPr/>
              <p:nvPr/>
            </p:nvSpPr>
            <p:spPr>
              <a:xfrm>
                <a:off x="316692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48400" y="3234600"/>
                <a:ext cx="218520" cy="19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916520" y="1752480"/>
              <a:ext cx="1093320" cy="288720"/>
              <a:chOff x="4916520" y="1752480"/>
              <a:chExt cx="1093320" cy="288720"/>
            </a:xfrm>
          </p:grpSpPr>
          <p:sp>
            <p:nvSpPr>
              <p:cNvPr id="87" name=""/>
              <p:cNvSpPr/>
              <p:nvPr/>
            </p:nvSpPr>
            <p:spPr>
              <a:xfrm>
                <a:off x="4916520" y="2041200"/>
                <a:ext cx="10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16520" y="1752480"/>
                <a:ext cx="1093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80640" y="2233440"/>
              <a:ext cx="7106400" cy="384840"/>
              <a:chOff x="980640" y="2233440"/>
              <a:chExt cx="7106400" cy="384840"/>
            </a:xfrm>
          </p:grpSpPr>
          <p:sp>
            <p:nvSpPr>
              <p:cNvPr id="90" name=""/>
              <p:cNvSpPr/>
              <p:nvPr/>
            </p:nvSpPr>
            <p:spPr>
              <a:xfrm>
                <a:off x="980640" y="2618280"/>
                <a:ext cx="71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06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991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20440" y="2233440"/>
                <a:ext cx="109296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41720" y="2233440"/>
                <a:ext cx="7650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07080" y="2233440"/>
                <a:ext cx="10908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098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283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40200" y="2233440"/>
                <a:ext cx="54648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01560" y="24260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3760" y="2426040"/>
                <a:ext cx="32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135400" y="3186720"/>
              <a:ext cx="1530360" cy="288360"/>
              <a:chOff x="5135400" y="3186720"/>
              <a:chExt cx="1530360" cy="288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135400" y="3321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920" y="3186720"/>
                <a:ext cx="13118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6C4-3BAF-40A9-8976-21E4BBBAF2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between 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restriction of NAV settings based on CFPDurRemaing in Beacon for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tend to start a C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s and stations don’t interfere because CF-con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Bs are protected through duration field in From-D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2120" y="1447920"/>
            <a:ext cx="7619760" cy="2286000"/>
            <a:chOff x="762120" y="1447920"/>
            <a:chExt cx="7619760" cy="2286000"/>
          </a:xfrm>
        </p:grpSpPr>
        <p:sp>
          <p:nvSpPr>
            <p:cNvPr id="107" name=""/>
            <p:cNvSpPr/>
            <p:nvPr/>
          </p:nvSpPr>
          <p:spPr>
            <a:xfrm>
              <a:off x="762120" y="14479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2800" y="18763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2800" y="16621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982800" y="3376800"/>
              <a:ext cx="2208240" cy="214200"/>
              <a:chOff x="982800" y="3376800"/>
              <a:chExt cx="2208240" cy="214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20348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82800" y="34124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0720" y="3376800"/>
              <a:ext cx="2208240" cy="214200"/>
              <a:chOff x="2970720" y="3376800"/>
              <a:chExt cx="2208240" cy="214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19140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70720" y="34124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82800" y="23050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280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03480" y="20192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20192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8800" y="20192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792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08960" y="20192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48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179320" y="3376800"/>
              <a:ext cx="1545840" cy="214200"/>
              <a:chOff x="5179320" y="3376800"/>
              <a:chExt cx="1545840" cy="214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179320" y="34768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00000" y="33768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82800" y="31626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9520" y="28767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0200" y="28767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3952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184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848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424520" y="30196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2800" y="28051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484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9520" y="21621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30196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9320" y="18763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0520" y="23050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10520" y="28767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3800" y="28767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9320" y="30196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3960" y="23050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9520" y="27338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9520" y="25192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7920" y="23050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2800" y="18763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484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7484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2800" y="1590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24480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3960" y="25192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93960" y="25192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352-7E2D-4953-BA37-F6BE684F30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590920" y="1600200"/>
            <a:ext cx="3885840" cy="3428640"/>
            <a:chOff x="2590920" y="1600200"/>
            <a:chExt cx="3885840" cy="3428640"/>
          </a:xfrm>
        </p:grpSpPr>
        <p:grpSp>
          <p:nvGrpSpPr>
            <p:cNvPr id="156" name=""/>
            <p:cNvGrpSpPr/>
            <p:nvPr/>
          </p:nvGrpSpPr>
          <p:grpSpPr>
            <a:xfrm>
              <a:off x="2590920" y="1778760"/>
              <a:ext cx="2926800" cy="2683440"/>
              <a:chOff x="2590920" y="1778760"/>
              <a:chExt cx="2926800" cy="2683440"/>
            </a:xfrm>
          </p:grpSpPr>
          <p:sp>
            <p:nvSpPr>
              <p:cNvPr id="157" name=""/>
              <p:cNvSpPr/>
              <p:nvPr/>
            </p:nvSpPr>
            <p:spPr>
              <a:xfrm>
                <a:off x="3875040" y="294120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0920" y="177876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2400" y="253908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49960" y="2345400"/>
              <a:ext cx="2926800" cy="2683440"/>
              <a:chOff x="3549960" y="2345400"/>
              <a:chExt cx="2926800" cy="2683440"/>
            </a:xfrm>
          </p:grpSpPr>
          <p:sp>
            <p:nvSpPr>
              <p:cNvPr id="161" name=""/>
              <p:cNvSpPr/>
              <p:nvPr/>
            </p:nvSpPr>
            <p:spPr>
              <a:xfrm>
                <a:off x="4834080" y="35078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49960" y="23454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11440" y="31057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87600" y="1600200"/>
              <a:ext cx="2926800" cy="2683440"/>
              <a:chOff x="3387600" y="1600200"/>
              <a:chExt cx="2926800" cy="268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671720" y="27626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7600" y="16002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9080" y="23605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work very well in situations where BSSs overlap and PCs are in range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38D-4964-47E7-B63E-11C741D6B37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1143000"/>
            <a:ext cx="5867280" cy="3352320"/>
            <a:chOff x="1905120" y="1143000"/>
            <a:chExt cx="5867280" cy="335232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600200"/>
              <a:ext cx="2707920" cy="2742840"/>
              <a:chOff x="1905120" y="1600200"/>
              <a:chExt cx="2707920" cy="274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3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02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61600" y="1752480"/>
              <a:ext cx="2707920" cy="2742840"/>
              <a:chOff x="4161600" y="1752480"/>
              <a:chExt cx="2707920" cy="27428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49960" y="294084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61600" y="175248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8640" y="252936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958120" y="1600200"/>
              <a:ext cx="2707920" cy="2742840"/>
              <a:chOff x="2958120" y="1600200"/>
              <a:chExt cx="2707920" cy="2742840"/>
            </a:xfrm>
          </p:grpSpPr>
          <p:sp>
            <p:nvSpPr>
              <p:cNvPr id="180" name=""/>
              <p:cNvSpPr/>
              <p:nvPr/>
            </p:nvSpPr>
            <p:spPr>
              <a:xfrm>
                <a:off x="4146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58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5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064480" y="1143000"/>
              <a:ext cx="2707920" cy="2742840"/>
              <a:chOff x="5064480" y="1143000"/>
              <a:chExt cx="2707920" cy="2742840"/>
            </a:xfrm>
          </p:grpSpPr>
          <p:sp>
            <p:nvSpPr>
              <p:cNvPr id="184" name=""/>
              <p:cNvSpPr/>
              <p:nvPr/>
            </p:nvSpPr>
            <p:spPr>
              <a:xfrm>
                <a:off x="6252840" y="23313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64480" y="11430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1520" y="19198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may suffer from the same problems as the DCF in hidden node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S/CT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gular NAV in RTS/CTS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by other PC to relinquish medium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50C-4CA5-44EC-863D-A9DAC00F8F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bu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upport for legacy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line with what is standardized by other workgroups and standardization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enhancements welcome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will prove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‘loose-ends’ need to be worked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DC0-0271-4D1A-BBFA-A59B8BF813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N’s suggestions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WN actually implements PCF in thei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d versatil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ome problems that need to be 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integration with IETF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 over Specific Link Layers (ISS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1A1-299F-4D0A-A1D4-4FF846302B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SAP between MAC and 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IETF through ISS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dominant 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0200" y="2590920"/>
            <a:ext cx="409572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04-C124-4AF4-AF65-74A9A4B48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ccess mechanisms: DCF and P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well under low load situations, PCF works optimal under high loa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better in networks were BSSs overlap, PCF is ideally suited for networks were BSSs are carefully planned not to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has a relatively low implementation complexity, PCF is (said to be) complex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FF4-EA9F-49B4-ABD2-BF17DD293B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does not allow explicit access control, PCF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efficiency drops considerably in densely populated BSSs, PCF has no scal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supports legacy stations, PCF only to some 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weaknesses prevented vendors from implementing the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est because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1A2-32D2-4E56-95B8-6C4D2290A6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focus either on DCF 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to approach it as an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can only be sustained if the queues on the access point or stations are adequately back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ken-egg problem; polled to have medium access – medium access to get on pol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gulatory domains do not allow constant medium occupancy by one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legacy devices may require an enhanced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lways spend some time in the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E6C-DA4E-488A-8321-CFF6CA62BB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 gab between DCF and PC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loaded systems spend half of their time in DCF, half in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ice provided by the system should be linear throughout load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A2F-51F1-4FAE-B767-4887154015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full mediu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medium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ffering from scal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for gab between DCF and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ggestions for DCF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204-051E-460B-8207-01902F6F46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802.1p prio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802.11 MAC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overlapping B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DCF and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-compatibility with legac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urrently existing fram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rely too heavily on new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mplementation complexity 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5E2-D139-4F63-A72B-155A368755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Maarten Hoeben</dc:creator>
  <dc:description/>
  <dc:language>en-US</dc:language>
  <cp:lastModifiedBy>Maarten Hoeben</cp:lastModifiedBy>
  <cp:lastPrinted>1998-02-10T13:28:06Z</cp:lastPrinted>
  <dcterms:modified xsi:type="dcterms:W3CDTF">2000-05-11T14:48:41Z</dcterms:modified>
  <cp:revision>48</cp:revision>
  <dc:subject/>
  <dc:title>00/113 Suggested PCF Enhancements and Contention Free Bursts</dc:title>
</cp:coreProperties>
</file>