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EAA-61C9-4E36-9831-1CDDB5CE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CE8-8CB3-4FBA-93AD-5668E0B6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F55-095B-41BF-AB0F-9D471BD9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EA9-D66A-426C-9547-931237C2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BC9-CC46-48A2-92CB-3094ECAE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498-5258-4873-8051-49D9A796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005-AE55-46F2-9B52-D869151E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BCD-1AC5-459F-B261-77BE2D28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9E4-DB1E-4B9D-89A5-B5892EA5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71B-B4DB-49D8-AD28-5E300ACC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A3F-5F42-4206-B550-0B311764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459-A1EE-4625-BB0D-0D02CC1F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eve Williams, et al, In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FF2C814-D671-4A9A-A1EE-0A9B9F038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800" y="6446880"/>
            <a:ext cx="137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ble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ecurity Framework Requirements for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ven Willi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e Wal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ncan Kitc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8D4-9DAA-4071-B44D-037A5FCB86D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classes of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roposed framework must endeavor to m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break ties between two framework proposals that meet that absolute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F48-D7D9-40B1-B537-D8C551CAFB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requirement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prevent unauthorized authentication or re-authentication with an AP as those terms are defined within the 802.11 spec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be able to prevent unauthorized access by unauthenticated peers over the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protect network traffic from eavesdropping to a reasonable level compatible with the state of the 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D2F-8C55-40A6-9F6D-1FDB28A753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requiremen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allow for authentication of the source of each packet, to prevent link hijacking or undetected insertion of rogue packets into the link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allow for mutual authentication of STA and 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allow key distribution or derivation of per-link or per-session ke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F54-7AB1-4993-8EE5-677ACA412F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requirement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not compromise (i.e., break the security of) existing industry standard network user authentication methods and techniques used within the framework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coexist with existing industry standard network user authentication methods and techniques (e.g., RADIUS-based authentic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coexist with existing industry standard network user authentication methods and techniques (e.g., RADIUS-based authentication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D04-4659-4FD2-B81D-A989FDDCEF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requirement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authentication mechanisms must fit within the designated multi-media authentication and re-authentication time budge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strongly protect keys and passwords from recovery by eavesdropp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05C-2523-4163-B999-289CF1D579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requirements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framework must sca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, “self-managing” or “unmanaged” environments (etc., home, SOH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prise environments (e.g., office campuses, factorie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hoc wireless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environments (e.g., hotels, public serv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roposal that allows for more than one algorithm must support negotiation to a commo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5D0F-9304-43F3-826E-0EC6B6F079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requirement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should cause minimal computational expense consistent with meeting other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should use public and/or standard algorithms to the greatest extent poss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should minimize the number of mandatory cryptographic algorithms conform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D80-E199-4813-AE54-94E1CB2ACB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requiremen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should make no assumption whether peer authentication is machine or user authentication, as different organizations will establish different policies regarding who or what is authentic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A614-755B-487D-AE3C-C97DA65BED5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Steve Williams</cp:lastModifiedBy>
  <cp:lastPrinted>1998-02-10T13:28:06Z</cp:lastPrinted>
  <dcterms:modified xsi:type="dcterms:W3CDTF">2000-05-10T18:05:32Z</dcterms:modified>
  <cp:revision>44</cp:revision>
  <dc:subject/>
  <dc:title>00/065a Extensible Security</dc:title>
</cp:coreProperties>
</file>