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1EC-7BAD-47B8-92C2-1734E509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15F8-5721-4F1A-88FA-6EB766C2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493A-0CCB-4010-B6C7-2402569B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7CE-08D1-4E12-B206-BFFC3E5D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4F8A-A650-4819-8215-E870F597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F8B-E58E-49C9-9F21-B66217BC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87A-76DE-4C4B-93FB-42E1AB02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2DC-D0AD-4FC2-A35D-6DF6A0E4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B31-8F1C-4001-A8CD-279F763F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6D2-83A5-43DB-A8D1-AEABE0F4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79E-0D85-43AC-B3EE-77BDE24D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57F-D803-42C7-BBC3-C567DC97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2193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95600" y="6474960"/>
            <a:ext cx="3314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ga Satapathy, Sprint; Sanjay Moghe, RF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138E443-3AD3-4149-8173-F14793A1A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6 WirelessHUMAN 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udy Group Report at 802.11/802.15 Interim Joint Meeting, Seattle, May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ga Satapathy, Sp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jay Moghe, RF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13C-AEA7-4F98-B633-159167540F0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oint Meeting of 802.11/802.15/WirelessHUMAN Study Group held on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 partici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vely discussion for over 2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feedback items/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plan suggestions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B71-62F2-4803-9F9F-8E6354B9CE4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Discussion/Feedback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mutual benefit in addressing coexistence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standard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icensed MAN equipment already in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HUMAN standard would offer solutions for co-existence and mitigate interference iss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802.11/802.15/802.16 meetings to facili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C88-B2F8-4433-8E8A-28FAD8FFDB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HUMAN study group will take advantage of existing web-tutorials/information on 802.11 and 802.15, and initiate iterative process to identify useful MAC/PHY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for joint call for contributions to be investig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for presentation of above issues at a tutorial at July meeting to be investig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Discussion/Feedback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A83-EFC1-461C-BC5E-7570339179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HUMAN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EEE 802.16 WirelessHUMAN Study Group was approved at the March IEEE 802 Plenary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interest from both academia and industry (manufacturers and service provid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meeting held at IEEE 802.16 Session 7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30 partici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C94-40AF-41B0-A3DD-FDB077FD13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ing Support for Active 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ga P. Satapath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rint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i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njay Mogh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F Solutions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arpal Khann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ilent Technolog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os Kosta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ive Broad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entine Rhod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ka Kassl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 Trinkw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omm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anna Goldham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eze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ftali Chay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eze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ger Dur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i Freedm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nowave E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n Cha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NA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s Dot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dad Z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hael Stewa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c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B068-92B9-4DDC-BD4B-006CD7602A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1760" y="1295280"/>
            <a:ext cx="784836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ris Paulows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jaya Gallag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n M. Peh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nos I. Dall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a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rdon Stub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orgia Institute of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sein Izanpana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RL Laboratories, L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der Benyamin-Seey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is Cor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o-Chun Wa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libu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hul Ka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libu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 Rie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x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huda Hakca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ltra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if Jans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ics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im Shenh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Band 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sein Izadpan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RL L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ger Dur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tr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 Sum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 Doher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eon 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isting Support for Active Particip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269-A6F8-4A11-9421-E576F8889F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HUMAN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license exempt bands that can best serve the wireless industry need for fixed broadband MAN access with a focus on 5-6 GHz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gate issues in developing an Air Interface Standard for the identified ba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gate feasibility of using elements from existing standardization efforts e.g. IEEE 802.15, 802.11 PHY &amp; Enhanced MAC, IEEE 802.16.3 PHY &amp; MAC etc. or modifications ther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meetings with 802.16.3, 802.11, 802.15 and other standards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888-0984-4944-88B5-9C53FD5399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existing regulations in the various unlicensed bands, and what unlicensed bands may be appropriate for WirelessHUMAN sys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mechanisms for interference avoidance/suppression, resource sharing, and ensuring adequate performance exist in unlicensed ban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unique system design issues/requirements of WirelessHUMAN systems from a MAC/PHY layer perspective? What elements can we utilize from existing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the Study Group write a PAR to proceed with a standard? If so, should we try for July or wait until Novemb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3E4-6286-4663-A632-A434C6512F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HUMA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ystem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ropolitan Area Net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for Point-To-Multipoin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 cellular; sectorized with frequency 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 needs backhaul architectures capable of reliable broadband 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vity to wired infrastructure/ cor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: voice, video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/Nomadic Wireless Service Provider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e in Unlicensed Frequency Bands (initial focus on outdoor UNII b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 in presence of other unlicensed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/PHY efficiency to support MAN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and performance for residential/SOHO/SME/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oS support (in-system &amp; external interfer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A65-DD84-4DD7-98C7-80F12F5929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act of 802.11/802.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ing Common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in Unlicensed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terest from service providers/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Element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s to avoid/suppress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input on multipath, equalization, 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OFDM; adaptive techniques), FEC/ARQ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existence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757-D9F1-4516-9AC6-7EFD21CA9E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Input Reques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and 802.15 Tutorials/Conferenc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ibutions on elements of 802.11/802.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/PHY standardization efforts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be applicable to WirelessHU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 above findings at July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51DA-95DA-4CAC-8F73-E1E57E0BBC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1T19:26:40Z</dcterms:created>
  <dc:creator>Durga Satapathy, Sanjay Moghe</dc:creator>
  <dc:description/>
  <dc:language>en-US</dc:language>
  <cp:lastModifiedBy>Harry R. Worstell</cp:lastModifiedBy>
  <cp:lastPrinted>1998-02-10T13:28:06Z</cp:lastPrinted>
  <dcterms:modified xsi:type="dcterms:W3CDTF">2000-05-10T18:51:20Z</dcterms:modified>
  <cp:revision>17</cp:revision>
  <dc:subject/>
  <dc:title>IEEE 802.16 WirelessHUMAN  Study Group Report at 802.11/802.15 Interim Joint Meeting, Seattle, May 10</dc:title>
</cp:coreProperties>
</file>