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1F499-C4DE-42C4-8236-141CBCC6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7D8C-4EC0-4298-AD48-46047C85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A8BC0-75D8-45DC-A3D7-54D97D976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F0BA-10B0-407E-8465-9AD0881E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66832-94BB-4B74-BA6F-B80E6D74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AA45-5F34-4EC4-A201-AAC3CDEB3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6010-3261-4A79-B578-9E2A698C9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1302F-D4A4-4C22-B684-20B8B134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A27E-DA84-4FD0-9157-58C67775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8A83-4567-4C0F-9FCB-07C67E6D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F2FE-222C-40AE-A23C-11F985BC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95C5-FFE0-41D8-A8F9-D96F7DA02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795348-D2EA-4D35-BFAB-7D2CFAC91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2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from </a:t>
            </a:r>
            <a:br>
              <a:rPr sz="4400"/>
            </a:br>
            <a:r>
              <a:rPr b="0" lang="en-US" sz="4400" spc="-1" strike="noStrike">
                <a:solidFill>
                  <a:srgbClr val="000000"/>
                </a:solidFill>
                <a:latin typeface="Times New Roman"/>
              </a:rPr>
              <a:t>the Regulatory ad-hoc meeting</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 Hay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39C53E9C-D13D-40D6-BB15-623DC92AF8A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ic presented the following comments:</a:t>
            </a:r>
            <a:endParaRPr b="0" lang="en-US" sz="32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positive opening statement</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atement to remove HIPERLAN/1 may be too bold, suggest to change into a sugges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 up by changing to "add HIPERLAN/2 and 802.11a devices" to the alloca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e the stress on exemption of the DFS to service providers pending better studies</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o the Summary accordingly </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ubmitted draft 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B1ADF437-4F23-417F-8615-4BEA703D47E0}"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2 review cycles Draft 3 was obt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moved and Tomoki seco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ubmit doc.: 106 Draft 3 to the closing plenaries of 802.11 and 802.15 for approval to present at the related conference and to record the results of the votes in the docu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d unanimously (2/0/0)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6EF934D-E5C1-4285-8C6C-0443AA1AB43E}"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behalf of the ad-hoc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Vic to make graphical enhancements to the document 11/99-106 Draft 3, to add the voting results of 802.11 and 802.15, submit the paper to the UK-RA and make the presentation on June 2,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5528F427-9C06-4D67-AF18-FC023A5F826D}"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panese regulations in the 5 GHz band, doc.: 11/00-128</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ki presented document 11/00-12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parameters for operation in the 5250-5250 MHz b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hannels, each 10 MHz lower than 802.11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MHz EIR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literature for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be posted on the we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A589E9B-4E13-4860-A186-80BADB25FA9B}"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br>
              <a:rPr sz="4400"/>
            </a:br>
            <a:r>
              <a:rPr b="0" lang="en-US" sz="4400" spc="-1" strike="noStrike">
                <a:solidFill>
                  <a:srgbClr val="000000"/>
                </a:solidFill>
                <a:latin typeface="Times New Roman"/>
              </a:rPr>
              <a:t>doc.: 11/00-129</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from ETSI-BRAN to a letter (</a:t>
            </a:r>
            <a:r>
              <a:rPr b="0" lang="en-GB" sz="3200" spc="-1" strike="noStrike">
                <a:solidFill>
                  <a:srgbClr val="000000"/>
                </a:solidFill>
                <a:latin typeface="Times New Roman"/>
              </a:rPr>
              <a:t>11-99/104r1)</a:t>
            </a:r>
            <a:r>
              <a:rPr b="0" lang="en-US" sz="3200" spc="-1" strike="noStrike">
                <a:solidFill>
                  <a:srgbClr val="000000"/>
                </a:solidFill>
                <a:latin typeface="Times New Roman"/>
              </a:rPr>
              <a:t> prepared by 802.11 and sent from IEEE SAB to ETSI Boar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s answers on various questions for its June 27-30, 2000 mee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late arrival (sent to arrive on the last day of the interim meeting) unable to answ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D44D1B52-34EE-4F05-99A5-D2934494A06F}"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the 802.11 chair to send a letter to the Chair of ETSI-BRAN reporting that the requested responses can not be generated for the June 27-10, 2000 meeting because the ETSI-BRAN letter was sent to arrive on the last day of the meeting. The chair is requested to copy the incoming and outgoing letter to the SEC and to the secretary of the Standards Bo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7A0BA25-868F-4555-8225-49B689AF93C9}"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L analys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Kuwahara pointed out that the JPL paper (11-00/104) on sharing of the 5250-5350 MHz band does not provide the contact information for Brian Honeyc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will provide the e-mail address on the reflector and recommends 802.11 experts to review the paper and to give feedback to the auth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4D596F4A-BFA4-4C30-9040-2FD6EEC2307C}"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10:30-15:0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U-R input     00/085 (ITU-process.PP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K-RA Consultation, response to strawma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uesday 8:30-1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ket 99-231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mode in future</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B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1209FE7-128B-4068-A6FD-DB37647FDF5E}"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U-R inpu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0-104: paper from ITU-R SG7c on sharing the 5250-5350 MHz band with Satellite Earth Exploration Radar</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assumptions made about HIPERLAN, sharing turned out to be possibl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is higher than permitted in USA</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0-101: Liaison from ETSI requesting support for their proposal to put HIPERLAN bands on the agenda of WRC 2003</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2507B912-0296-4FAB-9B86-22866E727726}"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C 2003</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1000"/>
          </a:bodyPr>
          <a:p>
            <a:pPr marL="243360" indent="-243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RC 2003</a:t>
            </a:r>
            <a:endParaRPr b="0" lang="en-US" sz="32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agreed that all 802.11 members with an interest in 802.11a should request their companies to immediately submit pledges for support to the secretary of ETSI-BRAN. Evan Green will contact the ETSI-BRAN secretary for the deadline.</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n reported Tuesday that the letter had already been sent</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f the essence to contact your WRC 2000 representative to support</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Lucent Representative (already in the meeting in Istanbul) I received the request to provide input so she can successfully influence the US delegation</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brief your own delegate in Istanbul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BBDCEA5-E7CA-4D0E-9FFC-9B9FD8B57AA9}"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K-RA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6000"/>
          </a:bodyPr>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itation to address a Strawman proposal for a 5 GHz band plan (11/00-67)</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ussed a proposal made by Vic and Jan Kruys with line items for the presentation</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ve to approve the points made in document 00/103 to be completed by additional queries made to Jan Kruy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ved by Evan Green, seconded by Denis Kuwahara. No discussion, Motion passed unanimously with 3/0/0</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sentation is on the server as doc.: 00/106 Draft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3C0D92D8-6D5B-444F-A79C-3D8F69F46C06}"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Motion for UK-RA present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 approve the presentation (11/00-106 Draft 1) in principle, accept comments and complete the document in the ad-hoc Reg group meeting of Thursday morning to get final approval at the closing plenary meetings of .11 and .15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20A80F56-C2CC-4612-8B99-70B61AFAAC12}"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ocket 99-23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f the status of the proceedings (00/1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tect 802.11’s interest it is important to let the FCC know shortly (the curtain will fall shortly) your support of the opposing vie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see me if you want to have a draft template (vichayes@lucent.c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32A68F8-98F1-4AA2-885F-B8A29BD2775D}"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 mod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undle the talent, experience, work effort of the members of the 3 groups working with radio, the ad-hoc group proposes to make a joint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can get attendance credit to their favourite W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FF803A4-08A2-40AE-86FF-6058D5D119C4}"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 Thursda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to UK-RA, 11/00-206 Draft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regulations in the 5 GHz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letter from ETSI-B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to JPL pa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73794D3-ABC0-4366-8045-5200C513F102}"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9:16:56Z</dcterms:created>
  <dc:creator>vichayes</dc:creator>
  <dc:description/>
  <dc:language>en-US</dc:language>
  <cp:lastModifiedBy>vichayes</cp:lastModifiedBy>
  <cp:lastPrinted>1998-02-10T13:28:06Z</cp:lastPrinted>
  <dcterms:modified xsi:type="dcterms:W3CDTF">2000-05-11T20:34:00Z</dcterms:modified>
  <cp:revision>1</cp:revision>
  <dc:subject/>
  <dc:title>Report from  the Regulatory ad-hoc meeting</dc:title>
</cp:coreProperties>
</file>