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E8D7-8B92-4D39-8C91-CD80C3423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C164-4BAF-4B06-AA5C-BCC7D96AD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A634-01DD-4B4F-9997-5DAB8A8E7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1494-763E-4DB4-B0CD-31EBF7004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D0E1-AD1E-43F0-8B81-E935FD30C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3563-353B-4815-8A73-570DDF223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EAAA-9A46-4F68-BBE2-ADA28EE0A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3566-9645-48E0-B616-B4FAC796D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BBFA-FBAF-4293-B932-9B07A7BBA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D66F-FC80-41C2-9755-BC68C8A02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E9E2-0158-4D40-98FD-B89D01CCE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73F2-96BC-4864-93BA-F0789C2F2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143920" y="6474960"/>
            <a:ext cx="466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03B3247-EEDA-498B-8E31-3E32192574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67080" y="396000"/>
            <a:ext cx="2397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1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828800" y="15238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oS MAC Evalu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124080" y="2666880"/>
            <a:ext cx="4876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m Diepstraten - Lu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ar Ghori -ShareW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ven Gray - NOK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arten Hoeben - No Wires Needed Bob Miller - AT&amp;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gory Parks - ShareW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ry Worstell - AT&amp;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Miller et. al., AT&amp;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481F-AB00-4119-87FA-A55D7983A92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3520" y="533520"/>
            <a:ext cx="69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uggested QoS MAC Evaluation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50600" y="1120680"/>
            <a:ext cx="7966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tition wor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to MAC performance evaluation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 requirements 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mplistic approa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 MAC evaluation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t playing field” rather than real-world accur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ommodate widely varying MAC sche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rate and high loading exci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~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 loading doesn’t need Q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~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estigate “break points” of sche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ly separate multi-BSS from QoS mediation t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~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media-based test results as “sanity check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multi-BSS performance simulation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~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both activities to proceed simultaneous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eatable data sources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ce, streaming, best-effor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“canned” files with “drivers” emulating packet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Miller et. al., AT&amp;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8442-5C6E-418F-8343-0C6CFDA237F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5335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uggested Performance Envelope Bo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22000" y="1203480"/>
            <a:ext cx="65192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wo speeds: 11 and 54 Mb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ree data typ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ice - N 64Kbps PCM duplex channels (UDP-lik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eaming - N 3 Mbps MPEG channels (TCP-lik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eaming - N 128 kbps MP3 channels (TCP-lik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st-Effort - N 10 Mbps Internet channels (TCP-lik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wo loading poi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% of total raw PHY through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5% of total raw PHY through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e multi-BSS extension as combin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me-windowed QoS and time-division BSS @ S/N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rough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ccess request is separate operation within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tocol, test access success under above loading condi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oose fixed number of station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.g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specify STA/STA “side” traffic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Miller et. al., AT&amp;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79DB-5EDC-45AC-9949-96F2AAA0532F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5335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uggested Metr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768680" y="1603440"/>
            <a:ext cx="5854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oughput as % of raw PHY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ay vs. Loa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ea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st-Eff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oughput per K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ith specified overl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Miller et. al., AT&amp;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ADF2-3841-4113-BEB6-F832A0746ABD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0T22:42:52Z</dcterms:created>
  <dc:creator>Jesse Russell</dc:creator>
  <dc:description/>
  <dc:language>en-US</dc:language>
  <cp:lastModifiedBy>Jesse Russell</cp:lastModifiedBy>
  <dcterms:modified xsi:type="dcterms:W3CDTF">2000-05-11T01:40:11Z</dcterms:modified>
  <cp:revision>8</cp:revision>
  <dc:subject/>
  <dc:title>No Slide Title</dc:title>
</cp:coreProperties>
</file>