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C110-1671-4C76-A7BC-65811ED19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FD8E-D0E2-4A2F-A601-695ADE0A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F487-9FE3-48EB-97E1-0F8BAFD75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1959-BCF4-4E9F-9B34-9E5BA1CC0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A651-2E0A-4B93-BC0B-CD0B3574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D99B-6200-433F-9972-5A16C464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368E-7B88-497C-8F6B-CE195FC5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85C7-FBF9-4340-9BFA-8915C38D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5A65-3206-44E7-9A68-E082A372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9DE3-E67C-4C4A-A306-3B71EA91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59F2-455E-477A-9F7F-308E6517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2282-47CC-44FA-8D6B-E5DDB2C6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59F4259-E358-41A1-94FB-544032994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2200" y="6446880"/>
            <a:ext cx="89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 to Qo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ar Gho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ven G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n Gr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ju Gubb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arten Hoe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g Park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zo Went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ar Ghori et.al., ShareWa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AF24-2A19-44E7-BB71-4D4189D1E2D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Q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it an action, behavior, or something el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the simplest sense, Quality of Service (QoS) means providing consistent, predictable data delivery service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re are a number of characteristics that qualify QoS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inimizing delivery del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inimizing delay vari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oviding consistent data throughput 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 http://www.qosforum.com/about_background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ar Ghori et.al., ShareWa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120A-F6A8-4CF9-B50B-D576CA07BF0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Questions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is QoS measur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it be measu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swer:QoS is measured by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840" indent="-2077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livery delay (latency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840" indent="-2077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lay variations (jit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840" indent="-2077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ata throughput capacity (bandwid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840" indent="-2077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oss (frame lo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Microsoft Corp, "An overview of QoS", microsoft.com/technet/win2000/win2ksrv/technote/qosover.a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ar Ghori et.al., ShareWa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D166-F14F-4DBE-A3BC-4063481BBB2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Questions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SAP primitives are used to request/control Q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protocols are on the other side of this SA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Answer: traffic handling mechanisms includ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802.1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Integrated services(intserv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UNI signa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ar Ghori et.al., ShareWa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BBA8-1B89-4364-A724-18776399066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Questions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parameters that cross this SA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Answer: the required parameters are dependant upon the protocols discussed in the previous question and the implementation of the QoS protocol at the MAC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would current IETF developments work with this SA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ed Servic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Answer: support for intserv should be required of any QoS propos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iated Servic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Answer: diffserv is currently focused on the core network elements.  Currently, diffserv is not defined for operation over IEEE802 networks and should not be a requirement for QoS in the MA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ar Ghori et.al., ShareWa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E53C-95A4-4DE0-A658-C9BFABBBB17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upper layer protocols support/require QoS from the Data Link/MAC lay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Answer: Signaling protocols (e.g., RSVP) needs DLC layer information for admission control and signal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concerning available resources.  Priority specification (e.g., 802.1p) needs queuing and priority mechanisms in the MAC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802.1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Answer: Yes, se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ar Ghori et.al., ShareWa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D903-58BE-4894-ADB6-A46FC12C0BF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is QoS supported by existing OS AP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Answer: Windows 2000, NT server supports RSVP and 802.1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OS APIs are proposed to be added to support QoS at the MAC lay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Answer: Windows2000 already has the required AP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re we expecting to add these AP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7040" indent="-2055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 vendor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7040" indent="-2055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 developer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Answer: See above for OSs currently supporting Q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ar Ghori et.al., ShareWa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A9C6-C227-416B-B575-571E74B7CB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can alternative proposals be evalu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mulati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efinitive impact statement on existing 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apparent demand for QoS in LAN space, let alone W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efined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RFCs require/support the proposed servic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mapping to upper layer protoco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concrete benefits provided by the proposed servic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Answer: A requirements document will address requirements. IEEE802.11-00/008r3 functional requirements section addresses some of these requirement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ar Ghori et.al., ShareWa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D8DB-2CDC-42F8-A02C-E7E4F203A05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3:03:53Z</dcterms:created>
  <dc:creator>Amar Ghori</dc:creator>
  <dc:description>Amar Ghori et.al. ShareWave</dc:description>
  <dc:language>en-US</dc:language>
  <cp:lastModifiedBy>Harry R. Worstell</cp:lastModifiedBy>
  <cp:lastPrinted>1998-02-10T13:28:06Z</cp:lastPrinted>
  <dcterms:modified xsi:type="dcterms:W3CDTF">2000-05-11T05:45:08Z</dcterms:modified>
  <cp:revision>55</cp:revision>
  <dc:subject/>
  <dc:title>00/066 QoS Questions</dc:title>
</cp:coreProperties>
</file>