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CC0-0E43-4AC9-891E-B9FEAC70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9AC-9F3A-4CE5-B88B-5498C75F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AD2-E1C7-4DEB-936D-B1EE41F1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B99-F2C2-4668-A0C4-328F07B8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01C-6006-4F02-BF2C-68F2AAD4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450-B5C4-4FB6-ADB5-92B864D3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0A7-BABC-4AA6-8468-0F127BE9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A51-138F-4235-9CB7-269DB28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DB3-3F81-4B8D-A43B-CC8EAF6F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EAD-3E8C-428D-9603-BA3D555A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E14-693F-4687-8B30-4B24131E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292-9B45-41CC-82BD-A250709D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4F19B1-90B5-478B-AA24-5AB13A03C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37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Jun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D32-C9D5-46FA-95D2-BB743CDE70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MA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compatible with the current 802.11 MAC including DCF and P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peer to peer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an error correction mechanis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overlapping BSS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Frequency Selection (DFS) per 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Power Control (TPC) per C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dynamic power use minim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redundancy of Point Coordin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increase in complexity, while meeting other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241-452A-450F-9A0F-29BBD00E8C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interactiv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able to support H.323, MPEG2, MPEG4, et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QoS definition should be higher layer agnos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 the indicates and requests of 802.3ac (VLANs), and add to it as appropriate for mobility and security and regulatory complianc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the Inter Access Point Protocol recommended practices being developed by 802.11 Task Group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terminal assisted handoff decisions (to insure media stream can be handled by new AP before disconnec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load balancing within the 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adhere to existing or upcoming IETF standa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TF and 802.1 QoS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30F-1027-40D5-9DC4-5E19743F7F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oS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multiple priorities and classes of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Class of Service three years in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QoS Streams and bursty data concur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“toll quality” voice, audio, and video strea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multiple simultaneous streams with differing priority and class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interactive data stre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dynamic bandwidth allocation and/or re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classes of service where acknowledgement is not mand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788-E583-4691-87A0-BBE4B5931F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oS Tax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45720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343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5257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6640" y="2971800"/>
            <a:ext cx="1439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affic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700000">
            <a:off x="3152880" y="2712960"/>
            <a:ext cx="11970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840" y="4440240"/>
            <a:ext cx="1599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D, CBR 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7960" y="5334120"/>
            <a:ext cx="1992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Rate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PEG4, VBR 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38720" y="1371600"/>
            <a:ext cx="25351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ic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700000">
            <a:off x="3748320" y="2497320"/>
            <a:ext cx="1681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d J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700000">
            <a:off x="4643640" y="2516040"/>
            <a:ext cx="1719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aranteed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700000">
            <a:off x="5240520" y="2376000"/>
            <a:ext cx="2050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700000">
            <a:off x="7043400" y="2786040"/>
            <a:ext cx="884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9160" y="3602160"/>
            <a:ext cx="1404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y / A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web, file, i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107-8246-4632-B29C-775C5DCED3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event unauthorized authentication or re-authentication with an AP as those terms are defined within the 802.11 spec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be able to prevent unauthorized access by unauthenticated peers over the l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for mutual authentication of STA and AP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authentication mechanisms must fit within the designated multi-media authentication and re-authentication time budge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framework should make no assumption whether peer authentication is machine or user authentication, as different organizations will establish different policies regarding who or what is authentic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Requirement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9CE-FA85-4F07-B913-0A7B40437D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Requirement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otect network traffic from eavesdropping to a reasonable level compatible with the state of the 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for authentication of the source of each packet, to prevent link hijacking or undetected insertion of rogue packets into the link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security to protect copyrighted media stream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eserve the security characteristics of content stre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event content stream the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532-B9DF-4A6D-AF9B-F93B77539B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Requirements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key distribution or derivation of per-link or per-session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strongly protect keys and passwords from recovery by eavesdrop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, Compatibility, and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provide a mechanism for extensibility to allow new algorithms to be supported without changing the standard. (reference document 00/065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roposal that allows for more than one algorithm must support negotiation to a common algorith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not compromise (i.e., break the security of) existing industry standard network user authentication methods and techniques used within the framework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coexist with existing industry standard network user authentication methods and techniques (e.g., RADIUS-based authentic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FF0-8A11-4857-B7FD-8A5DFABECA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Requirements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 must sca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, “self-managing” or “unmanaged” environments (etc., home, SOH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environments (e.g., office campuses, factor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environments (e.g., hotels, public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and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cause minimal computational expense consistent with meeting other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use public and/or standard algorithms to the greatest extent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minimize the number of mandatory cryptographic algorith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0BF-7507-4C9F-BCFB-82B738C1C5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15:04:56Z</dcterms:created>
  <dc:creator>Tim Godfrey</dc:creator>
  <dc:description/>
  <dc:language>en-US</dc:language>
  <cp:lastModifiedBy>Tim Godfrey</cp:lastModifiedBy>
  <cp:lastPrinted>1998-02-10T13:28:06Z</cp:lastPrinted>
  <dcterms:modified xsi:type="dcterms:W3CDTF">2000-06-08T03:57:31Z</dcterms:modified>
  <cp:revision>13</cp:revision>
  <dc:subject/>
  <dc:title>802.11 TGe Requirements</dc:title>
</cp:coreProperties>
</file>