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F6D-5F62-45AD-92D1-8B72C002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95E3-B64C-4D3E-8CC5-25D0D77D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3309-5133-4D4A-A964-38804E7B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BCDE-666E-4B44-A285-B0EE1F57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519-452E-4086-A7C9-84C56FAD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AD5-D710-40E7-B637-35DAF02E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4018-FA06-4F44-953D-29A02A23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8F3-FAB6-4500-9537-1FA05B93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2989-0F08-4BC2-9970-5B9647F3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F458-F619-415D-8651-B5197164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85DC-DD27-4070-ADE1-D11B9C03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14AB-18D0-4570-90E2-65D3E9CC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AB3C476-1BB9-499B-A713-57AA71786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nel Model Proposal for 802.11e MAC Simulations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ghyun Ch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s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rcliff Manor,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6C9-D08B-4CA0-8491-B3AD5C0847A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like to include the complicated PHY behavior for MAC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need to incorporate the PHY behavior for MAC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-free PHY assumption is too m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rror assumption does not reflect the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state Markov channel mod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accepted model for link layer eval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s the bursty error behavior of the wireless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30C5-6188-40CF-AF01-56C1DAB14F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wo-State Markov Model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bit error probabili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,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 good state)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,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 bad st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transition probabilities (or rates in se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,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,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= 1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,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,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,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= 1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,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ys in each state for an exponentially-distribute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38280" y="4114800"/>
          <a:ext cx="426744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42674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1B3-E657-4B4D-9272-18124213AF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wo Extreme Case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sty erro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,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,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kt 1 received in error / Pkt 2 received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erro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in Bad state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,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371600" y="2666880"/>
          <a:ext cx="625788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666880"/>
                    <a:ext cx="625788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51FA-0FCE-41F8-A06A-5EE389EDD7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Other Concern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nnel behavior determined for each transmitter-receiver pair due to location-dependent channel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at time t, channel (STA A, STA B) in bad state while channel (STA B, STA C) in goo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ssume that channels (STA A, STA B) and (STA B, STA C) are independent for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stic values of the proba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ask the folks working in PHY in 802.11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FCE-2C8E-41A1-B03A-1B64A2A6F0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4T19:59:52Z</dcterms:created>
  <dc:creator>Sunghyun Choi</dc:creator>
  <dc:description/>
  <dc:language>en-US</dc:language>
  <cp:lastModifiedBy>Harry R. Worstell</cp:lastModifiedBy>
  <cp:lastPrinted>1998-02-10T13:28:06Z</cp:lastPrinted>
  <dcterms:modified xsi:type="dcterms:W3CDTF">2000-07-19T20:34:28Z</dcterms:modified>
  <cp:revision>7</cp:revision>
  <dc:subject>Submission</dc:subject>
  <dc:title>Channel model for 802.11 MAC evaluation</dc:title>
</cp:coreProperties>
</file>