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1621-246B-41C4-AAF8-4F06EAF3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19CC-A463-47BE-AFA8-C2ABC4AF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E7E7-0BB8-4BA2-BD1B-9AFD03B4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B344-AE4A-4F0B-B94D-A572ADE9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77F-84A6-4C8B-BF54-382B7790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F9B-A3EE-4657-97F2-0D08AB45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2E00-F413-464C-A0C7-488C0596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49A-19E2-4A30-A8CF-BF989914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AAE4-646F-4DDA-A3B3-37C75DE4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AD0-B229-422C-AFE3-BBA2AB63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685-EB0B-450E-BB16-6B10BF65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7F2-AEFC-40A9-BAD4-60665018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s Research-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4176FB1-7AC6-4A4B-B837-B0801ED7C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Model Proposal v2.0 for 802.11e MAC Simulations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41144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ard Cervelló, Sunghyun Choi, and Daji Qi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s Research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rcliff Manor,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117-4E2F-4D85-8A17-8097D926CED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efinitions of 3 Region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gion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TA1 receives frames from STA2 correctly in most (?)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hysical and virtual sensing are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R (not SIR) &gt; 15dB for .11b 11Mb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gion 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TA senses STA3, i.e., channel “busy”, but cannot receive frames correctly in most (?)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hysical sensing i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gion I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TA1 cannot sense STA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A “idle” during STA4’s trans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AF6-4B5D-4669-B75C-9ED53C4C291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or Simulation Purpose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eterministic model for si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-channel interference, then with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bability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f the sending STA i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gion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correct frame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gion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channel “busy” but no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gion I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channel “id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Staircase (or on/off) BER cu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i of two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 (of outer circle) is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 (of inner circle) depends on PHY 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7E3-9444-4623-88B2-23D31E2FA9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IR-Driven Frame Recep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frames from STA2 to be correctly received by STA1, two conditions nee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&lt; R1, i.e., STA2 should be in region I of STA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’ 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termined based on S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im’s paper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 in case of .11b 11Mb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371600" y="3657600"/>
          <a:ext cx="7032600" cy="34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657600"/>
                    <a:ext cx="703260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F1A-A93B-443A-A98A-405FA92423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Implementation Sugges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model may be implement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ble some stages in the original pipeli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odify certain stage in the pipeline to handle the distance issue and calculate the S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stance tables/external files are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OPNET provides a TDA symbolic constant “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PC_TDA_RA_START_D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, and by using it as the parameter,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rnel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op_td_get_dbl” will return the distance between two 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9B3-0B7F-4469-AAAE-6B5FC855AD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rther Possibilitie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dn’t consider these since they are not essential currently, but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introduce continuous BER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staircase BER curves in our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what are the reasonable curves for each PHY 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666880" y="4114800"/>
          <a:ext cx="4572000" cy="25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114800"/>
                    <a:ext cx="457200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E3C4-BBC4-4BEE-97EA-372BE34740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rther Possibilities (cont.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introduce a Markov channel model for our Region I to capture the fading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channel is in the bad state, the frame reception may fail even if the two conditions are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since we are not working on the user mobility currently, is it wor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626-CBA8-4D5F-BD30-04D015EF5F3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pen Question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1 (radius of Region I) is determined based on PHY data rate, but h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al with multiple interfering ST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dominated by the closest interfering S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im: 15dB is the desirable SIR for proper .11b 11Mbps operation, how to get this value of 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D9ED-E90A-4088-AC5A-28A1180D10B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/comments recap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hannel model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R-based channel sens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R-driven frame recep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suggestion in OP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question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8C5-BBDD-493C-A829-E2EB62BDAD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Assumption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As transmitting frames at the same power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terested in user mo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evaluate FEC schemes in the MAC sim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C performance depends on error bit positions from PHY, which cannot be modeled realis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not interested in number/positions of the bit errors; only frame error or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593-E5EB-4325-8048-609D62245C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ecap Wim’s Idea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-level error performance is not needed for MAC mod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network is interference-bounded instead of noise-bou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fading could be modeled by adding a normal distribution fading component to every signal path calculation, which is not difficult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095-B4EA-4ED6-8BAD-4E7B8A9011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ecap Wim’s Ideas (Cont.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ality, error probability will increase over an SIR range, but a hard limit approach is probably adequate for our purpose, although doing so will hardly impact simulation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29C-DE12-4122-AB8C-09F5B78528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ecap Matt’s Email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st an extra channel model in the M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R/CIR based model might be overk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st symbol/bit based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model is only a small percentage of the total proces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cl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odel only a few BSSs using the SNR/CIR based model, and model the traffic from other BSSs probabilis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25F-F657-49B9-8E01-CEA2173ECD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ecap Raju’s Sugges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ng a new channe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rame is decided to be received or not  based on SIR and collision stat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s within the frame are based on the Markov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in the 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R model” stage performs the SIR che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 model” stage performs the Markov model, and errors/locations are read from external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F79D-F66D-4774-9712-9AD9297AAF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New Channel Model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not Markov chain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ov chain model is good for fading effects,   not for interference ef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terested in simulation of mobility, which results in fading in most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key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R-based channel sen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ing attenuation and background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R-driven frame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ing co-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7FA-A292-42D2-AEE2-FFB6D6DEA62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Sensing Model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vised 3-reg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28800" y="2192400"/>
          <a:ext cx="548640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192400"/>
                    <a:ext cx="548640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AB13-DE21-4F6A-9DF5-D74494B0F1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4T19:59:52Z</dcterms:created>
  <dc:creator>Sunghyun Choi</dc:creator>
  <dc:description/>
  <dc:language>en-US</dc:language>
  <cp:lastModifiedBy>Harry R. Worstell</cp:lastModifiedBy>
  <cp:lastPrinted>2000-06-24T19:53:15Z</cp:lastPrinted>
  <dcterms:modified xsi:type="dcterms:W3CDTF">2000-06-30T02:35:52Z</dcterms:modified>
  <cp:revision>42</cp:revision>
  <dc:subject/>
  <dc:title>No Slide Title</dc:title>
</cp:coreProperties>
</file>