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B5D-DBCD-4062-BD53-AD08C2E6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BAA-993D-4195-AEA6-570217AD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248-1E54-4A88-944F-96F2CE5A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7A0-7C59-418D-A609-E7E1DCC5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AF7-F0C5-4C02-8ACC-79C54FEC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8BD-3C92-4B55-BD99-86ACFC85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3F7-2DF7-48AE-BDE3-FD3F43D5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A30-79D9-4DDA-9718-110D5DE6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0B4-4DB3-4978-99D1-476B248C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91A-832E-4B75-A728-A57E0EE1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F49-D572-48D9-9E02-6A4ED892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CE5-9581-4FFE-903E-931B8410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et al, 3Com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78D492-55D0-4537-8C10-8FB8C83F3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63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6160" y="6446880"/>
            <a:ext cx="216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al for Extensible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ndards.ieee.org/regauth/oui/index.shtml" TargetMode="External"/><Relationship Id="rId2" Type="http://schemas.openxmlformats.org/officeDocument/2006/relationships/hyperlink" Target="http://standards.ieee.org/regauth/ethertype/index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for 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ing for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ert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Ness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fu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end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3comlogo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2343240" cy="140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AB0-78B1-4365-8D91-A957BD998D4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its of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 can adapt quickly to changes in the security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does not need to be changed for this reason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can select the “correct”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both competition and interoperability within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5EF-D282-48C9-920C-4392F2D5FC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s the negotiation before authentication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uthentication frame stay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algorithm number for extensibl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basic format of Authenticatio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information element to second and third authentication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independence of choice for all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ignificantly greater identifie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values are assigned independently to each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DC7-A684-4751-9B52-9C297DB461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 the text in document 00/163 to define the Extensible Security algorithm, frame exchanges and Security Negotiation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registra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nt must have an IEEE-assigned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algorithm and handshake protocol details must be provided, including external referenc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xchange for providing registration services, IEEE gets right to publish details (preferably on web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a pointer to the registration web site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962-B402-42EF-9B5A-89DD02DF84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ratio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registration process that allows anyone to petition the IEEE for a new value to be used in thi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the same as the process used for OUI and Ethertype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standards.ieee.org/regauth/oui/index.s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standards.ieee.org/regauth/ethertype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full disclosure of information to enable multi-vend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8BD-9858-412C-BC2B-A8006EA324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roposal to IEEE Registration Authority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o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hould it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pecial procedures are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RAC meeting is at this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IEEE staff to implement the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3D8-18CF-4536-984A-F993F0CBBB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one (or no more than two) algorithms for each algorith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the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the registration information (OUI and algorithm number) in th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that the selected algorithms be implemented if the negotiated security option is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vides an immediate base f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690-F814-4D9A-A075-850EF1DA10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To Be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lgorithms to be included in the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PICS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MIB stuff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DF0-3009-424F-A49E-B963464108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e for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 a mechanism based on negotiation, rather than fixed requirements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ongoing adaptability and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processes that encourage/enforce exchang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ne (or two) starting points using the new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F32-CA99-44C6-9C4A-10FDAACF74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enhancement of security for 802.11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rames exchanged during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edes actual authentication, but is part of authentication frame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fails unless successful security negotiation i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A47-D6B9-4FB3-8A27-4983E69685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on 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1 (requester to respo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as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for authentication (algorithm =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2 (responder to reque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as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acceptabl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3 (requester to respo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accepted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D15-5D6C-487F-8FEB-77B000115B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ity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60A-FEA6-4313-A886-0A7C8E9699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Negotiation Information E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828800"/>
            <a:ext cx="7313040" cy="4579920"/>
            <a:chOff x="990720" y="1828800"/>
            <a:chExt cx="7313040" cy="4579920"/>
          </a:xfrm>
        </p:grpSpPr>
        <p:grpSp>
          <p:nvGrpSpPr>
            <p:cNvPr id="58" name=""/>
            <p:cNvGrpSpPr/>
            <p:nvPr/>
          </p:nvGrpSpPr>
          <p:grpSpPr>
            <a:xfrm>
              <a:off x="999360" y="1830600"/>
              <a:ext cx="7294320" cy="4575960"/>
              <a:chOff x="999360" y="1830600"/>
              <a:chExt cx="7294320" cy="457596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999360" y="1830600"/>
                <a:ext cx="3646800" cy="254160"/>
                <a:chOff x="999360" y="1830600"/>
                <a:chExt cx="3646800" cy="2541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126080" y="18306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 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999360" y="18306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646520" y="1830600"/>
                <a:ext cx="3646800" cy="254160"/>
                <a:chOff x="4646520" y="1830600"/>
                <a:chExt cx="3646800" cy="2541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773240" y="18306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ngt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646520" y="18306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999360" y="2084760"/>
                <a:ext cx="7294320" cy="254160"/>
                <a:chOff x="999360" y="2084760"/>
                <a:chExt cx="7294320" cy="2541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126080" y="208476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y Validity Perio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99360" y="208476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999360" y="2338920"/>
                <a:ext cx="3646800" cy="254160"/>
                <a:chOff x="999360" y="2338920"/>
                <a:chExt cx="3646800" cy="2541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126080" y="2338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999360" y="2338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4646520" y="2338920"/>
                <a:ext cx="3646800" cy="254160"/>
                <a:chOff x="4646520" y="2338920"/>
                <a:chExt cx="3646800" cy="2541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4773240" y="2338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646520" y="2338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999360" y="2593080"/>
                <a:ext cx="3646800" cy="254160"/>
                <a:chOff x="999360" y="2593080"/>
                <a:chExt cx="3646800" cy="2541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126080" y="2593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999360" y="2593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4646520" y="2593080"/>
                <a:ext cx="3646800" cy="254160"/>
                <a:chOff x="4646520" y="2593080"/>
                <a:chExt cx="3646800" cy="2541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4773240" y="2593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46520" y="2593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999360" y="2847240"/>
                <a:ext cx="7294320" cy="254160"/>
                <a:chOff x="999360" y="2847240"/>
                <a:chExt cx="7294320" cy="2541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126080" y="284724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thentic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999360" y="284724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999360" y="3101760"/>
                <a:ext cx="3646800" cy="254160"/>
                <a:chOff x="999360" y="3101760"/>
                <a:chExt cx="3646800" cy="2541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126080" y="31017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99360" y="31017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46520" y="3101760"/>
                <a:ext cx="3646800" cy="254160"/>
                <a:chOff x="4646520" y="3101760"/>
                <a:chExt cx="3646800" cy="2541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773240" y="31017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46520" y="31017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999360" y="3355920"/>
                <a:ext cx="3646800" cy="254160"/>
                <a:chOff x="999360" y="3355920"/>
                <a:chExt cx="3646800" cy="2541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126080" y="3355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999360" y="3355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46520" y="3355920"/>
                <a:ext cx="3646800" cy="254160"/>
                <a:chOff x="4646520" y="3355920"/>
                <a:chExt cx="3646800" cy="2541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773240" y="3355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46520" y="3355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999360" y="3610080"/>
                <a:ext cx="7294320" cy="254160"/>
                <a:chOff x="999360" y="3610080"/>
                <a:chExt cx="7294320" cy="2541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126080" y="361008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vacy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999360" y="361008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999360" y="3864240"/>
                <a:ext cx="3646800" cy="254160"/>
                <a:chOff x="999360" y="3864240"/>
                <a:chExt cx="3646800" cy="2541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26080" y="3864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999360" y="3864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646520" y="3864240"/>
                <a:ext cx="3646800" cy="254160"/>
                <a:chOff x="4646520" y="3864240"/>
                <a:chExt cx="3646800" cy="254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773240" y="3864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646520" y="3864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999360" y="4118400"/>
                <a:ext cx="3646800" cy="254160"/>
                <a:chOff x="999360" y="4118400"/>
                <a:chExt cx="3646800" cy="254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126080" y="41184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999360" y="41184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46520" y="4118400"/>
                <a:ext cx="3646800" cy="254160"/>
                <a:chOff x="4646520" y="4118400"/>
                <a:chExt cx="3646800" cy="254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773240" y="41184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46520" y="41184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999360" y="4372560"/>
                <a:ext cx="7294320" cy="254160"/>
                <a:chOff x="999360" y="4372560"/>
                <a:chExt cx="7294320" cy="254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126080" y="437256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y Establishment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99360" y="437256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999360" y="4627080"/>
                <a:ext cx="3646800" cy="254160"/>
                <a:chOff x="999360" y="4627080"/>
                <a:chExt cx="3646800" cy="254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126080" y="4627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9360" y="4627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46520" y="4627080"/>
                <a:ext cx="3646800" cy="254160"/>
                <a:chOff x="4646520" y="4627080"/>
                <a:chExt cx="3646800" cy="254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773240" y="4627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46520" y="4627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999360" y="4881240"/>
                <a:ext cx="3646800" cy="254160"/>
                <a:chOff x="999360" y="4881240"/>
                <a:chExt cx="3646800" cy="254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126080" y="4881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99360" y="4881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46520" y="4881240"/>
                <a:ext cx="3646800" cy="254160"/>
                <a:chOff x="4646520" y="4881240"/>
                <a:chExt cx="3646800" cy="254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773240" y="4881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646520" y="4881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999360" y="5135400"/>
                <a:ext cx="7294320" cy="254160"/>
                <a:chOff x="999360" y="5135400"/>
                <a:chExt cx="7294320" cy="254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126080" y="513540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essage Authentic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9360" y="513540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99360" y="5389560"/>
                <a:ext cx="3646800" cy="254160"/>
                <a:chOff x="999360" y="5389560"/>
                <a:chExt cx="3646800" cy="254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126080" y="53895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9360" y="53895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646520" y="5389560"/>
                <a:ext cx="3646800" cy="254160"/>
                <a:chOff x="4646520" y="5389560"/>
                <a:chExt cx="3646800" cy="254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773240" y="53895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646520" y="53895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999360" y="5643720"/>
                <a:ext cx="3646800" cy="254160"/>
                <a:chOff x="999360" y="5643720"/>
                <a:chExt cx="3646800" cy="2541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126080" y="56437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999360" y="56437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646520" y="5643720"/>
                <a:ext cx="3646800" cy="254160"/>
                <a:chOff x="4646520" y="5643720"/>
                <a:chExt cx="3646800" cy="2541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773240" y="56437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646520" y="56437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999360" y="5898240"/>
                <a:ext cx="7294320" cy="254160"/>
                <a:chOff x="999360" y="5898240"/>
                <a:chExt cx="7294320" cy="254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126080" y="589824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b-key Deriv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99360" y="589824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999360" y="6152400"/>
                <a:ext cx="7294320" cy="254160"/>
                <a:chOff x="999360" y="6152400"/>
                <a:chExt cx="7294320" cy="254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126080" y="615240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…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99360" y="615240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990720" y="1828800"/>
              <a:ext cx="7313040" cy="457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878-5BF2-475F-895C-1B563F82E1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tor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7: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6: Depre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5: 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4: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3: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2: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1: Message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0: Sub-key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B5D-7AA6-4E1E-BCAE-EC078D9E5F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Element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 se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acceptable key validity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cceptable algorithms, at least one of each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mark algorithms “preferred” and “depre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r s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validity period no greater than that sent by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accepted algorithms, only one of each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D77-2BAA-477F-B9C1-2D218567E2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r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step of the negotiation, success or failure is indicated in the status cod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s in current authentic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 can refuse to use negotiated security in 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 can refuse the offered algorithms in frame 3 (if one or more of the algorithm types does not have an acceptable cho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 can refuse requester’s choices in the first frame of the subsequent authentication handshake (fram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F4B-2760-4777-8FC9-2287C69B09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7-10T23:05:19Z</dcterms:modified>
  <cp:revision>53</cp:revision>
  <dc:subject/>
  <dc:title>00/163a Proposal for Extensible Security</dc:title>
</cp:coreProperties>
</file>